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96F6E-B5D9-4EB1-9CCA-6F0C9AE0EAD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172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175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  <a:ea typeface="Arial"/>
              </a:rPr>
              <a:t>Übertragungswe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in der Zahnarzt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2560" y="3122640"/>
            <a:ext cx="846144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rekter Konta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Blut, Speichel oder an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tenziel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ösen Sekr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pritz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Blut, Speichel, Sekreten aus Nase und Rachen auf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akte oder verletzte Haut oder Schleim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2560" y="4713120"/>
            <a:ext cx="84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Indirekte Übertrag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.B. über kontaminierte Instrumente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technische Materialien, Werkstücke oder Hä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4360" y="1979640"/>
            <a:ext cx="84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eroso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it kontaminiertem Wasser aus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andlungseinheiten bzw. aus dem Mundraum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</a:t>
            </a: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Dentaler Spraynebel-Rückp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4" descr=""/>
          <p:cNvPicPr/>
          <p:nvPr/>
        </p:nvPicPr>
        <p:blipFill>
          <a:blip r:embed="rId1"/>
          <a:stretch/>
        </p:blipFill>
        <p:spPr>
          <a:xfrm>
            <a:off x="7559640" y="1682640"/>
            <a:ext cx="101592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1139760" y="1987560"/>
            <a:ext cx="314964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Betriebsan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433760" y="1979640"/>
            <a:ext cx="4140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bereich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offb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halten bei 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433760" y="51181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 (Doku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207120" y="425448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6" descr=""/>
          <p:cNvPicPr/>
          <p:nvPr/>
        </p:nvPicPr>
        <p:blipFill>
          <a:blip r:embed="rId2"/>
          <a:stretch/>
        </p:blipFill>
        <p:spPr>
          <a:xfrm>
            <a:off x="754704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88" name="Grafik 1" descr=""/>
          <p:cNvPicPr/>
          <p:nvPr/>
        </p:nvPicPr>
        <p:blipFill>
          <a:blip r:embed="rId3"/>
          <a:stretch/>
        </p:blipFill>
        <p:spPr>
          <a:xfrm>
            <a:off x="4433760" y="6307200"/>
            <a:ext cx="25416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Behandlungs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661000" y="2160720"/>
            <a:ext cx="309240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92" name="Textfeld 3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auf der LZK-Webse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2"/>
          <p:cNvGrpSpPr/>
          <p:nvPr/>
        </p:nvGrpSpPr>
        <p:grpSpPr>
          <a:xfrm>
            <a:off x="655560" y="1628640"/>
            <a:ext cx="8388360" cy="4967280"/>
            <a:chOff x="655560" y="1628640"/>
            <a:chExt cx="8388360" cy="4967280"/>
          </a:xfrm>
        </p:grpSpPr>
        <p:pic>
          <p:nvPicPr>
            <p:cNvPr id="195" name="Rechteck 3" descr=""/>
            <p:cNvPicPr/>
            <p:nvPr/>
          </p:nvPicPr>
          <p:blipFill>
            <a:blip r:embed="rId1"/>
            <a:stretch/>
          </p:blipFill>
          <p:spPr>
            <a:xfrm>
              <a:off x="1115280" y="1628640"/>
              <a:ext cx="7473960" cy="70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Gruppieren 4"/>
            <p:cNvGrpSpPr/>
            <p:nvPr/>
          </p:nvGrpSpPr>
          <p:grpSpPr>
            <a:xfrm>
              <a:off x="655560" y="2456280"/>
              <a:ext cx="8388360" cy="4139640"/>
              <a:chOff x="655560" y="2456280"/>
              <a:chExt cx="8388360" cy="4139640"/>
            </a:xfrm>
          </p:grpSpPr>
          <p:pic>
            <p:nvPicPr>
              <p:cNvPr id="197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456280"/>
                <a:ext cx="2913120" cy="4139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198" name="Gruppieren 6"/>
              <p:cNvGrpSpPr/>
              <p:nvPr/>
            </p:nvGrpSpPr>
            <p:grpSpPr>
              <a:xfrm>
                <a:off x="655560" y="3190680"/>
                <a:ext cx="5399640" cy="2440800"/>
                <a:chOff x="655560" y="3190680"/>
                <a:chExt cx="5399640" cy="2440800"/>
              </a:xfrm>
            </p:grpSpPr>
            <p:pic>
              <p:nvPicPr>
                <p:cNvPr id="199" name="Grafik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5560" y="319068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200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5560" y="3641760"/>
                  <a:ext cx="5399640" cy="19897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201" name="Textfeld 3"/>
          <p:cNvSpPr/>
          <p:nvPr/>
        </p:nvSpPr>
        <p:spPr>
          <a:xfrm>
            <a:off x="1660680" y="629280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Bio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4065480" y="2133720"/>
            <a:ext cx="426420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Rechteck 5"/>
          <p:cNvSpPr/>
          <p:nvPr/>
        </p:nvSpPr>
        <p:spPr>
          <a:xfrm>
            <a:off x="4065480" y="33289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6" descr=""/>
          <p:cNvPicPr/>
          <p:nvPr/>
        </p:nvPicPr>
        <p:blipFill>
          <a:blip r:embed="rId2"/>
          <a:stretch/>
        </p:blipFill>
        <p:spPr>
          <a:xfrm>
            <a:off x="888840" y="2160720"/>
            <a:ext cx="2926080" cy="46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Grafik 7" descr=""/>
          <p:cNvPicPr/>
          <p:nvPr/>
        </p:nvPicPr>
        <p:blipFill>
          <a:blip r:embed="rId3"/>
          <a:stretch/>
        </p:blipFill>
        <p:spPr>
          <a:xfrm>
            <a:off x="4065480" y="3871800"/>
            <a:ext cx="40719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o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Tätig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trag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Behandlungs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4464000" y="1692360"/>
            <a:ext cx="33926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Grafik 6" descr=""/>
          <p:cNvPicPr/>
          <p:nvPr/>
        </p:nvPicPr>
        <p:blipFill>
          <a:blip r:embed="rId2"/>
          <a:stretch/>
        </p:blipFill>
        <p:spPr>
          <a:xfrm>
            <a:off x="7945560" y="6191280"/>
            <a:ext cx="539640" cy="5414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1"/>
          <p:cNvSpPr/>
          <p:nvPr/>
        </p:nvSpPr>
        <p:spPr>
          <a:xfrm>
            <a:off x="1116000" y="50292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2" descr=""/>
          <p:cNvPicPr/>
          <p:nvPr/>
        </p:nvPicPr>
        <p:blipFill>
          <a:blip r:embed="rId3"/>
          <a:stretch/>
        </p:blipFill>
        <p:spPr>
          <a:xfrm>
            <a:off x="1800360" y="3462480"/>
            <a:ext cx="1800000" cy="15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verordnung (BioStoff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967200" y="2351160"/>
            <a:ext cx="50036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gruppen für 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zielte und nicht geziel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medizinische Vors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1" descr="BioStoffV.pdf - Adobe Reader"/>
          <p:cNvPicPr/>
          <p:nvPr/>
        </p:nvPicPr>
        <p:blipFill>
          <a:blip r:embed="rId1"/>
          <a:srcRect l="33959" t="8943" r="32292" b="2258"/>
          <a:stretch/>
        </p:blipFill>
        <p:spPr>
          <a:xfrm>
            <a:off x="795240" y="2205000"/>
            <a:ext cx="30099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1978200"/>
            <a:ext cx="845964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kroorganismen, Zellkulturen und Endoparasiten, die be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nschen Infektionen oder sensibilisierende bzw. toxisc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Wirkungen hervorruf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ögliche Infektions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Bakte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i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Einzeller / Paras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r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werden entsprechend dem von ihnen ausgehend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Infektionsrisiko i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4 Risikogrupp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ngete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Risiko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978200"/>
            <a:ext cx="8459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Blut übertragbare Erreger in der Zahnheilkund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B-Viren (HB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**: Keine Luftweg-Übertragung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C-Viren (HC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IV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direkten oder indirek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akt übertragene 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Herpes-simplex-Vir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Staphylokokk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Tröpfchen übertragen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ycobakterium tuberculosis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" descr="Schutzmassnahmen_MRSA-Patienten.pdf - Adobe Acrobat Reader DC"/>
          <p:cNvPicPr/>
          <p:nvPr/>
        </p:nvPicPr>
        <p:blipFill>
          <a:blip r:embed="rId1"/>
          <a:srcRect l="25567" t="12475" r="41605" b="1657"/>
          <a:stretch/>
        </p:blipFill>
        <p:spPr>
          <a:xfrm>
            <a:off x="6391440" y="2768760"/>
            <a:ext cx="2700000" cy="38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2"/>
          <a:stretch/>
        </p:blipFill>
        <p:spPr>
          <a:xfrm>
            <a:off x="5400720" y="572148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56" name="Rechteck 4" descr=""/>
          <p:cNvPicPr/>
          <p:nvPr/>
        </p:nvPicPr>
        <p:blipFill>
          <a:blip r:embed="rId3"/>
          <a:stretch/>
        </p:blipFill>
        <p:spPr>
          <a:xfrm>
            <a:off x="5400720" y="3962520"/>
            <a:ext cx="359712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978200"/>
            <a:ext cx="84596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ätigkeiten in einer Zahnarztpraxis sind grundsätzlich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gezielte Tätigkeiten der Risikogruppe 2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estu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zu gehört auch die Behandlung von HIV- oder HBV-infizier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Es sei denn, es wird mit starkem Verspritzen ge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der Risikogruppe leitet sich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stufe mit d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ntsprechenden 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" descr=""/>
          <p:cNvPicPr/>
          <p:nvPr/>
        </p:nvPicPr>
        <p:blipFill>
          <a:blip r:embed="rId1"/>
          <a:stretch/>
        </p:blipFill>
        <p:spPr>
          <a:xfrm>
            <a:off x="5743440" y="674640"/>
            <a:ext cx="2880000" cy="12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6"/>
          <p:cNvSpPr/>
          <p:nvPr/>
        </p:nvSpPr>
        <p:spPr>
          <a:xfrm>
            <a:off x="6367320" y="56149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419880" y="503712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rankenhau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382760" y="5594400"/>
            <a:ext cx="33559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icht 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908000" y="5040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826920" y="4897440"/>
            <a:ext cx="4392720" cy="139536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5435640" y="5324400"/>
            <a:ext cx="1008000" cy="540000"/>
          </a:xfrm>
          <a:prstGeom prst="leftRightArrow">
            <a:avLst>
              <a:gd name="adj1" fmla="val 50000"/>
              <a:gd name="adj2" fmla="val 40047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4:59Z</dcterms:modified>
  <cp:revision>18</cp:revision>
  <dc:subject/>
  <dc:title/>
</cp:coreProperties>
</file>