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0FA78-F2C3-47C5-A1C8-8ADCC3CE1FA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chutz &amp; Unfallverhü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Grafik 4" descr=""/>
          <p:cNvPicPr/>
          <p:nvPr/>
        </p:nvPicPr>
        <p:blipFill>
          <a:blip r:embed="rId1"/>
          <a:stretch/>
        </p:blipFill>
        <p:spPr>
          <a:xfrm>
            <a:off x="4643280" y="1619280"/>
            <a:ext cx="4380120" cy="32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Grafik 1" descr="Unterweisungserklaerung [Kompatibilitätsmodus] - Microsoft Word"/>
          <p:cNvPicPr/>
          <p:nvPr/>
        </p:nvPicPr>
        <p:blipFill>
          <a:blip r:embed="rId2"/>
          <a:srcRect l="8303" t="4842" r="59528" b="3725"/>
          <a:stretch/>
        </p:blipFill>
        <p:spPr>
          <a:xfrm>
            <a:off x="809640" y="1535040"/>
            <a:ext cx="342108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809640" y="4903920"/>
            <a:ext cx="3419640" cy="1042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633920" y="5021280"/>
            <a:ext cx="440208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weisungsmodule: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ateien im *.pdf und *.ppt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11" descr=""/>
          <p:cNvPicPr/>
          <p:nvPr/>
        </p:nvPicPr>
        <p:blipFill>
          <a:blip r:embed="rId3"/>
          <a:stretch/>
        </p:blipFill>
        <p:spPr>
          <a:xfrm>
            <a:off x="8408880" y="5850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84360" y="971640"/>
            <a:ext cx="84596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ersonenbezogene Festl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" descr="Unterweisungserklaerung [Kompatibilitätsmodus] - Microsoft Word"/>
          <p:cNvPicPr/>
          <p:nvPr/>
        </p:nvPicPr>
        <p:blipFill>
          <a:blip r:embed="rId1"/>
          <a:srcRect l="14433" t="19128" r="13869" b="4008"/>
          <a:stretch/>
        </p:blipFill>
        <p:spPr>
          <a:xfrm>
            <a:off x="973080" y="2224080"/>
            <a:ext cx="719784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Grafik 11" descr=""/>
          <p:cNvPicPr/>
          <p:nvPr/>
        </p:nvPicPr>
        <p:blipFill>
          <a:blip r:embed="rId2"/>
          <a:stretch/>
        </p:blipFill>
        <p:spPr>
          <a:xfrm>
            <a:off x="8427960" y="58071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86" name="Grafik 2" descr=""/>
          <p:cNvPicPr/>
          <p:nvPr/>
        </p:nvPicPr>
        <p:blipFill>
          <a:blip r:embed="rId3"/>
          <a:stretch/>
        </p:blipFill>
        <p:spPr>
          <a:xfrm>
            <a:off x="5027760" y="6505560"/>
            <a:ext cx="336060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Grafik 1" descr=""/>
          <p:cNvPicPr/>
          <p:nvPr/>
        </p:nvPicPr>
        <p:blipFill>
          <a:blip r:embed="rId1"/>
          <a:stretch/>
        </p:blipFill>
        <p:spPr>
          <a:xfrm>
            <a:off x="4751280" y="3016080"/>
            <a:ext cx="425448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Text Box 3"/>
          <p:cNvSpPr/>
          <p:nvPr/>
        </p:nvSpPr>
        <p:spPr>
          <a:xfrm>
            <a:off x="684360" y="1127160"/>
            <a:ext cx="84596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für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Unterweisun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steht die folgende Checkliste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"/>
          <p:cNvPicPr/>
          <p:nvPr/>
        </p:nvPicPr>
        <p:blipFill>
          <a:blip r:embed="rId2"/>
          <a:stretch/>
        </p:blipFill>
        <p:spPr>
          <a:xfrm>
            <a:off x="685800" y="1924200"/>
            <a:ext cx="421164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Rechteck 9"/>
          <p:cNvSpPr/>
          <p:nvPr/>
        </p:nvSpPr>
        <p:spPr>
          <a:xfrm>
            <a:off x="684360" y="310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215892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einer Praxis haben alle der Arbeitssicherh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enden Maßnahmen zu unterstützen und sind verpflichtet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der Praxisinhaberin/des Praxisinhabers zum Zweck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Unfallverhütung zu befolgen, es sei denn, es handelt sich 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, die offensichtlich unbegründ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zur Verfügung gestellte persönliche Schutzausrüst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haben Einrichtungen, Arbeitsmittel und Arbeitsstoff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ie Schutzvorrichtungen bestimmungsgemäß und im Rah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hnen übertragenen Arbeitsaufgaben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684360" y="215892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haben der Praxisinhaberin/dem Praxisinha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 von ihnen festgestellte unmittelbare erhebliche Gefahr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cherheit und Gesundheit sowie jeden an den Schutzvo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chtungen und Schutzsystemen festgestellten Defe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verzüglich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sicherten haben die Maßnahmen zur Verhüt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sowie für eine wirksame Erste Hilf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en. Versicherte haben die entsprech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des Unternehmers zu befolgen. Die Versicher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ürfen erkennbar gegen Sicherheit und Gesundheit gerichte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nicht be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84360" y="2158920"/>
            <a:ext cx="84596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dürfen sich durch den Konsum von Alkohol, Dro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nderen berauschenden Mitteln (inkl. Medikamente) nich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n Zu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etzen, durch den sie sich selbst oder and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Verhalten bei Arbeitsunfällen und Notfallsituationen ist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en und die Erste-Hilfe-Organisation in der Praxis is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 bekannt zu m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Beschäftigten ist die Bedeutung von Sicherheit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schutzkennzeichnung in der Praxis zu erläu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84360" y="21589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ein Beschäftigter fest, dass im Hinblick auf die Verhü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ein Arbeitsmittel oder eine sonst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n Mangel aufweist, Arbeitsstoffe nicht einwa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 verpackt, gekennzeichnet oder beschaffen sind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erfahren oder Arbeitsabläufe Mängel aufweisen hat er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eit dies zu seiner Arbeitsaufgabe gehört und er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 Befähigung verfügt, den festgestellten Mangel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potenzial unverzüglich zu beseitigen. Andernfalls ha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 den Mangel dem Praxisinhaber unverzüglic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4360" y="2158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den einzelnen Unfallverhütungsvorschriften enthalte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nahmen sind zu beachten und einzu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6200" y="32385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Unfallverhütungsvorschriften sind im Kapitel „1.6 Unfall-verhütungsvorschriften und Technische Regeln“ über die Schaltfläche „1. Gesetze und Rechtliche Grundlagen“ im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-Handbuch in ihrem Wortlaut nachzu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7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68444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sätze des Arbeitsschutzes und der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schutz und Unfallverhü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981080" y="1897200"/>
            <a:ext cx="5399280" cy="491652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3" descr=""/>
          <p:cNvPicPr/>
          <p:nvPr/>
        </p:nvPicPr>
        <p:blipFill>
          <a:blip r:embed="rId2"/>
          <a:srcRect l="5221" t="5582" r="288" b="0"/>
          <a:stretch/>
        </p:blipFill>
        <p:spPr>
          <a:xfrm>
            <a:off x="4370400" y="5261040"/>
            <a:ext cx="3774960" cy="14540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44" name="Textfeld 3"/>
          <p:cNvSpPr/>
          <p:nvPr/>
        </p:nvSpPr>
        <p:spPr>
          <a:xfrm>
            <a:off x="1971720" y="58626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n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1"/>
          <a:stretch/>
        </p:blipFill>
        <p:spPr>
          <a:xfrm>
            <a:off x="3002040" y="1584360"/>
            <a:ext cx="369396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Textfeld 3"/>
          <p:cNvSpPr/>
          <p:nvPr/>
        </p:nvSpPr>
        <p:spPr>
          <a:xfrm>
            <a:off x="6705720" y="646596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Unterweisen im Betrieb - ein Leitfade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feld 1"/>
          <p:cNvSpPr/>
          <p:nvPr/>
        </p:nvSpPr>
        <p:spPr>
          <a:xfrm>
            <a:off x="684360" y="1573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3"/>
          <p:cNvSpPr/>
          <p:nvPr/>
        </p:nvSpPr>
        <p:spPr>
          <a:xfrm>
            <a:off x="708120" y="4652640"/>
            <a:ext cx="249228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Arbeitsauf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4"/>
          <p:cNvSpPr/>
          <p:nvPr/>
        </p:nvSpPr>
        <p:spPr>
          <a:xfrm rot="5400000">
            <a:off x="1740600" y="4112280"/>
            <a:ext cx="431640" cy="2808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5"/>
          <p:cNvSpPr/>
          <p:nvPr/>
        </p:nvSpPr>
        <p:spPr>
          <a:xfrm>
            <a:off x="3568680" y="4532400"/>
            <a:ext cx="2592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i wesentlichen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6"/>
          <p:cNvSpPr/>
          <p:nvPr/>
        </p:nvSpPr>
        <p:spPr>
          <a:xfrm>
            <a:off x="6377040" y="4532400"/>
            <a:ext cx="249228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gelmäßig einma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1"/>
          <p:cNvSpPr/>
          <p:nvPr/>
        </p:nvSpPr>
        <p:spPr>
          <a:xfrm rot="5400000">
            <a:off x="4557240" y="57463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4"/>
          <p:cNvSpPr/>
          <p:nvPr/>
        </p:nvSpPr>
        <p:spPr>
          <a:xfrm>
            <a:off x="870120" y="52275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st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20"/>
          <p:cNvSpPr/>
          <p:nvPr/>
        </p:nvSpPr>
        <p:spPr>
          <a:xfrm>
            <a:off x="3565440" y="51195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ues Arbeitsverfahren, neue Geräte, neue Regelwerke, …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6"/>
          <p:cNvSpPr/>
          <p:nvPr/>
        </p:nvSpPr>
        <p:spPr>
          <a:xfrm>
            <a:off x="6367320" y="51134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sicht: Jugendliche zwischen 15-17 Jahren: halbjähr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7"/>
          <p:cNvSpPr/>
          <p:nvPr/>
        </p:nvSpPr>
        <p:spPr>
          <a:xfrm>
            <a:off x="684360" y="2608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Wer darf die Unterweisungen durchfü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9"/>
          <p:cNvSpPr/>
          <p:nvPr/>
        </p:nvSpPr>
        <p:spPr>
          <a:xfrm rot="5400000">
            <a:off x="4600080" y="2125440"/>
            <a:ext cx="503280" cy="328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30"/>
          <p:cNvSpPr/>
          <p:nvPr/>
        </p:nvSpPr>
        <p:spPr>
          <a:xfrm>
            <a:off x="708120" y="6310800"/>
            <a:ext cx="8161200" cy="3373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kumentation der Mitarbeiter-Unter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32"/>
          <p:cNvSpPr/>
          <p:nvPr/>
        </p:nvSpPr>
        <p:spPr>
          <a:xfrm rot="5400000">
            <a:off x="1642680" y="5740200"/>
            <a:ext cx="622440" cy="397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feil: nach rechts 33"/>
          <p:cNvSpPr/>
          <p:nvPr/>
        </p:nvSpPr>
        <p:spPr>
          <a:xfrm rot="5400000">
            <a:off x="7315560" y="5729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afik 12" descr=""/>
          <p:cNvPicPr/>
          <p:nvPr/>
        </p:nvPicPr>
        <p:blipFill>
          <a:blip r:embed="rId1"/>
          <a:stretch/>
        </p:blipFill>
        <p:spPr>
          <a:xfrm>
            <a:off x="8572680" y="59626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35"/>
          <p:cNvSpPr/>
          <p:nvPr/>
        </p:nvSpPr>
        <p:spPr>
          <a:xfrm>
            <a:off x="682560" y="3646800"/>
            <a:ext cx="818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raxisinhaber*in + fachkundige und zuverlässige Praxismitarbeiter*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36"/>
          <p:cNvSpPr/>
          <p:nvPr/>
        </p:nvSpPr>
        <p:spPr>
          <a:xfrm rot="5400000">
            <a:off x="4641840" y="4106880"/>
            <a:ext cx="432000" cy="279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37"/>
          <p:cNvSpPr/>
          <p:nvPr/>
        </p:nvSpPr>
        <p:spPr>
          <a:xfrm rot="5400000">
            <a:off x="7410600" y="4105800"/>
            <a:ext cx="432000" cy="2811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38"/>
          <p:cNvSpPr/>
          <p:nvPr/>
        </p:nvSpPr>
        <p:spPr>
          <a:xfrm rot="5400000">
            <a:off x="4599720" y="3161520"/>
            <a:ext cx="503280" cy="326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39"/>
          <p:cNvSpPr/>
          <p:nvPr/>
        </p:nvSpPr>
        <p:spPr>
          <a:xfrm>
            <a:off x="2139840" y="563580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bewahrung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 Jahre; nach dem Ausscheiden des Mitarbeiters noch weitere 5 Jah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In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180036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 + Allgemeine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medizinische Vorsorge und 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beschränkungen- und -ver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se der Gefährdungsbeurtei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9:30Z</dcterms:modified>
  <cp:revision>16</cp:revision>
  <dc:subject/>
  <dc:title/>
</cp:coreProperties>
</file>