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562E7-11D6-49BF-B805-239B96FFA13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6:00:50Z</dcterms:modified>
  <cp:revision>13</cp:revision>
  <dc:subject/>
  <dc:title/>
</cp:coreProperties>
</file>