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C8D76-A949-4D2C-A267-DCF793C7259D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schutz &amp; Unfallverhü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Grafik 4" descr=""/>
          <p:cNvPicPr/>
          <p:nvPr/>
        </p:nvPicPr>
        <p:blipFill>
          <a:blip r:embed="rId1"/>
          <a:stretch/>
        </p:blipFill>
        <p:spPr>
          <a:xfrm>
            <a:off x="4643280" y="1619280"/>
            <a:ext cx="4380120" cy="32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6" name="Grafik 1" descr="Unterweisungserklaerung [Kompatibilitätsmodus] - Microsoft Word"/>
          <p:cNvPicPr/>
          <p:nvPr/>
        </p:nvPicPr>
        <p:blipFill>
          <a:blip r:embed="rId2"/>
          <a:srcRect l="8303" t="4842" r="59528" b="3725"/>
          <a:stretch/>
        </p:blipFill>
        <p:spPr>
          <a:xfrm>
            <a:off x="809640" y="1535040"/>
            <a:ext cx="342108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ok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809640" y="4903920"/>
            <a:ext cx="3419640" cy="10429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4633920" y="5021280"/>
            <a:ext cx="440208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terweisungsmodule: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ateien im *.pdf und *.ppt-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afik 11" descr=""/>
          <p:cNvPicPr/>
          <p:nvPr/>
        </p:nvPicPr>
        <p:blipFill>
          <a:blip r:embed="rId3"/>
          <a:stretch/>
        </p:blipFill>
        <p:spPr>
          <a:xfrm>
            <a:off x="8408880" y="5850000"/>
            <a:ext cx="62712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4"/>
          <p:cNvSpPr/>
          <p:nvPr/>
        </p:nvSpPr>
        <p:spPr>
          <a:xfrm>
            <a:off x="684360" y="971640"/>
            <a:ext cx="845964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ersonenbezogene Festle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Grafik 1" descr="Unterweisungserklaerung [Kompatibilitätsmodus] - Microsoft Word"/>
          <p:cNvPicPr/>
          <p:nvPr/>
        </p:nvPicPr>
        <p:blipFill>
          <a:blip r:embed="rId1"/>
          <a:srcRect l="14433" t="19128" r="13869" b="4008"/>
          <a:stretch/>
        </p:blipFill>
        <p:spPr>
          <a:xfrm>
            <a:off x="973080" y="2224080"/>
            <a:ext cx="7197840" cy="421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Grafik 11" descr=""/>
          <p:cNvPicPr/>
          <p:nvPr/>
        </p:nvPicPr>
        <p:blipFill>
          <a:blip r:embed="rId2"/>
          <a:stretch/>
        </p:blipFill>
        <p:spPr>
          <a:xfrm>
            <a:off x="8427960" y="580716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186" name="Grafik 2" descr=""/>
          <p:cNvPicPr/>
          <p:nvPr/>
        </p:nvPicPr>
        <p:blipFill>
          <a:blip r:embed="rId3"/>
          <a:stretch/>
        </p:blipFill>
        <p:spPr>
          <a:xfrm>
            <a:off x="5027760" y="6505560"/>
            <a:ext cx="336060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Grafik 1" descr=""/>
          <p:cNvPicPr/>
          <p:nvPr/>
        </p:nvPicPr>
        <p:blipFill>
          <a:blip r:embed="rId1"/>
          <a:stretch/>
        </p:blipFill>
        <p:spPr>
          <a:xfrm>
            <a:off x="4751280" y="3016080"/>
            <a:ext cx="425448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8" name="Text Box 3"/>
          <p:cNvSpPr/>
          <p:nvPr/>
        </p:nvSpPr>
        <p:spPr>
          <a:xfrm>
            <a:off x="684360" y="1127160"/>
            <a:ext cx="845964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für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Unterweisun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steht die folgende Checkliste zur Verfüg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3" descr=""/>
          <p:cNvPicPr/>
          <p:nvPr/>
        </p:nvPicPr>
        <p:blipFill>
          <a:blip r:embed="rId2"/>
          <a:stretch/>
        </p:blipFill>
        <p:spPr>
          <a:xfrm>
            <a:off x="685800" y="1924200"/>
            <a:ext cx="4211640" cy="163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Rechteck 9"/>
          <p:cNvSpPr/>
          <p:nvPr/>
        </p:nvSpPr>
        <p:spPr>
          <a:xfrm>
            <a:off x="684360" y="310500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684360" y="215892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einer Praxis haben alle der Arbeitssicherhe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enden Maßnahmen zu unterstützen und sind verpflichtet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der Praxisinhaberin/des Praxisinhabers zum Zweck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Unfallverhütung zu befolgen, es sei denn, es handelt sich 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, die offensichtlich unbegründet s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zur Verfügung gestellte persönliche Schutzausrüst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haben Einrichtungen, Arbeitsmittel und Arbeitsstoff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ie Schutzvorrichtungen bestimmungsgemäß und im Rahm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ihnen übertragenen Arbeitsaufgaben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684360" y="2158920"/>
            <a:ext cx="8459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haben der Praxisinhaberin/dem Praxisinha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 von ihnen festgestellte unmittelbare erhebliche Gefahr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icherheit und Gesundheit sowie jeden an den Schutzvo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ichtungen und Schutzsystemen festgestellten Defe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verzüglich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Versicherten haben die Maßnahmen zur Verhütung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sowie für eine wirksame Erste Hilf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tützen. Versicherte haben die entsprechen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en des Unternehmers zu befolgen. Die Versicher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ürfen erkennbar gegen Sicherheit und Gesundheit gerichte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nicht befol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684360" y="2158920"/>
            <a:ext cx="845964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dürfen sich durch den Konsum von Alkohol, Dro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anderen berauschenden Mitteln (inkl. Medikamente) nicht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n Zusta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etzen, durch den sie sich selbst oder ande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Verhalten bei Arbeitsunfällen und Notfallsituationen ist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len und die Erste-Hilfe-Organisation in der Praxis ist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 bekannt zu ma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Beschäftigten ist die Bedeutung von Sicherheit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schutzkennzeichnung in der Praxis zu erläu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684360" y="2158920"/>
            <a:ext cx="845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llt ein Beschäftigter fest, dass im Hinblick auf die Verhü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n 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ein Arbeitsmittel oder eine sonst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en Mangel aufweist, Arbeitsstoffe nicht einwa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 verpackt, gekennzeichnet oder beschaffen sind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verfahren oder Arbeitsabläufe Mängel aufweisen hat er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eit dies zu seiner Arbeitsaufgabe gehört und er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twendige Befähigung verfügt, den festgestellten Mangel oh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potenzial unverzüglich zu beseitigen. Andernfalls ha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 den Mangel dem Praxisinhaber unverzüglich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84360" y="215892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in den einzelnen Unfallverhütungsvorschriften enthalte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ßnahmen sind zu beachten und einzu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46200" y="3238560"/>
            <a:ext cx="8459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Unfallverhütungsvorschriften sind im Kapitel „1.6 Unfall-verhütungsvorschriften und Technische Regeln“ über die Schaltfläche „1. Gesetze und Rechtliche Grundlagen“ im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-Handbuch in ihrem Wortlaut nachzule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7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68444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Inha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Dok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sätze des Arbeitsschutzes und der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schutz und Unfallverhü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1981080" y="1897200"/>
            <a:ext cx="5399280" cy="491652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3" descr=""/>
          <p:cNvPicPr/>
          <p:nvPr/>
        </p:nvPicPr>
        <p:blipFill>
          <a:blip r:embed="rId2"/>
          <a:srcRect l="5221" t="5582" r="288" b="0"/>
          <a:stretch/>
        </p:blipFill>
        <p:spPr>
          <a:xfrm>
            <a:off x="4370400" y="5261040"/>
            <a:ext cx="3774960" cy="14540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144" name="Textfeld 3"/>
          <p:cNvSpPr/>
          <p:nvPr/>
        </p:nvSpPr>
        <p:spPr>
          <a:xfrm>
            <a:off x="1971720" y="586260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n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Grafik 3" descr=""/>
          <p:cNvPicPr/>
          <p:nvPr/>
        </p:nvPicPr>
        <p:blipFill>
          <a:blip r:embed="rId1"/>
          <a:stretch/>
        </p:blipFill>
        <p:spPr>
          <a:xfrm>
            <a:off x="3002040" y="1584360"/>
            <a:ext cx="369396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1" name="Textfeld 3"/>
          <p:cNvSpPr/>
          <p:nvPr/>
        </p:nvSpPr>
        <p:spPr>
          <a:xfrm>
            <a:off x="6705720" y="646596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BGWthemen, Unterweisen im Betrieb - ein Leitfaden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, 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feld 1"/>
          <p:cNvSpPr/>
          <p:nvPr/>
        </p:nvSpPr>
        <p:spPr>
          <a:xfrm>
            <a:off x="684360" y="1573560"/>
            <a:ext cx="8184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3"/>
          <p:cNvSpPr/>
          <p:nvPr/>
        </p:nvSpPr>
        <p:spPr>
          <a:xfrm>
            <a:off x="708120" y="4652640"/>
            <a:ext cx="249228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Vor Arbeitsaufnah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feil: nach rechts 4"/>
          <p:cNvSpPr/>
          <p:nvPr/>
        </p:nvSpPr>
        <p:spPr>
          <a:xfrm rot="5400000">
            <a:off x="1740600" y="4112280"/>
            <a:ext cx="431640" cy="28080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5"/>
          <p:cNvSpPr/>
          <p:nvPr/>
        </p:nvSpPr>
        <p:spPr>
          <a:xfrm>
            <a:off x="3568680" y="4532400"/>
            <a:ext cx="259236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i wesentlichen Än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6"/>
          <p:cNvSpPr/>
          <p:nvPr/>
        </p:nvSpPr>
        <p:spPr>
          <a:xfrm>
            <a:off x="6377040" y="4532400"/>
            <a:ext cx="249228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Regelmäßig einmal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o Ja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feil: nach rechts 11"/>
          <p:cNvSpPr/>
          <p:nvPr/>
        </p:nvSpPr>
        <p:spPr>
          <a:xfrm rot="5400000">
            <a:off x="4557240" y="57463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14"/>
          <p:cNvSpPr/>
          <p:nvPr/>
        </p:nvSpPr>
        <p:spPr>
          <a:xfrm>
            <a:off x="870120" y="522756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rstunterweis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feld 20"/>
          <p:cNvSpPr/>
          <p:nvPr/>
        </p:nvSpPr>
        <p:spPr>
          <a:xfrm>
            <a:off x="3565440" y="51195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eues Arbeitsverfahren, neue Geräte, neue Regelwerke, …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26"/>
          <p:cNvSpPr/>
          <p:nvPr/>
        </p:nvSpPr>
        <p:spPr>
          <a:xfrm>
            <a:off x="6367320" y="51134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sicht: Jugendliche zwischen 15-17 Jahren: halbjährl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27"/>
          <p:cNvSpPr/>
          <p:nvPr/>
        </p:nvSpPr>
        <p:spPr>
          <a:xfrm>
            <a:off x="684360" y="2608560"/>
            <a:ext cx="8184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Wer darf die Unterweisungen durchfüh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feil: nach rechts 29"/>
          <p:cNvSpPr/>
          <p:nvPr/>
        </p:nvSpPr>
        <p:spPr>
          <a:xfrm rot="5400000">
            <a:off x="4600080" y="2125440"/>
            <a:ext cx="503280" cy="3286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feld 30"/>
          <p:cNvSpPr/>
          <p:nvPr/>
        </p:nvSpPr>
        <p:spPr>
          <a:xfrm>
            <a:off x="708120" y="6310800"/>
            <a:ext cx="8161200" cy="33732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okumentation der Mitarbeiter-Unterwei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feil: nach rechts 32"/>
          <p:cNvSpPr/>
          <p:nvPr/>
        </p:nvSpPr>
        <p:spPr>
          <a:xfrm rot="5400000">
            <a:off x="1642680" y="5740200"/>
            <a:ext cx="622440" cy="3970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feil: nach rechts 33"/>
          <p:cNvSpPr/>
          <p:nvPr/>
        </p:nvSpPr>
        <p:spPr>
          <a:xfrm rot="5400000">
            <a:off x="7315560" y="5729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Grafik 12" descr=""/>
          <p:cNvPicPr/>
          <p:nvPr/>
        </p:nvPicPr>
        <p:blipFill>
          <a:blip r:embed="rId1"/>
          <a:stretch/>
        </p:blipFill>
        <p:spPr>
          <a:xfrm>
            <a:off x="8572680" y="596268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35"/>
          <p:cNvSpPr/>
          <p:nvPr/>
        </p:nvSpPr>
        <p:spPr>
          <a:xfrm>
            <a:off x="682560" y="3646800"/>
            <a:ext cx="818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raxisinhaber*in + fachkundige und zuverlässige Praxismitarbeiter*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36"/>
          <p:cNvSpPr/>
          <p:nvPr/>
        </p:nvSpPr>
        <p:spPr>
          <a:xfrm rot="5400000">
            <a:off x="4641840" y="4106880"/>
            <a:ext cx="432000" cy="2793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37"/>
          <p:cNvSpPr/>
          <p:nvPr/>
        </p:nvSpPr>
        <p:spPr>
          <a:xfrm rot="5400000">
            <a:off x="7410600" y="4105800"/>
            <a:ext cx="432000" cy="28116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feil: nach rechts 38"/>
          <p:cNvSpPr/>
          <p:nvPr/>
        </p:nvSpPr>
        <p:spPr>
          <a:xfrm rot="5400000">
            <a:off x="4599720" y="3161520"/>
            <a:ext cx="503280" cy="326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feld 39"/>
          <p:cNvSpPr/>
          <p:nvPr/>
        </p:nvSpPr>
        <p:spPr>
          <a:xfrm>
            <a:off x="2139840" y="5635800"/>
            <a:ext cx="245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fbewahrung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 Jahre; nach dem Ausscheiden des Mitarbeiters noch weitere 5 Jah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Inhal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84360" y="180036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 + Allgemeine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medizinische Vorsorge und Immun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beschränkungen- und -ver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d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gebnisse der Gefährdungsbeurteil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8-08T05:59:30Z</dcterms:modified>
  <cp:revision>16</cp:revision>
  <dc:subject/>
  <dc:title/>
</cp:coreProperties>
</file>