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D3EED-B7F2-4216-82A6-1A431A18F42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s://lzk-bw.de/fileadmin/user_upload/Downloads/Rund_um_die_Praxisf&#252;hrung/Strahlenschutz/Merkblatt_Patientenschutzmittel.pdf" TargetMode="Externa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phb.lzk-bw.de/PHB-CD/QM-Anhang/Formulare/Roentgen/Betreuungs_und_Begleitperson.docx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phb.lzk-bw.de/PHB-CD/QM/Kurzuebersicht_Adresse-Fristen-Termine.docx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84360" y="179856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Patienten sind ggf. Bleischürze bzw. Kinnschild mit eine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eigleichwert von mindestens 0,4 mm als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richtungen anzulegen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Grafik 4" descr=""/>
          <p:cNvPicPr/>
          <p:nvPr/>
        </p:nvPicPr>
        <p:blipFill>
          <a:blip r:embed="rId1"/>
          <a:stretch/>
        </p:blipFill>
        <p:spPr>
          <a:xfrm>
            <a:off x="801720" y="3618000"/>
            <a:ext cx="2133720" cy="30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Textfeld 5"/>
          <p:cNvSpPr/>
          <p:nvPr/>
        </p:nvSpPr>
        <p:spPr>
          <a:xfrm>
            <a:off x="2935440" y="5027760"/>
            <a:ext cx="415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lzk-bw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4360" y="1798560"/>
            <a:ext cx="84596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euungs- und Begleitpersonen haben nur aus zwingen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ünden Zutritt zum Kontrollbereich (z. B. Filmhalten bei Kleinkindern). Eine Betreuungs- und Begleitperson sollte die begleitende Person des Patienten sein. Auch diese Personen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her über die möglichen Gefahren bei der Anwendung von Röntgenstrahlen und ihre Vermeidung zu unterweisen. Es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ßnahmen zu ergreifen, um ihre Strahlenexposition zu beschrän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2" descr=""/>
          <p:cNvPicPr/>
          <p:nvPr/>
        </p:nvPicPr>
        <p:blipFill>
          <a:blip r:embed="rId1"/>
          <a:stretch/>
        </p:blipFill>
        <p:spPr>
          <a:xfrm>
            <a:off x="7467480" y="4076640"/>
            <a:ext cx="1532160" cy="234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feld 3"/>
          <p:cNvSpPr/>
          <p:nvPr/>
        </p:nvSpPr>
        <p:spPr>
          <a:xfrm flipV="1" rot="10800000">
            <a:off x="593280" y="6226200"/>
            <a:ext cx="705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phb.lzk-bw.de/PHB-CD/QM-Anhang/Formulare/Roentgen/Betreuungs_und_Begleitperson.doc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afik 1" descr="Landeszahnärztekammer BW: Startseite - Internet Explorer"/>
          <p:cNvPicPr/>
          <p:nvPr/>
        </p:nvPicPr>
        <p:blipFill>
          <a:blip r:embed="rId3"/>
          <a:srcRect l="29688" t="57449" r="45106" b="22041"/>
          <a:stretch/>
        </p:blipFill>
        <p:spPr>
          <a:xfrm>
            <a:off x="5522760" y="4851360"/>
            <a:ext cx="1800360" cy="8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84360" y="1798560"/>
            <a:ext cx="845964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durch die Röntgenuntersuchung bedingte Strahlenexpositi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soweit einzuschränken, wie dies mit den Erforderniss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n Wissenschaft zu vereinbaren ist. Hierzu zähl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besondere der Einsatz hochempfindlicher Filme, soweit es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inische Fragestellung zuläs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84360" y="1628640"/>
            <a:ext cx="845964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erfolgter Abnahmeprüfung ist arbeitswöchentlich ei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ilmkonstanzprüfung vorzunehmen, durch die ohne mecha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elektrische Eingriffe festzustellen ist, ob die Bildqualität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Höhe der Strahlenexposition den Angaben in den letz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nach der Abnahmeprüfung noch entsprech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gebnis ist aufzuzeichnen; dazu gehören au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nahmen der Prüfkörper und der Prüffilme. Ist die erforde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ldqualität nicht mehr gegeben, ist unverzüglich die Ursach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und zu beseit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84360" y="1628640"/>
            <a:ext cx="84596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ie RK5 und RK6 muss bei digitalen Gerät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genommene Befundmonitor arbeitstäglich und halbjährli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isuellen Überprüfung unterzogen wer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5 muss im Abstand von fünf Jahren eine messtech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6 sowie bei DVT-Betrieb muss eine jäh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sstechnische 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aloge und digitale Röntgengeräte müssen monatlich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 unterzogen werd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Nach der Allgemeinverfügung der Gewerbeaufsichtsämter vom März 2006 kan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se Frist unter bestimmten Voraussetzungen auf 3 Monate verlängert wer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bewahrungsfristen von Konstanzprüfungen: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phb.lzk-bw.de/PHB-CD/QM/Kurzuebersicht_Adresse-Fristen-Termine.doc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4360" y="179856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nwendung von Röntgenstrahlen muss aufgezeichne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eht eine Schwangerscha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Röntgenaufnahmen in dem Bereich angefertigt wor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jetzt untersucht werden so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84360" y="1798560"/>
            <a:ext cx="845964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ie Anwendung von Röntgenstrahlen müss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angefertigt werden, aus denen der Zeitpunkt,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t der Anwendung, die untersuchte Körperregion, Angaben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, bei einer Untersuchung zu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obene Befund sowie die Strahlenexposition des Patienten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ist, soweit sie erfasst worden ist, oder die zu 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lung erforderlichen Daten und Ang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dürfen während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wangerschaft nicht im Kontrollbereich tätig sein, da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et, sie dürfen sich während des Auslösens der 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cht in einem Radius von weniger als 1,5 m um die Strahl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elle auf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684360" y="1978200"/>
            <a:ext cx="845964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 ist grund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der Gemeinschaftspraxis bzw. Praxisgemeinschaft sind al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ellschafter/Partner Strahlenschutzverantwortl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raxisinhaber kann für die Leitung oder Beaufsichti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verlässige und mit der notwendigen Fachkund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 ausgestattete Beschäftigte schriftlich z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n bestellen (Meldung an die zuständ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 bleibt verantwortli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Verantwortlichkei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Qualifik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der Fachkunde im Strahlenschutz: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rs zur Fachkundeaktualisierung muss von der zuständ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 anerkannt s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persona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 und der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4363920"/>
            <a:ext cx="84596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Bauliche Anforder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84360" y="51703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öntgenraum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oden, Wände,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llationen, Kontrollbereich, Händedesinfe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unkelkammer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eu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nzeigeverfa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4360" y="180036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Der Röntgenstrahler der Röntgeneinrichtung is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auartzugelassen oder CE-zertifizier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zeigeverf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84360" y="2778120"/>
            <a:ext cx="845964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Inbetriebnahme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: 4 Wochen vor diesem Ereignis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 (BZK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Änderung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der Beendigung des Betriebes bei der zustä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und der Zahnärztlichen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bnahme- und Konstanz-prüf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84360" y="215892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vor der Inbetriebnahme durch ei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erkannten Sachverständ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en zur Bildqualitätskontrolle in regelmäß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abstä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4360" y="407520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Strahlenschutzanweis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684360" y="485784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: 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anweisung gemäß § 45 Strahlenschutzver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Röntgeneinricht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vor Inbetriebnahm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(S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trlSch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kehrend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Zeitabständen von 5 J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lassbezogen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 B. nach abgeschlossen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lichen oder geräteseit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änder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erso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chverständiger nach StrlSch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114720" y="4248000"/>
            <a:ext cx="597528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er Prüfbericht des Sachverständigen geht in Kopie an die zuständige Behörde (Regierungs-präsidium) und an die zuständige Zahnärztliche Bezirksstelle in der BZK (ZÄS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114720" y="5832360"/>
            <a:ext cx="597528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vtl. Wartung (Gebrauchsanweis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afik 5" descr=""/>
          <p:cNvPicPr/>
          <p:nvPr/>
        </p:nvPicPr>
        <p:blipFill>
          <a:blip r:embed="rId1"/>
          <a:stretch/>
        </p:blipFill>
        <p:spPr>
          <a:xfrm>
            <a:off x="804960" y="4424400"/>
            <a:ext cx="2276280" cy="16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Textfeld 3"/>
          <p:cNvSpPr/>
          <p:nvPr/>
        </p:nvSpPr>
        <p:spPr>
          <a:xfrm>
            <a:off x="709560" y="605304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Weitere Verpflicht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1978200"/>
            <a:ext cx="845964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Unterweis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Vor Arbeitsaufnahme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regelmäßig mindestens einmal pro Jahr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inhalte: z. B. mittels der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84360" y="39895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ersönliche Schutzausrüst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schürze, Halbschürze, Schilddrüsenschutz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Kinnschi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84360" y="529272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oku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 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Grafik 1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Textfeld 2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684360" y="5446800"/>
            <a:ext cx="805968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Grafik 14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Rechteck 18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207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09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Rönt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3" descr=""/>
          <p:cNvPicPr/>
          <p:nvPr/>
        </p:nvPicPr>
        <p:blipFill>
          <a:blip r:embed="rId1"/>
          <a:stretch/>
        </p:blipFill>
        <p:spPr>
          <a:xfrm>
            <a:off x="4889520" y="24271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hteck 2"/>
          <p:cNvSpPr/>
          <p:nvPr/>
        </p:nvSpPr>
        <p:spPr>
          <a:xfrm>
            <a:off x="4886280" y="361332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Grafik 3" descr=""/>
          <p:cNvPicPr/>
          <p:nvPr/>
        </p:nvPicPr>
        <p:blipFill>
          <a:blip r:embed="rId2"/>
          <a:stretch/>
        </p:blipFill>
        <p:spPr>
          <a:xfrm>
            <a:off x="684360" y="2427120"/>
            <a:ext cx="4111560" cy="367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Grafik 5" descr=""/>
          <p:cNvPicPr/>
          <p:nvPr/>
        </p:nvPicPr>
        <p:blipFill>
          <a:blip r:embed="rId3"/>
          <a:stretch/>
        </p:blipFill>
        <p:spPr>
          <a:xfrm>
            <a:off x="4886280" y="4167360"/>
            <a:ext cx="3888000" cy="25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antwort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en und Arbeitsan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Verpflich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ordnung (StrlS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22840" y="2637000"/>
            <a:ext cx="5079960" cy="36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bzw. Genehmi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artzulas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 von Röntgen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m Mens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795240" y="2443320"/>
            <a:ext cx="2908440" cy="4140000"/>
          </a:xfrm>
          <a:prstGeom prst="rect">
            <a:avLst/>
          </a:prstGeom>
          <a:ln w="9360">
            <a:solidFill>
              <a:srgbClr val="4d5e5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84360" y="1798560"/>
            <a:ext cx="84596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in die Arbeitsmethoden, mögliche Gefahren, anzuwendenden Sicherheits- und Schutzmaßnahmen, den Inhal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verordnung sowie die Anzeige der Röntgen-einr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gesetz und Strahlenschutzverordnung werden zu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 ständig verfügbar ge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84360" y="1798560"/>
            <a:ext cx="845964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hand der deutschsprachigen Gebrauchsanweisung wurde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achgerechte Handhabung durch eine entsprechend fach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ige Person eingewies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Ausfertigung des Genehmigungsbescheides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ruck des Zulassungsscheines und der Betriebsanleit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d aufbewahrt. Die Gebrauchsanweisung, die Bescheinig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prüfung, der letzte Prüfbericht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holung der Strahlenschutzprüfung und gegebenenfalls di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einigungen über Sachverständigenprüfungen na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sentlichen Änderungen des Betriebes der Röntgeneinrich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 bereitgehalten. Außerdem ist bei einer Röntg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 aktuelles Bestandsverzeichnis zu fü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4360" y="179856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aufnahmen dürfen nur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nach Vorliegen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 angeordnet werd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und Mitarbeiter dürfen unt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ändiger Aufsicht und Verantwortung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Röntgenstrahl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en, wenn sie über die notwendigen Kenntnisse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84360" y="1798560"/>
            <a:ext cx="845964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ontrollbereich beim Tubusgerät sowie beim OP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röntgen beträgt 1,5 m, bei einem DVT-Gerät liegt der Kontrollbereich zwischen 2 und 2,5 m (abhängig der Röhrenspannung des DVT-Geräts). Während der Röntgenaufnahme darf sich nur die zu untersuchende Person im Kontrollbereich aufhalten. Die Aufnahme ist außerhalb des Kontrollbereichs (Radius 1,5 m (bzw. bei DVT 2 - 2,5 m) um die Strahlenquelle) auszulö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7:18:29Z</cp:lastPrinted>
  <dcterms:modified xsi:type="dcterms:W3CDTF">2025-08-13T12:39:21Z</dcterms:modified>
  <cp:revision>28</cp:revision>
  <dc:subject/>
  <dc:title/>
</cp:coreProperties>
</file>