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E3D47-FF84-44F9-8F78-986ADB9B458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ugend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suchung von Jugendlichen (15-17 Jah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6"/>
          <p:cNvGrpSpPr/>
          <p:nvPr/>
        </p:nvGrpSpPr>
        <p:grpSpPr>
          <a:xfrm>
            <a:off x="754200" y="2276640"/>
            <a:ext cx="3238200" cy="4109760"/>
            <a:chOff x="754200" y="2276640"/>
            <a:chExt cx="3238200" cy="410976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rcRect l="0" t="0" r="0" b="73686"/>
            <a:stretch/>
          </p:blipFill>
          <p:spPr>
            <a:xfrm>
              <a:off x="754200" y="2276640"/>
              <a:ext cx="323820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rcRect l="0" t="38743" r="4881" b="0"/>
            <a:stretch/>
          </p:blipFill>
          <p:spPr>
            <a:xfrm>
              <a:off x="754200" y="3429000"/>
              <a:ext cx="3238200" cy="29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arbeitsschutzgesetz (JArbS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064040" y="2421000"/>
            <a:ext cx="50799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und Frei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verbote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än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Pflichten des Arbeitge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liche Betreu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änge und Verzeich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5"/>
          <p:cNvSpPr/>
          <p:nvPr/>
        </p:nvSpPr>
        <p:spPr>
          <a:xfrm>
            <a:off x="754200" y="2276640"/>
            <a:ext cx="3309840" cy="410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§ 29 JArbSchG hat folgenden Wortla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die Jugendlichen vor Begin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 über die Unfall- und Gesundheitsgefahr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en sie bei der Beschäftigung ausgesetzt sind sowie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en und Maßnahmen zur Abwendung dies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en zu unterweisen. Er hat die Jugendlichen vo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maligen Beschäftigung an Maschinen oder gefähr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tellen oder mit Arbeiten, bei denen sie mit gesu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tsgefährdenden Stoffen in Berührung kommen,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n Gefahren dieser Arbeiten sowie über das bei ihr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richtung erforderliche Verhalt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Unterweisungen sind in angemessenen Zeitabstän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destens ab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halbjähr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u wiederh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er wird mit der Unterschrift bestätigt, dass gemäß § 4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rbSchG darauf hingewiesen wurde, an welcher Stell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 das Jugendarbeitsschutzgesetz (siehe im „PRAXI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 Qualitätssicherung: Anhang“ unter "Aushang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" im Kapitel „Personal“) und die Adresse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tändigen Arbeitsschutzbehörde - Landratsamt - (sieh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PRAXIS-Handbuch Qualitätssicherung: Anhang“ im Kapit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Adressenverzeichnis") auslie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/Dem Jugendlichen wurde eine Kopie der Unterwei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ehänd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hteck 1" descr=""/>
          <p:cNvPicPr/>
          <p:nvPr/>
        </p:nvPicPr>
        <p:blipFill>
          <a:blip r:embed="rId1"/>
          <a:stretch/>
        </p:blipFill>
        <p:spPr>
          <a:xfrm>
            <a:off x="822240" y="6175440"/>
            <a:ext cx="7718400" cy="6462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2"/>
          <a:stretch/>
        </p:blipFill>
        <p:spPr>
          <a:xfrm>
            <a:off x="620640" y="1652760"/>
            <a:ext cx="8460000" cy="42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3"/>
          <a:stretch/>
        </p:blipFill>
        <p:spPr>
          <a:xfrm>
            <a:off x="8540640" y="602136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156" name="Grafik 4" descr=""/>
          <p:cNvPicPr/>
          <p:nvPr/>
        </p:nvPicPr>
        <p:blipFill>
          <a:blip r:embed="rId4"/>
          <a:stretch/>
        </p:blipFill>
        <p:spPr>
          <a:xfrm>
            <a:off x="2925720" y="575640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Jugendlich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"/>
          <p:cNvPicPr/>
          <p:nvPr/>
        </p:nvPicPr>
        <p:blipFill>
          <a:blip r:embed="rId1"/>
          <a:stretch/>
        </p:blipFill>
        <p:spPr>
          <a:xfrm>
            <a:off x="4889520" y="24354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Rechteck 3"/>
          <p:cNvSpPr/>
          <p:nvPr/>
        </p:nvSpPr>
        <p:spPr>
          <a:xfrm>
            <a:off x="4886280" y="3621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Grafik 2" descr=""/>
          <p:cNvPicPr/>
          <p:nvPr/>
        </p:nvPicPr>
        <p:blipFill>
          <a:blip r:embed="rId2"/>
          <a:stretch/>
        </p:blipFill>
        <p:spPr>
          <a:xfrm>
            <a:off x="684360" y="2435400"/>
            <a:ext cx="4103640" cy="124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Grafik 5" descr=""/>
          <p:cNvPicPr/>
          <p:nvPr/>
        </p:nvPicPr>
        <p:blipFill>
          <a:blip r:embed="rId3"/>
          <a:stretch/>
        </p:blipFill>
        <p:spPr>
          <a:xfrm>
            <a:off x="4886280" y="4168800"/>
            <a:ext cx="414036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2:23Z</dcterms:modified>
  <cp:revision>20</cp:revision>
  <dc:subject/>
  <dc:title/>
</cp:coreProperties>
</file>