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0E7A3-309B-4489-8317-B1B75B6477C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B2CA2-EF2E-4875-89B0-4315F6FACE9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B5CD2-6571-4581-8509-B90BF161589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Hygiene und Medizinprodukte-Aufbereitu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4032000" cy="38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5" descr=""/>
          <p:cNvPicPr/>
          <p:nvPr/>
        </p:nvPicPr>
        <p:blipFill>
          <a:blip r:embed="rId3"/>
          <a:stretch/>
        </p:blipFill>
        <p:spPr>
          <a:xfrm>
            <a:off x="4886280" y="4143240"/>
            <a:ext cx="4075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0:49Z</dcterms:modified>
  <cp:revision>21</cp:revision>
  <dc:subject/>
  <dc:title/>
</cp:coreProperties>
</file>