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6.jpeg" ContentType="image/jpeg"/>
  <Override PartName="/ppt/media/image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5.png" ContentType="image/png"/>
  <Override PartName="/ppt/media/image2.png" ContentType="image/png"/>
  <Override PartName="/ppt/media/image3.jpeg" ContentType="image/jpeg"/>
  <Override PartName="/ppt/media/image1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63A6C9-5606-4D0A-906D-23CFFEFA3217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iostof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Biostoffe - Ris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684360" y="197820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 </a:t>
            </a:r>
            <a:r>
              <a:rPr b="1" lang="de-DE" sz="2400" spc="-1" strike="noStrike" u="sng">
                <a:solidFill>
                  <a:srgbClr val="0070c0"/>
                </a:solidFill>
                <a:uFillTx/>
                <a:latin typeface="Arial"/>
              </a:rPr>
              <a:t>Blut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tragene Erreger und ihr Ansteckungspotenzi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401840" y="2925720"/>
            <a:ext cx="38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patitis-B-Viren (HBV)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401840" y="4181400"/>
            <a:ext cx="37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patitis-C-Viren (HCV) 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1401840" y="5391000"/>
            <a:ext cx="371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-Viren (HIV/AIDS) 0,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3"/>
          <p:cNvGrpSpPr/>
          <p:nvPr/>
        </p:nvGrpSpPr>
        <p:grpSpPr>
          <a:xfrm>
            <a:off x="5262480" y="2997360"/>
            <a:ext cx="3630600" cy="1439640"/>
            <a:chOff x="5262480" y="2997360"/>
            <a:chExt cx="3630600" cy="1439640"/>
          </a:xfrm>
        </p:grpSpPr>
        <p:sp>
          <p:nvSpPr>
            <p:cNvPr id="172" name="Text Box 7"/>
            <p:cNvSpPr/>
            <p:nvPr/>
          </p:nvSpPr>
          <p:spPr>
            <a:xfrm>
              <a:off x="5726160" y="3514680"/>
              <a:ext cx="31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270000"/>
                  <a:tab algn="l" pos="539640"/>
                  <a:tab algn="l" pos="809640"/>
                  <a:tab algn="l" pos="1079640"/>
                  <a:tab algn="l" pos="1349280"/>
                  <a:tab algn="l" pos="1619280"/>
                  <a:tab algn="l" pos="1889280"/>
                  <a:tab algn="l" pos="2158920"/>
                  <a:tab algn="l" pos="2428920"/>
                  <a:tab algn="l" pos="2698920"/>
                  <a:tab algn="l" pos="2968560"/>
                  <a:tab algn="l" pos="3238560"/>
                  <a:tab algn="l" pos="3508200"/>
                  <a:tab algn="l" pos="3778200"/>
                  <a:tab algn="l" pos="4048200"/>
                  <a:tab algn="l" pos="4317840"/>
                  <a:tab algn="l" pos="4587840"/>
                  <a:tab algn="l" pos="4857840"/>
                  <a:tab algn="l" pos="5127480"/>
                  <a:tab algn="l" pos="5397480"/>
                  <a:tab algn="l" pos="56674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10 x ansteckender 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11"/>
            <p:cNvSpPr/>
            <p:nvPr/>
          </p:nvSpPr>
          <p:spPr>
            <a:xfrm>
              <a:off x="5262480" y="2997360"/>
              <a:ext cx="457200" cy="143964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252000 h 1439640"/>
                <a:gd name="textAreaBottom" fmla="*/ 10440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980891"/>
                  <a:lnTo>
                    <a:pt x="6150" y="21287"/>
                  </a:lnTo>
                  <a:lnTo>
                    <a:pt x="0" y="17280"/>
                  </a:lnTo>
                  <a:lnTo>
                    <a:pt x="6150" y="12647"/>
                  </a:lnTo>
                  <a:lnTo>
                    <a:pt x="6150" y="14807"/>
                  </a:lnTo>
                  <a:arcTo wR="21600" hR="7560" stAng="2980891" swAng="-2623457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4"/>
          <p:cNvGrpSpPr/>
          <p:nvPr/>
        </p:nvGrpSpPr>
        <p:grpSpPr>
          <a:xfrm>
            <a:off x="5259240" y="4437000"/>
            <a:ext cx="3633480" cy="1440000"/>
            <a:chOff x="5259240" y="4437000"/>
            <a:chExt cx="3633480" cy="1440000"/>
          </a:xfrm>
        </p:grpSpPr>
        <p:sp>
          <p:nvSpPr>
            <p:cNvPr id="175" name="Text Box 8"/>
            <p:cNvSpPr/>
            <p:nvPr/>
          </p:nvSpPr>
          <p:spPr>
            <a:xfrm>
              <a:off x="5725800" y="4900680"/>
              <a:ext cx="31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270000"/>
                  <a:tab algn="l" pos="539640"/>
                  <a:tab algn="l" pos="809640"/>
                  <a:tab algn="l" pos="1079640"/>
                  <a:tab algn="l" pos="1349280"/>
                  <a:tab algn="l" pos="1619280"/>
                  <a:tab algn="l" pos="1889280"/>
                  <a:tab algn="l" pos="2158920"/>
                  <a:tab algn="l" pos="2428920"/>
                  <a:tab algn="l" pos="2698920"/>
                  <a:tab algn="l" pos="2968560"/>
                  <a:tab algn="l" pos="3238560"/>
                  <a:tab algn="l" pos="3508200"/>
                  <a:tab algn="l" pos="3778200"/>
                  <a:tab algn="l" pos="4048200"/>
                  <a:tab algn="l" pos="4317840"/>
                  <a:tab algn="l" pos="4587840"/>
                  <a:tab algn="l" pos="4857840"/>
                  <a:tab algn="l" pos="5127480"/>
                  <a:tab algn="l" pos="5397480"/>
                  <a:tab algn="l" pos="56674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10 x ansteckender 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12"/>
            <p:cNvSpPr/>
            <p:nvPr/>
          </p:nvSpPr>
          <p:spPr>
            <a:xfrm>
              <a:off x="5259240" y="4437000"/>
              <a:ext cx="457200" cy="144000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252000 h 1440000"/>
                <a:gd name="textAreaBottom" fmla="*/ 104400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980891"/>
                  <a:lnTo>
                    <a:pt x="6150" y="21287"/>
                  </a:lnTo>
                  <a:lnTo>
                    <a:pt x="0" y="17280"/>
                  </a:lnTo>
                  <a:lnTo>
                    <a:pt x="6150" y="12647"/>
                  </a:lnTo>
                  <a:lnTo>
                    <a:pt x="6150" y="14807"/>
                  </a:lnTo>
                  <a:arcTo wR="21600" hR="7560" stAng="2980891" swAng="-2623457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  <a:ea typeface="Arial"/>
              </a:rPr>
              <a:t>Übertragungsweg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 in der Zahnarztpr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682560" y="3122640"/>
            <a:ext cx="846144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Direkter Kontak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it Blut, Speichel oder ander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otenziell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ektiösen Sekre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pritz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von Blut, Speichel, Sekreten aus Nase und Rachen auf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akte oder verletzte Haut oder Schleimha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82560" y="4713120"/>
            <a:ext cx="84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Indirekte Übertrag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, z.B. über kontaminierte Instrumente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ahntechnische Materialien, Werkstücke oder Hän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684360" y="1979640"/>
            <a:ext cx="846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Aerosolbild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mit kontaminiertem Wasser aus d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handlungseinheiten bzw. aus dem Mundraum de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tienten. </a:t>
            </a:r>
            <a:r>
              <a:rPr b="1" lang="de-DE" sz="20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Dentaler Spraynebel-Rückpr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Grafik 4" descr=""/>
          <p:cNvPicPr/>
          <p:nvPr/>
        </p:nvPicPr>
        <p:blipFill>
          <a:blip r:embed="rId1"/>
          <a:stretch/>
        </p:blipFill>
        <p:spPr>
          <a:xfrm>
            <a:off x="7559640" y="1682640"/>
            <a:ext cx="1015920" cy="144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Grafik 1" descr="Biologische_Arbeitsstoffe.doc [Kompatibilitätsmodus] - Microsoft Word"/>
          <p:cNvPicPr/>
          <p:nvPr/>
        </p:nvPicPr>
        <p:blipFill>
          <a:blip r:embed="rId1"/>
          <a:srcRect l="15283" t="6757" r="51890" b="3279"/>
          <a:stretch/>
        </p:blipFill>
        <p:spPr>
          <a:xfrm>
            <a:off x="1139760" y="1987560"/>
            <a:ext cx="3149640" cy="468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3" name="Rectangle 2"/>
          <p:cNvSpPr/>
          <p:nvPr/>
        </p:nvSpPr>
        <p:spPr>
          <a:xfrm>
            <a:off x="684360" y="971640"/>
            <a:ext cx="84596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iostoff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Betriebsanwei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4433760" y="1979640"/>
            <a:ext cx="4140360" cy="21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bereichs-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offbez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ektionsw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utzmaßna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halten bei Unfä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 Hil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4433760" y="5118120"/>
            <a:ext cx="41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Unterweisung (Dokumen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6"/>
          <p:cNvSpPr/>
          <p:nvPr/>
        </p:nvSpPr>
        <p:spPr>
          <a:xfrm>
            <a:off x="6207120" y="4254480"/>
            <a:ext cx="503280" cy="863640"/>
          </a:xfrm>
          <a:prstGeom prst="downArrow">
            <a:avLst>
              <a:gd name="adj1" fmla="val 50000"/>
              <a:gd name="adj2" fmla="val 4290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Grafik 6" descr=""/>
          <p:cNvPicPr/>
          <p:nvPr/>
        </p:nvPicPr>
        <p:blipFill>
          <a:blip r:embed="rId2"/>
          <a:stretch/>
        </p:blipFill>
        <p:spPr>
          <a:xfrm>
            <a:off x="7547040" y="5877000"/>
            <a:ext cx="898560" cy="898560"/>
          </a:xfrm>
          <a:prstGeom prst="rect">
            <a:avLst/>
          </a:prstGeom>
          <a:ln w="0">
            <a:noFill/>
          </a:ln>
        </p:spPr>
      </p:pic>
      <p:pic>
        <p:nvPicPr>
          <p:cNvPr id="188" name="Grafik 1" descr=""/>
          <p:cNvPicPr/>
          <p:nvPr/>
        </p:nvPicPr>
        <p:blipFill>
          <a:blip r:embed="rId3"/>
          <a:stretch/>
        </p:blipFill>
        <p:spPr>
          <a:xfrm>
            <a:off x="4433760" y="6307200"/>
            <a:ext cx="254160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Infektionspräventive Maßnahmen am Patienten und des Behandlungs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rcRect l="13449" t="4140" r="50998" b="7573"/>
          <a:stretch/>
        </p:blipFill>
        <p:spPr>
          <a:xfrm>
            <a:off x="5661000" y="2160720"/>
            <a:ext cx="3092400" cy="43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1" name="Grafik 6" descr=""/>
          <p:cNvPicPr/>
          <p:nvPr/>
        </p:nvPicPr>
        <p:blipFill>
          <a:blip r:embed="rId2"/>
          <a:stretch/>
        </p:blipFill>
        <p:spPr>
          <a:xfrm>
            <a:off x="4572000" y="2160720"/>
            <a:ext cx="758880" cy="758520"/>
          </a:xfrm>
          <a:prstGeom prst="rect">
            <a:avLst/>
          </a:prstGeom>
          <a:ln w="0">
            <a:noFill/>
          </a:ln>
        </p:spPr>
      </p:pic>
      <p:sp>
        <p:nvSpPr>
          <p:cNvPr id="192" name="Textfeld 3"/>
          <p:cNvSpPr/>
          <p:nvPr/>
        </p:nvSpPr>
        <p:spPr>
          <a:xfrm>
            <a:off x="684360" y="2160720"/>
            <a:ext cx="436248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IS-Handbuc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 Qualitätssicherung in der Zahnarztpraxis &gt;&gt;&gt;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15 Leitfaden "Hygiene und Medizinprodukte-Aufbereitung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formationen auf der LZK-Webse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uppieren 2"/>
          <p:cNvGrpSpPr/>
          <p:nvPr/>
        </p:nvGrpSpPr>
        <p:grpSpPr>
          <a:xfrm>
            <a:off x="655560" y="1628640"/>
            <a:ext cx="8388360" cy="4967280"/>
            <a:chOff x="655560" y="1628640"/>
            <a:chExt cx="8388360" cy="4967280"/>
          </a:xfrm>
        </p:grpSpPr>
        <p:pic>
          <p:nvPicPr>
            <p:cNvPr id="195" name="Rechteck 3" descr=""/>
            <p:cNvPicPr/>
            <p:nvPr/>
          </p:nvPicPr>
          <p:blipFill>
            <a:blip r:embed="rId1"/>
            <a:stretch/>
          </p:blipFill>
          <p:spPr>
            <a:xfrm>
              <a:off x="1115280" y="1628640"/>
              <a:ext cx="7473960" cy="70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6" name="Gruppieren 4"/>
            <p:cNvGrpSpPr/>
            <p:nvPr/>
          </p:nvGrpSpPr>
          <p:grpSpPr>
            <a:xfrm>
              <a:off x="655560" y="2456280"/>
              <a:ext cx="8388360" cy="4139640"/>
              <a:chOff x="655560" y="2456280"/>
              <a:chExt cx="8388360" cy="4139640"/>
            </a:xfrm>
          </p:grpSpPr>
          <p:pic>
            <p:nvPicPr>
              <p:cNvPr id="197" name="Grafik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130800" y="2456280"/>
                <a:ext cx="2913120" cy="41396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grpSp>
            <p:nvGrpSpPr>
              <p:cNvPr id="198" name="Gruppieren 6"/>
              <p:cNvGrpSpPr/>
              <p:nvPr/>
            </p:nvGrpSpPr>
            <p:grpSpPr>
              <a:xfrm>
                <a:off x="655560" y="3190680"/>
                <a:ext cx="5399640" cy="2440800"/>
                <a:chOff x="655560" y="3190680"/>
                <a:chExt cx="5399640" cy="2440800"/>
              </a:xfrm>
            </p:grpSpPr>
            <p:pic>
              <p:nvPicPr>
                <p:cNvPr id="199" name="Grafik 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55560" y="3190680"/>
                  <a:ext cx="5399640" cy="45864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pic>
              <p:nvPicPr>
                <p:cNvPr id="200" name="Grafik 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55560" y="3641760"/>
                  <a:ext cx="5399640" cy="198972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</p:grpSp>
        </p:grpSp>
      </p:grpSp>
      <p:sp>
        <p:nvSpPr>
          <p:cNvPr id="201" name="Textfeld 3"/>
          <p:cNvSpPr/>
          <p:nvPr/>
        </p:nvSpPr>
        <p:spPr>
          <a:xfrm>
            <a:off x="1660680" y="6292800"/>
            <a:ext cx="44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Deutsche AIDS-Hilfe e. V. und Bundeszahnärztekammer, Keine Angst v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HIV, HBV und HCV! Informationen für das zahnärztliche Behandlungsteam,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itelbla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Biostoff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3" descr=""/>
          <p:cNvPicPr/>
          <p:nvPr/>
        </p:nvPicPr>
        <p:blipFill>
          <a:blip r:embed="rId1"/>
          <a:stretch/>
        </p:blipFill>
        <p:spPr>
          <a:xfrm>
            <a:off x="4065480" y="2133720"/>
            <a:ext cx="4264200" cy="165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4" name="Rechteck 5"/>
          <p:cNvSpPr/>
          <p:nvPr/>
        </p:nvSpPr>
        <p:spPr>
          <a:xfrm>
            <a:off x="4065480" y="3328920"/>
            <a:ext cx="2092320" cy="4683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Grafik 6" descr=""/>
          <p:cNvPicPr/>
          <p:nvPr/>
        </p:nvPicPr>
        <p:blipFill>
          <a:blip r:embed="rId2"/>
          <a:stretch/>
        </p:blipFill>
        <p:spPr>
          <a:xfrm>
            <a:off x="888840" y="2160720"/>
            <a:ext cx="2926080" cy="460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6" name="Grafik 7" descr=""/>
          <p:cNvPicPr/>
          <p:nvPr/>
        </p:nvPicPr>
        <p:blipFill>
          <a:blip r:embed="rId3"/>
          <a:stretch/>
        </p:blipFill>
        <p:spPr>
          <a:xfrm>
            <a:off x="4065480" y="3871800"/>
            <a:ext cx="4071960" cy="289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592440"/>
            <a:ext cx="5921640" cy="2882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684360" y="1978200"/>
            <a:ext cx="8459640" cy="32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e - Defini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e - Risikogrup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e - Tätigkei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Übertragungsw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e - Betrieb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nfektionspräventive Maßnahmen am Patienten und des  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Behandlungs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Biostof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Grafik 1" descr="Biologische_Arbeitsstoffe.doc [Kompatibilitätsmodus] - Microsoft Word"/>
          <p:cNvPicPr/>
          <p:nvPr/>
        </p:nvPicPr>
        <p:blipFill>
          <a:blip r:embed="rId1"/>
          <a:srcRect l="15283" t="6757" r="51890" b="3279"/>
          <a:stretch/>
        </p:blipFill>
        <p:spPr>
          <a:xfrm>
            <a:off x="4464000" y="1692360"/>
            <a:ext cx="3392640" cy="504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3" name="Grafik 6" descr=""/>
          <p:cNvPicPr/>
          <p:nvPr/>
        </p:nvPicPr>
        <p:blipFill>
          <a:blip r:embed="rId2"/>
          <a:stretch/>
        </p:blipFill>
        <p:spPr>
          <a:xfrm>
            <a:off x="7945560" y="6191280"/>
            <a:ext cx="539640" cy="541440"/>
          </a:xfrm>
          <a:prstGeom prst="rect">
            <a:avLst/>
          </a:prstGeom>
          <a:ln w="0">
            <a:noFill/>
          </a:ln>
        </p:spPr>
      </p:pic>
      <p:sp>
        <p:nvSpPr>
          <p:cNvPr id="144" name="Textfeld 1"/>
          <p:cNvSpPr/>
          <p:nvPr/>
        </p:nvSpPr>
        <p:spPr>
          <a:xfrm>
            <a:off x="1116000" y="502920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Technische Regeln für Arbeitsstätten 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„Sicherheits- und Gesundheitsschutzkennzeichnung“ (ASR A1.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Grafik 2" descr=""/>
          <p:cNvPicPr/>
          <p:nvPr/>
        </p:nvPicPr>
        <p:blipFill>
          <a:blip r:embed="rId3"/>
          <a:stretch/>
        </p:blipFill>
        <p:spPr>
          <a:xfrm>
            <a:off x="1800360" y="3462480"/>
            <a:ext cx="1800000" cy="156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684360" y="179856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verordnung (BioStoff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3967200" y="2351160"/>
            <a:ext cx="5003640" cy="29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isikogruppen für Biostof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zielte und nicht gezielt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Tätig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ährdungsbeurtei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Schutzmaßna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nter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rbeitsmedizinische Vors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Grafik 1" descr="BioStoffV.pdf - Adobe Reader"/>
          <p:cNvPicPr/>
          <p:nvPr/>
        </p:nvPicPr>
        <p:blipFill>
          <a:blip r:embed="rId1"/>
          <a:srcRect l="33959" t="8943" r="32292" b="2258"/>
          <a:stretch/>
        </p:blipFill>
        <p:spPr>
          <a:xfrm>
            <a:off x="795240" y="2205000"/>
            <a:ext cx="3009960" cy="43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Biostoffe -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684360" y="1978200"/>
            <a:ext cx="8459640" cy="37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ikroorganismen, Zellkulturen und Endoparasiten, die beim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enschen Infektionen oder sensibilisierende bzw. toxisch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 Wirkungen hervorrufen könn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ögliche Infektionserreger in der Zahnheilkun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Bakter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Pil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Vi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Einzeller / Paras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Pr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e werden entsprechend dem von ihnen ausgehende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Infektionsrisiko in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4 Risikogrupp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eingetei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iostoffe - Risikogrup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684360" y="1978200"/>
            <a:ext cx="8459640" cy="38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 Blut übertragbare Erreger in der Zahnheilkunde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- Hepatitis-B-Viren (HBV)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3**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**: Keine Luftweg-Übertragung</a:t>
            </a:r>
            <a:br>
              <a:rPr sz="1800"/>
            </a:b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- Hepatitis-C-Viren (HCV)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3**</a:t>
            </a:r>
            <a:br>
              <a:rPr sz="1800"/>
            </a:b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- HIV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3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wiegend durch direkten oder indirekte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takt übertragene Erreger wie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-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Herpes-simplex-Viren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2</a:t>
            </a:r>
            <a:br>
              <a:rPr sz="1800"/>
            </a:b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- Staphylokokken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wiegend durch Tröpfchen übertragen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reger wie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-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Mycobakterium tuberculosis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Grafik 1" descr="Schutzmassnahmen_MRSA-Patienten.pdf - Adobe Acrobat Reader DC"/>
          <p:cNvPicPr/>
          <p:nvPr/>
        </p:nvPicPr>
        <p:blipFill>
          <a:blip r:embed="rId1"/>
          <a:srcRect l="25567" t="12475" r="41605" b="1657"/>
          <a:stretch/>
        </p:blipFill>
        <p:spPr>
          <a:xfrm>
            <a:off x="6391440" y="2768760"/>
            <a:ext cx="2700000" cy="385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5" name="Grafik 6" descr=""/>
          <p:cNvPicPr/>
          <p:nvPr/>
        </p:nvPicPr>
        <p:blipFill>
          <a:blip r:embed="rId2"/>
          <a:stretch/>
        </p:blipFill>
        <p:spPr>
          <a:xfrm>
            <a:off x="5400720" y="5721480"/>
            <a:ext cx="898560" cy="898560"/>
          </a:xfrm>
          <a:prstGeom prst="rect">
            <a:avLst/>
          </a:prstGeom>
          <a:ln w="0">
            <a:noFill/>
          </a:ln>
        </p:spPr>
      </p:pic>
      <p:pic>
        <p:nvPicPr>
          <p:cNvPr id="156" name="Rechteck 4" descr=""/>
          <p:cNvPicPr/>
          <p:nvPr/>
        </p:nvPicPr>
        <p:blipFill>
          <a:blip r:embed="rId3"/>
          <a:stretch/>
        </p:blipFill>
        <p:spPr>
          <a:xfrm>
            <a:off x="5400720" y="3962520"/>
            <a:ext cx="3597120" cy="70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iostoffe - Tätigke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684360" y="1978200"/>
            <a:ext cx="8459640" cy="20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Tätigkeiten in einer Zahnarztpraxis sind grundsätzlich al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nicht gezielte Tätigkeiten der Risikogruppe 2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estuf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erzu gehört auch die Behandlung von HIV- oder HBV-infiziert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tienten. Es sei denn, es wird mit starkem Verspritzen gerech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 der Risikogruppe leitet sich die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chutzstufe mit den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entsprechenden Schutzmaßnahm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Grafik 1" descr=""/>
          <p:cNvPicPr/>
          <p:nvPr/>
        </p:nvPicPr>
        <p:blipFill>
          <a:blip r:embed="rId1"/>
          <a:stretch/>
        </p:blipFill>
        <p:spPr>
          <a:xfrm>
            <a:off x="5743440" y="674640"/>
            <a:ext cx="2880000" cy="128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 Box 6"/>
          <p:cNvSpPr/>
          <p:nvPr/>
        </p:nvSpPr>
        <p:spPr>
          <a:xfrm>
            <a:off x="6367320" y="5614920"/>
            <a:ext cx="27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zielte Tätig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6419880" y="5037120"/>
            <a:ext cx="264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Krankenhauslab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1382760" y="5594400"/>
            <a:ext cx="3355920" cy="398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Nicht gezielte Tätig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1908000" y="5040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Zahnarztpr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826920" y="4897440"/>
            <a:ext cx="4392720" cy="1395360"/>
          </a:xfrm>
          <a:prstGeom prst="rect">
            <a:avLst/>
          </a:prstGeom>
          <a:noFill/>
          <a:ln w="63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7"/>
          <p:cNvSpPr/>
          <p:nvPr/>
        </p:nvSpPr>
        <p:spPr>
          <a:xfrm>
            <a:off x="5435640" y="5324400"/>
            <a:ext cx="1008000" cy="540000"/>
          </a:xfrm>
          <a:prstGeom prst="leftRightArrow">
            <a:avLst>
              <a:gd name="adj1" fmla="val 50000"/>
              <a:gd name="adj2" fmla="val 40047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5-08-08T05:54:59Z</dcterms:modified>
  <cp:revision>18</cp:revision>
  <dc:subject/>
  <dc:title/>
</cp:coreProperties>
</file>