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4.png" ContentType="image/png"/>
  <Override PartName="/ppt/media/image10.jpeg" ContentType="image/jpeg"/>
  <Override PartName="/ppt/media/image25.png" ContentType="image/png"/>
  <Override PartName="/ppt/media/image40.png" ContentType="image/png"/>
  <Override PartName="/ppt/media/image11.png" ContentType="image/png"/>
  <Override PartName="/ppt/media/image13.png" ContentType="image/png"/>
  <Override PartName="/ppt/media/image38.png" ContentType="image/png"/>
  <Override PartName="/ppt/media/image8.jpeg" ContentType="image/jpeg"/>
  <Override PartName="/ppt/media/image35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6.png" ContentType="image/png"/>
  <Override PartName="/ppt/media/image41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32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96E58F-8CA7-4234-8694-6889E3433D1B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385" name="Grafik 9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25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26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EC7C0B-7631-449B-A10D-7997B4A792EC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itel 1"/>
          <p:cNvSpPr/>
          <p:nvPr/>
        </p:nvSpPr>
        <p:spPr>
          <a:xfrm>
            <a:off x="684360" y="971640"/>
            <a:ext cx="828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 1 Ze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6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6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197F31-6B3D-4AB1-983F-F52280CC431A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itel 1"/>
          <p:cNvSpPr/>
          <p:nvPr/>
        </p:nvSpPr>
        <p:spPr>
          <a:xfrm>
            <a:off x="684360" y="971640"/>
            <a:ext cx="8280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2 Ze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509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510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846B05-23BE-4FD3-899A-A81ACD4C67C4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4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5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9191C0-3CE9-41FC-A90F-B9F2AB96172B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5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6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3F328A-0D24-41CE-8E8C-A574AF902B5A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130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170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171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014E0F-3779-4F7A-8CEB-517E75FC9F5A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hteck 2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F56E57-B1C9-40AB-9076-E8B1068F92BB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21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5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25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5354D8-2561-44F5-B5CF-BF60DAA839A9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itel 1"/>
          <p:cNvSpPr/>
          <p:nvPr/>
        </p:nvSpPr>
        <p:spPr>
          <a:xfrm>
            <a:off x="684360" y="971640"/>
            <a:ext cx="828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 1 Ze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99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300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3FA9ED-CB06-4C1F-BA9D-1C2E238E70C9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itel 1"/>
          <p:cNvSpPr/>
          <p:nvPr/>
        </p:nvSpPr>
        <p:spPr>
          <a:xfrm>
            <a:off x="684360" y="971640"/>
            <a:ext cx="8280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2 Ze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41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342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0CA349-9CA0-4017-9D6F-D56597549331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12.jpe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2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1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2.jpe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5"/>
          <p:cNvSpPr/>
          <p:nvPr/>
        </p:nvSpPr>
        <p:spPr>
          <a:xfrm>
            <a:off x="1800360" y="2952720"/>
            <a:ext cx="5022720" cy="17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beitsmedizinische Vorso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nd Immunis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2"/>
          <p:cNvSpPr/>
          <p:nvPr/>
        </p:nvSpPr>
        <p:spPr>
          <a:xfrm>
            <a:off x="684360" y="835200"/>
            <a:ext cx="84596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autgefährdung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Feuchtarb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feld 8"/>
          <p:cNvSpPr/>
          <p:nvPr/>
        </p:nvSpPr>
        <p:spPr>
          <a:xfrm>
            <a:off x="777960" y="2645280"/>
            <a:ext cx="8210520" cy="1008720"/>
          </a:xfrm>
          <a:prstGeom prst="rect">
            <a:avLst/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700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- Tätigkeitsbedingt mehr als 5-mal pro Arbeitstag Händewaschen?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- Im häufigen Wechsel mit Tragen flüssigkeitsdicht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Handschuh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feil: nach rechts 9"/>
          <p:cNvSpPr/>
          <p:nvPr/>
        </p:nvSpPr>
        <p:spPr>
          <a:xfrm rot="5400000">
            <a:off x="4498920" y="3868920"/>
            <a:ext cx="619200" cy="39672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feil: nach rechts 11"/>
          <p:cNvSpPr/>
          <p:nvPr/>
        </p:nvSpPr>
        <p:spPr>
          <a:xfrm rot="5400000">
            <a:off x="4481640" y="2033640"/>
            <a:ext cx="660240" cy="39672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feld 13"/>
          <p:cNvSpPr/>
          <p:nvPr/>
        </p:nvSpPr>
        <p:spPr>
          <a:xfrm>
            <a:off x="777960" y="4450320"/>
            <a:ext cx="8211960" cy="398880"/>
          </a:xfrm>
          <a:prstGeom prst="rect">
            <a:avLst/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ersonenbezogene Festl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Grafik 15" descr=""/>
          <p:cNvPicPr/>
          <p:nvPr/>
        </p:nvPicPr>
        <p:blipFill>
          <a:blip r:embed="rId1"/>
          <a:stretch/>
        </p:blipFill>
        <p:spPr>
          <a:xfrm>
            <a:off x="777960" y="3882960"/>
            <a:ext cx="1431720" cy="9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2" name="Pfeil: nach rechts 18"/>
          <p:cNvSpPr/>
          <p:nvPr/>
        </p:nvSpPr>
        <p:spPr>
          <a:xfrm rot="5400000">
            <a:off x="2018880" y="5351400"/>
            <a:ext cx="1201680" cy="3985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feld 19"/>
          <p:cNvSpPr/>
          <p:nvPr/>
        </p:nvSpPr>
        <p:spPr>
          <a:xfrm>
            <a:off x="784080" y="6068160"/>
            <a:ext cx="3672000" cy="703800"/>
          </a:xfrm>
          <a:prstGeom prst="rect">
            <a:avLst/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ngebotsvorsorge (eh. G 2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feld 26"/>
          <p:cNvSpPr/>
          <p:nvPr/>
        </p:nvSpPr>
        <p:spPr>
          <a:xfrm>
            <a:off x="777960" y="5364000"/>
            <a:ext cx="1731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ändewaschen: 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&gt; 5 - ≤ 10-mal/ Arbeitst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feld 27"/>
          <p:cNvSpPr/>
          <p:nvPr/>
        </p:nvSpPr>
        <p:spPr>
          <a:xfrm>
            <a:off x="2678040" y="5364000"/>
            <a:ext cx="1586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andschuhtragezeit: 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&gt; 2 h/Arbeitst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feil: nach rechts 30"/>
          <p:cNvSpPr/>
          <p:nvPr/>
        </p:nvSpPr>
        <p:spPr>
          <a:xfrm rot="5400000">
            <a:off x="6602040" y="5362560"/>
            <a:ext cx="1190520" cy="3970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feld 31"/>
          <p:cNvSpPr/>
          <p:nvPr/>
        </p:nvSpPr>
        <p:spPr>
          <a:xfrm>
            <a:off x="5364000" y="6222240"/>
            <a:ext cx="3672000" cy="398880"/>
          </a:xfrm>
          <a:prstGeom prst="rect">
            <a:avLst/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flichtvorsorge (eh. G 2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feld 34"/>
          <p:cNvSpPr/>
          <p:nvPr/>
        </p:nvSpPr>
        <p:spPr>
          <a:xfrm>
            <a:off x="5473800" y="5361120"/>
            <a:ext cx="1727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ändewaschen: 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&gt; 10-mal/ Arbeitst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feld 35"/>
          <p:cNvSpPr/>
          <p:nvPr/>
        </p:nvSpPr>
        <p:spPr>
          <a:xfrm>
            <a:off x="7197840" y="5364000"/>
            <a:ext cx="1731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andschuhtragezeit: 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≥ 4 h/Arbeitst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feld 38"/>
          <p:cNvSpPr/>
          <p:nvPr/>
        </p:nvSpPr>
        <p:spPr>
          <a:xfrm>
            <a:off x="777960" y="1435680"/>
            <a:ext cx="821196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fährdungsbeurteilung „Arbeitsmedizinische Vorsorg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Grafik 2" descr=""/>
          <p:cNvPicPr/>
          <p:nvPr/>
        </p:nvPicPr>
        <p:blipFill>
          <a:blip r:embed="rId1"/>
          <a:stretch/>
        </p:blipFill>
        <p:spPr>
          <a:xfrm>
            <a:off x="684360" y="2058840"/>
            <a:ext cx="8308800" cy="3578400"/>
          </a:xfrm>
          <a:prstGeom prst="rect">
            <a:avLst/>
          </a:prstGeom>
          <a:ln w="0">
            <a:noFill/>
          </a:ln>
        </p:spPr>
      </p:pic>
      <p:sp>
        <p:nvSpPr>
          <p:cNvPr id="612" name="Rectangle 4"/>
          <p:cNvSpPr/>
          <p:nvPr/>
        </p:nvSpPr>
        <p:spPr>
          <a:xfrm>
            <a:off x="7210440" y="2077920"/>
            <a:ext cx="900000" cy="35276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5"/>
          <p:cNvSpPr/>
          <p:nvPr/>
        </p:nvSpPr>
        <p:spPr>
          <a:xfrm>
            <a:off x="3722760" y="2077920"/>
            <a:ext cx="1349280" cy="35276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Vorsorge eh. G 24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- Hauterkrank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ngebotsvorso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Grafik 2" descr=""/>
          <p:cNvPicPr/>
          <p:nvPr/>
        </p:nvPicPr>
        <p:blipFill>
          <a:blip r:embed="rId1"/>
          <a:stretch/>
        </p:blipFill>
        <p:spPr>
          <a:xfrm>
            <a:off x="684360" y="2058840"/>
            <a:ext cx="8312040" cy="44038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4"/>
          <p:cNvSpPr/>
          <p:nvPr/>
        </p:nvSpPr>
        <p:spPr>
          <a:xfrm>
            <a:off x="7248600" y="2068560"/>
            <a:ext cx="933480" cy="409716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5"/>
          <p:cNvSpPr/>
          <p:nvPr/>
        </p:nvSpPr>
        <p:spPr>
          <a:xfrm>
            <a:off x="3741840" y="2068560"/>
            <a:ext cx="1330200" cy="409716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Vorsorge eh. G 24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- Hauterkrank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Pflichtvorso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feld 1"/>
          <p:cNvSpPr/>
          <p:nvPr/>
        </p:nvSpPr>
        <p:spPr>
          <a:xfrm>
            <a:off x="1028880" y="1800720"/>
            <a:ext cx="755964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fährdungsbeurteilung „Arbeitsmedizinische Vorsorg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feil: nach rechts 2"/>
          <p:cNvSpPr/>
          <p:nvPr/>
        </p:nvSpPr>
        <p:spPr>
          <a:xfrm rot="5400000">
            <a:off x="4496040" y="24357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feld 4"/>
          <p:cNvSpPr/>
          <p:nvPr/>
        </p:nvSpPr>
        <p:spPr>
          <a:xfrm>
            <a:off x="1028880" y="3053160"/>
            <a:ext cx="7559640" cy="70380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Wer arbeitet „ununterbrochen“ (≥ 1 h/Arbeitstag)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n einem Bildschirmarbeitsplatz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feil: nach rechts 6"/>
          <p:cNvSpPr/>
          <p:nvPr/>
        </p:nvSpPr>
        <p:spPr>
          <a:xfrm rot="5400000">
            <a:off x="4502880" y="3948840"/>
            <a:ext cx="610920" cy="3967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feil: nach rechts 7"/>
          <p:cNvSpPr/>
          <p:nvPr/>
        </p:nvSpPr>
        <p:spPr>
          <a:xfrm rot="5400000">
            <a:off x="4487400" y="5195520"/>
            <a:ext cx="612720" cy="39708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feld 9"/>
          <p:cNvSpPr/>
          <p:nvPr/>
        </p:nvSpPr>
        <p:spPr>
          <a:xfrm>
            <a:off x="1028880" y="4558320"/>
            <a:ext cx="7559640" cy="3988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ersonenbezogene Festl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feld 10"/>
          <p:cNvSpPr/>
          <p:nvPr/>
        </p:nvSpPr>
        <p:spPr>
          <a:xfrm>
            <a:off x="1028880" y="5804280"/>
            <a:ext cx="7559640" cy="3988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ngebotsvorsorge (eh. G 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2"/>
          <p:cNvSpPr/>
          <p:nvPr/>
        </p:nvSpPr>
        <p:spPr>
          <a:xfrm>
            <a:off x="684360" y="971640"/>
            <a:ext cx="84596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Tätigkeiten an Bildschirmgerä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Grafik 20" descr=""/>
          <p:cNvPicPr/>
          <p:nvPr/>
        </p:nvPicPr>
        <p:blipFill>
          <a:blip r:embed="rId1"/>
          <a:stretch/>
        </p:blipFill>
        <p:spPr>
          <a:xfrm>
            <a:off x="7139160" y="4208400"/>
            <a:ext cx="1800000" cy="11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28" name="Grafik 5" descr=""/>
          <p:cNvPicPr/>
          <p:nvPr/>
        </p:nvPicPr>
        <p:blipFill>
          <a:blip r:embed="rId2"/>
          <a:stretch/>
        </p:blipFill>
        <p:spPr>
          <a:xfrm>
            <a:off x="1576440" y="5003640"/>
            <a:ext cx="1093680" cy="18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Grafik 1" descr="Arbeitsmedizinische_Vorsorgeuntersuchungen - Microsoft Word"/>
          <p:cNvPicPr/>
          <p:nvPr/>
        </p:nvPicPr>
        <p:blipFill>
          <a:blip r:embed="rId1"/>
          <a:srcRect l="14812" t="22589" r="12075" b="6488"/>
          <a:stretch/>
        </p:blipFill>
        <p:spPr>
          <a:xfrm>
            <a:off x="628560" y="2060640"/>
            <a:ext cx="8460000" cy="447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0" name="Rectangle 4"/>
          <p:cNvSpPr/>
          <p:nvPr/>
        </p:nvSpPr>
        <p:spPr>
          <a:xfrm>
            <a:off x="2360520" y="2084400"/>
            <a:ext cx="1817640" cy="39956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4233960" y="5380200"/>
            <a:ext cx="270828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0070c0"/>
                </a:solidFill>
                <a:latin typeface="Arial"/>
                <a:ea typeface="Arial"/>
              </a:rPr>
              <a:t>≥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1 h ununterbrochene </a:t>
            </a:r>
            <a:br>
              <a:rPr sz="1800"/>
            </a:b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        Bildschirmarb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6"/>
          <p:cNvSpPr/>
          <p:nvPr/>
        </p:nvSpPr>
        <p:spPr>
          <a:xfrm>
            <a:off x="7253280" y="2079720"/>
            <a:ext cx="900000" cy="400032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Vorsorge eh. G 37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- Bildschirmtätigk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ngebotsvorso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Text Box 3"/>
          <p:cNvSpPr/>
          <p:nvPr/>
        </p:nvSpPr>
        <p:spPr>
          <a:xfrm>
            <a:off x="684360" y="2160720"/>
            <a:ext cx="845964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kartei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ngaben, dass, wann und aus welchen Anlässe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arbeitsmedizinische Vorsorge stattgefunden hat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Empfehlung: Muster-Vorsorgekartei mit den ärztlichen Vorsorge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bescheinigungen (Muster im PRAXIS-Handbuch: 3.1.6 Formular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&gt;&gt;&gt; 3.1.6.1 Arbeitsmedizinische Vorsor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Ärztliche Vorsorgebescheinigun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rbeitsmedizinische Vorsorg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Vorsorge-kartei und Vorsorgebescheinig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7"/>
          <p:cNvGrpSpPr/>
          <p:nvPr/>
        </p:nvGrpSpPr>
        <p:grpSpPr>
          <a:xfrm>
            <a:off x="6396120" y="3537000"/>
            <a:ext cx="2526480" cy="3001320"/>
            <a:chOff x="6396120" y="3537000"/>
            <a:chExt cx="2526480" cy="3001320"/>
          </a:xfrm>
        </p:grpSpPr>
        <p:pic>
          <p:nvPicPr>
            <p:cNvPr id="637" name="Picture 5" descr="Vorsorgekartei"/>
            <p:cNvPicPr/>
            <p:nvPr/>
          </p:nvPicPr>
          <p:blipFill>
            <a:blip r:embed="rId1"/>
            <a:stretch/>
          </p:blipFill>
          <p:spPr>
            <a:xfrm rot="21300000">
              <a:off x="6497640" y="3597120"/>
              <a:ext cx="1486440" cy="239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6" descr="Ärztliche Bescheinigung"/>
            <p:cNvPicPr/>
            <p:nvPr/>
          </p:nvPicPr>
          <p:blipFill>
            <a:blip r:embed="rId2"/>
            <a:stretch/>
          </p:blipFill>
          <p:spPr>
            <a:xfrm rot="300000">
              <a:off x="7297560" y="4020840"/>
              <a:ext cx="1520640" cy="2455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9" name="Grafik 7" descr=""/>
          <p:cNvPicPr/>
          <p:nvPr/>
        </p:nvPicPr>
        <p:blipFill>
          <a:blip r:embed="rId3"/>
          <a:stretch/>
        </p:blipFill>
        <p:spPr>
          <a:xfrm>
            <a:off x="939960" y="4292640"/>
            <a:ext cx="314928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0" name="Grafik 6" descr=""/>
          <p:cNvPicPr/>
          <p:nvPr/>
        </p:nvPicPr>
        <p:blipFill>
          <a:blip r:embed="rId4"/>
          <a:stretch/>
        </p:blipFill>
        <p:spPr>
          <a:xfrm>
            <a:off x="3819600" y="5459400"/>
            <a:ext cx="539640" cy="539640"/>
          </a:xfrm>
          <a:prstGeom prst="rect">
            <a:avLst/>
          </a:prstGeom>
          <a:ln w="0">
            <a:noFill/>
          </a:ln>
        </p:spPr>
      </p:pic>
      <p:pic>
        <p:nvPicPr>
          <p:cNvPr id="641" name="Grafik 1" descr=""/>
          <p:cNvPicPr/>
          <p:nvPr/>
        </p:nvPicPr>
        <p:blipFill>
          <a:blip r:embed="rId5"/>
          <a:stretch/>
        </p:blipFill>
        <p:spPr>
          <a:xfrm>
            <a:off x="1577880" y="6408720"/>
            <a:ext cx="1873440" cy="3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2" name="Textfeld 3"/>
          <p:cNvSpPr/>
          <p:nvPr/>
        </p:nvSpPr>
        <p:spPr>
          <a:xfrm>
            <a:off x="7157880" y="662940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as ist zu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okumentieren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3"/>
          <p:cNvSpPr/>
          <p:nvPr/>
        </p:nvSpPr>
        <p:spPr>
          <a:xfrm>
            <a:off x="684360" y="1978200"/>
            <a:ext cx="845964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Unterweis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Information und Aufklärung der Beschäftigte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Angebo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r Vorsorge (Angebotsvorsor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eranlass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r Vorsorge (Pflichtvorsor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kartei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Ärztliche Vorsorgebescheinigun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Aufbewahrung: 10 Jahre nach der letzten Vorsorge (Ausnahme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siehe AMR 6.1). Nach dem Ausscheiden erhält der Arbeitnehm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eine Kop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Grafik 2" descr=""/>
          <p:cNvPicPr/>
          <p:nvPr/>
        </p:nvPicPr>
        <p:blipFill>
          <a:blip r:embed="rId1"/>
          <a:stretch/>
        </p:blipFill>
        <p:spPr>
          <a:xfrm>
            <a:off x="2374920" y="4248000"/>
            <a:ext cx="1579680" cy="25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6" name="Grafik 4" descr=""/>
          <p:cNvPicPr/>
          <p:nvPr/>
        </p:nvPicPr>
        <p:blipFill>
          <a:blip r:embed="rId2"/>
          <a:stretch/>
        </p:blipFill>
        <p:spPr>
          <a:xfrm>
            <a:off x="4381560" y="4248000"/>
            <a:ext cx="3382920" cy="25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7" name="Grafik 6" descr=""/>
          <p:cNvPicPr/>
          <p:nvPr/>
        </p:nvPicPr>
        <p:blipFill>
          <a:blip r:embed="rId3"/>
          <a:stretch/>
        </p:blipFill>
        <p:spPr>
          <a:xfrm>
            <a:off x="3898800" y="6138720"/>
            <a:ext cx="540000" cy="5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suchung von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Jugendlichen (15-17 J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Grafik 2" descr=""/>
          <p:cNvPicPr/>
          <p:nvPr/>
        </p:nvPicPr>
        <p:blipFill>
          <a:blip r:embed="rId1"/>
          <a:stretch/>
        </p:blipFill>
        <p:spPr>
          <a:xfrm>
            <a:off x="620640" y="1709640"/>
            <a:ext cx="8460000" cy="429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0" name="Rechteck 1" descr=""/>
          <p:cNvPicPr/>
          <p:nvPr/>
        </p:nvPicPr>
        <p:blipFill>
          <a:blip r:embed="rId2"/>
          <a:stretch/>
        </p:blipFill>
        <p:spPr>
          <a:xfrm>
            <a:off x="822240" y="6175440"/>
            <a:ext cx="7572600" cy="646200"/>
          </a:xfrm>
          <a:prstGeom prst="rect">
            <a:avLst/>
          </a:prstGeom>
          <a:ln w="0">
            <a:noFill/>
          </a:ln>
        </p:spPr>
      </p:pic>
      <p:pic>
        <p:nvPicPr>
          <p:cNvPr id="651" name="Grafik 6" descr=""/>
          <p:cNvPicPr/>
          <p:nvPr/>
        </p:nvPicPr>
        <p:blipFill>
          <a:blip r:embed="rId3"/>
          <a:stretch/>
        </p:blipFill>
        <p:spPr>
          <a:xfrm>
            <a:off x="8540640" y="6110280"/>
            <a:ext cx="540000" cy="539640"/>
          </a:xfrm>
          <a:prstGeom prst="rect">
            <a:avLst/>
          </a:prstGeom>
          <a:ln w="0">
            <a:noFill/>
          </a:ln>
        </p:spPr>
      </p:pic>
      <p:pic>
        <p:nvPicPr>
          <p:cNvPr id="652" name="Grafik 1" descr=""/>
          <p:cNvPicPr/>
          <p:nvPr/>
        </p:nvPicPr>
        <p:blipFill>
          <a:blip r:embed="rId4"/>
          <a:stretch/>
        </p:blipFill>
        <p:spPr>
          <a:xfrm>
            <a:off x="2925720" y="5830920"/>
            <a:ext cx="384984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rkbla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Grafik 6" descr=""/>
          <p:cNvPicPr/>
          <p:nvPr/>
        </p:nvPicPr>
        <p:blipFill>
          <a:blip r:embed="rId1"/>
          <a:stretch/>
        </p:blipFill>
        <p:spPr>
          <a:xfrm>
            <a:off x="6810480" y="6173640"/>
            <a:ext cx="539640" cy="540000"/>
          </a:xfrm>
          <a:prstGeom prst="rect">
            <a:avLst/>
          </a:prstGeom>
          <a:ln w="0">
            <a:noFill/>
          </a:ln>
        </p:spPr>
      </p:pic>
      <p:pic>
        <p:nvPicPr>
          <p:cNvPr id="655" name="Grafik 5" descr=""/>
          <p:cNvPicPr/>
          <p:nvPr/>
        </p:nvPicPr>
        <p:blipFill>
          <a:blip r:embed="rId2"/>
          <a:stretch/>
        </p:blipFill>
        <p:spPr>
          <a:xfrm>
            <a:off x="3087720" y="4149720"/>
            <a:ext cx="3651120" cy="256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6" name="Text Box 3"/>
          <p:cNvSpPr/>
          <p:nvPr/>
        </p:nvSpPr>
        <p:spPr>
          <a:xfrm>
            <a:off x="684360" y="1979640"/>
            <a:ext cx="8459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Gefährdungsbeurteilung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uf der Basis der im Anhang 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ArbMedVV genannten Tätigkeiten/Expositionen werden der 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anlass/die Vorsorgeanläss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 die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ar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ermittelt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Personenbezogene Festleg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Muster im PRAXIS-Handbuch: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.1.6 Formulare &gt;&gt;&gt; 3.1.6.1 Arbeitsmedizinische Vorsor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feld 1"/>
          <p:cNvSpPr/>
          <p:nvPr/>
        </p:nvSpPr>
        <p:spPr>
          <a:xfrm>
            <a:off x="878040" y="1802160"/>
            <a:ext cx="792000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fährdungsbeurteilung „Arbeitsmedizinische Vorsorg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feil: nach rechts 2"/>
          <p:cNvSpPr/>
          <p:nvPr/>
        </p:nvSpPr>
        <p:spPr>
          <a:xfrm rot="5400000">
            <a:off x="4496040" y="24357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feld 4"/>
          <p:cNvSpPr/>
          <p:nvPr/>
        </p:nvSpPr>
        <p:spPr>
          <a:xfrm>
            <a:off x="878040" y="3067560"/>
            <a:ext cx="7905600" cy="3988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Wer arbeitet potentiell infektionsgefährde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feil: nach rechts 7"/>
          <p:cNvSpPr/>
          <p:nvPr/>
        </p:nvSpPr>
        <p:spPr>
          <a:xfrm rot="5400000">
            <a:off x="4649400" y="3603600"/>
            <a:ext cx="368280" cy="23796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feld 10"/>
          <p:cNvSpPr/>
          <p:nvPr/>
        </p:nvSpPr>
        <p:spPr>
          <a:xfrm>
            <a:off x="878040" y="3970800"/>
            <a:ext cx="7905600" cy="3988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flichtvorsorge „infektionsgefährdende Tätigkeiten“ (eh. G 4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Grafik 3" descr=""/>
          <p:cNvPicPr/>
          <p:nvPr/>
        </p:nvPicPr>
        <p:blipFill>
          <a:blip r:embed="rId1"/>
          <a:stretch/>
        </p:blipFill>
        <p:spPr>
          <a:xfrm>
            <a:off x="878040" y="2282760"/>
            <a:ext cx="934920" cy="7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3" name="Grafik 5" descr=""/>
          <p:cNvPicPr/>
          <p:nvPr/>
        </p:nvPicPr>
        <p:blipFill>
          <a:blip r:embed="rId2"/>
          <a:stretch/>
        </p:blipFill>
        <p:spPr>
          <a:xfrm>
            <a:off x="1938240" y="2282760"/>
            <a:ext cx="936720" cy="7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4" name="Grafik 1" descr=""/>
          <p:cNvPicPr/>
          <p:nvPr/>
        </p:nvPicPr>
        <p:blipFill>
          <a:blip r:embed="rId3"/>
          <a:stretch/>
        </p:blipFill>
        <p:spPr>
          <a:xfrm>
            <a:off x="2989440" y="2282760"/>
            <a:ext cx="934920" cy="7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5" name="Rectangle 2"/>
          <p:cNvSpPr/>
          <p:nvPr/>
        </p:nvSpPr>
        <p:spPr>
          <a:xfrm>
            <a:off x="684360" y="971640"/>
            <a:ext cx="84596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mmunisierung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Hepatitis-Impf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feld 13"/>
          <p:cNvSpPr/>
          <p:nvPr/>
        </p:nvSpPr>
        <p:spPr>
          <a:xfrm>
            <a:off x="878040" y="4726440"/>
            <a:ext cx="7920000" cy="100872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ngebo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für Hepatitis-B-Schutzimpfung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ngestelltes Reinigungspersonal: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ngebo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HAV + HBV-Impf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3"/>
          <p:cNvSpPr/>
          <p:nvPr/>
        </p:nvSpPr>
        <p:spPr>
          <a:xfrm>
            <a:off x="684360" y="5688000"/>
            <a:ext cx="8459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 Dokumentation des Impfangebots.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 Die Ablehnung eines Impfangebotes ist allein kein Grund, gesundheitliche Bedenken gegen die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Ausübung einer Tätigkeit auszusprechen (Dokumentation).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1400" spc="-1" strike="noStrike">
                <a:solidFill>
                  <a:srgbClr val="0070c0"/>
                </a:solidFill>
                <a:latin typeface="Arial"/>
              </a:rPr>
              <a:t>Kosten: Beschluss des G-BA </a:t>
            </a:r>
            <a:r>
              <a:rPr b="1" lang="de-DE" sz="1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400" spc="-1" strike="noStrike">
                <a:solidFill>
                  <a:srgbClr val="0070c0"/>
                </a:solidFill>
                <a:latin typeface="Arial"/>
              </a:rPr>
              <a:t> Kosten der Immunisierung trägt die GKV (Abklärung im Vorfeld </a:t>
            </a:r>
            <a:br>
              <a:rPr sz="1400"/>
            </a:br>
            <a:r>
              <a:rPr b="1" lang="de-DE" sz="1400" spc="-1" strike="noStrike">
                <a:solidFill>
                  <a:srgbClr val="0070c0"/>
                </a:solidFill>
                <a:latin typeface="Arial"/>
              </a:rPr>
              <a:t>  der Immunisierung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feil: nach rechts 15"/>
          <p:cNvSpPr/>
          <p:nvPr/>
        </p:nvSpPr>
        <p:spPr>
          <a:xfrm rot="5400000">
            <a:off x="4650120" y="4506120"/>
            <a:ext cx="366840" cy="237960"/>
          </a:xfrm>
          <a:prstGeom prst="rightArrow">
            <a:avLst>
              <a:gd name="adj1" fmla="val 50000"/>
              <a:gd name="adj2" fmla="val 50052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Grafik 6" descr=""/>
          <p:cNvPicPr/>
          <p:nvPr/>
        </p:nvPicPr>
        <p:blipFill>
          <a:blip r:embed="rId4"/>
          <a:stretch/>
        </p:blipFill>
        <p:spPr>
          <a:xfrm>
            <a:off x="7745400" y="3186000"/>
            <a:ext cx="1260360" cy="7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70" name="Textfeld 3"/>
          <p:cNvSpPr/>
          <p:nvPr/>
        </p:nvSpPr>
        <p:spPr>
          <a:xfrm rot="16200000">
            <a:off x="-147600" y="255888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Grafik 3" descr=""/>
          <p:cNvPicPr/>
          <p:nvPr/>
        </p:nvPicPr>
        <p:blipFill>
          <a:blip r:embed="rId5"/>
          <a:stretch/>
        </p:blipFill>
        <p:spPr>
          <a:xfrm>
            <a:off x="4946760" y="5640480"/>
            <a:ext cx="385596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feld 1"/>
          <p:cNvSpPr/>
          <p:nvPr/>
        </p:nvSpPr>
        <p:spPr>
          <a:xfrm>
            <a:off x="684360" y="1802160"/>
            <a:ext cx="827064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Alle Personen, die in einer Zahnarztpraxis tätig s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feil: nach rechts 2"/>
          <p:cNvSpPr/>
          <p:nvPr/>
        </p:nvSpPr>
        <p:spPr>
          <a:xfrm rot="5400000">
            <a:off x="4496040" y="24357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feld 4"/>
          <p:cNvSpPr/>
          <p:nvPr/>
        </p:nvSpPr>
        <p:spPr>
          <a:xfrm>
            <a:off x="684360" y="3067560"/>
            <a:ext cx="8270640" cy="3988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ersonen mit Geburtsjahrgang 1971 und jün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feld 10"/>
          <p:cNvSpPr/>
          <p:nvPr/>
        </p:nvSpPr>
        <p:spPr>
          <a:xfrm>
            <a:off x="684360" y="4254840"/>
            <a:ext cx="4055760" cy="70380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asern-Impfpflicht (Nachweis in Form z. B. Impfbuch-Vorl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3"/>
          <p:cNvSpPr/>
          <p:nvPr/>
        </p:nvSpPr>
        <p:spPr>
          <a:xfrm>
            <a:off x="684360" y="5479920"/>
            <a:ext cx="845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Ausnahmen von der Masernimpfpflicht: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 Ausgenommen sind Menschen, die einen ärztlichen Nachweis vorlegen können, dass bei ihnen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eine Impfung aus gesundheitlichen Gründen nicht ratsam ist (medizinische Kontraindikation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2"/>
          <p:cNvSpPr/>
          <p:nvPr/>
        </p:nvSpPr>
        <p:spPr>
          <a:xfrm>
            <a:off x="684360" y="971640"/>
            <a:ext cx="84596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flicht zur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asernimpf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Rechteck 12" descr=""/>
          <p:cNvPicPr/>
          <p:nvPr/>
        </p:nvPicPr>
        <p:blipFill>
          <a:blip r:embed="rId1"/>
          <a:stretch/>
        </p:blipFill>
        <p:spPr>
          <a:xfrm>
            <a:off x="2646360" y="6192720"/>
            <a:ext cx="5259240" cy="586080"/>
          </a:xfrm>
          <a:prstGeom prst="rect">
            <a:avLst/>
          </a:prstGeom>
          <a:ln w="0">
            <a:noFill/>
          </a:ln>
        </p:spPr>
      </p:pic>
      <p:sp>
        <p:nvSpPr>
          <p:cNvPr id="679" name="Textfeld 22"/>
          <p:cNvSpPr/>
          <p:nvPr/>
        </p:nvSpPr>
        <p:spPr>
          <a:xfrm>
            <a:off x="4962600" y="4416120"/>
            <a:ext cx="3992400" cy="398880"/>
          </a:xfrm>
          <a:prstGeom prst="rect">
            <a:avLst/>
          </a:prstGeom>
          <a:solidFill>
            <a:srgbClr val="ff0000">
              <a:alpha val="7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ein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Masern-Impfpflich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Gruppieren 3"/>
          <p:cNvGrpSpPr/>
          <p:nvPr/>
        </p:nvGrpSpPr>
        <p:grpSpPr>
          <a:xfrm>
            <a:off x="2488680" y="3560760"/>
            <a:ext cx="743400" cy="612720"/>
            <a:chOff x="2488680" y="3560760"/>
            <a:chExt cx="743400" cy="612720"/>
          </a:xfrm>
        </p:grpSpPr>
        <p:sp>
          <p:nvSpPr>
            <p:cNvPr id="681" name="Pfeil: nach rechts 9"/>
            <p:cNvSpPr/>
            <p:nvPr/>
          </p:nvSpPr>
          <p:spPr>
            <a:xfrm rot="5400000">
              <a:off x="2381400" y="3667680"/>
              <a:ext cx="612720" cy="398520"/>
            </a:xfrm>
            <a:prstGeom prst="rightArrow">
              <a:avLst>
                <a:gd name="adj1" fmla="val 50000"/>
                <a:gd name="adj2" fmla="val 50061"/>
              </a:avLst>
            </a:prstGeom>
            <a:solidFill>
              <a:srgbClr val="00b05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Textfeld 24"/>
            <p:cNvSpPr/>
            <p:nvPr/>
          </p:nvSpPr>
          <p:spPr>
            <a:xfrm>
              <a:off x="2800080" y="3645360"/>
              <a:ext cx="4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b050"/>
                  </a:solidFill>
                  <a:latin typeface="Arial"/>
                </a:rPr>
                <a:t>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Gruppieren 5"/>
          <p:cNvGrpSpPr/>
          <p:nvPr/>
        </p:nvGrpSpPr>
        <p:grpSpPr>
          <a:xfrm>
            <a:off x="6814800" y="3551400"/>
            <a:ext cx="1032120" cy="612720"/>
            <a:chOff x="6814800" y="3551400"/>
            <a:chExt cx="1032120" cy="612720"/>
          </a:xfrm>
        </p:grpSpPr>
        <p:sp>
          <p:nvSpPr>
            <p:cNvPr id="684" name="Pfeil: nach rechts 23"/>
            <p:cNvSpPr/>
            <p:nvPr/>
          </p:nvSpPr>
          <p:spPr>
            <a:xfrm rot="5400000">
              <a:off x="6707520" y="3658320"/>
              <a:ext cx="612720" cy="398520"/>
            </a:xfrm>
            <a:prstGeom prst="rightArrow">
              <a:avLst>
                <a:gd name="adj1" fmla="val 50000"/>
                <a:gd name="adj2" fmla="val 50032"/>
              </a:avLst>
            </a:prstGeom>
            <a:solidFill>
              <a:srgbClr val="ff0000">
                <a:alpha val="75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feld 25"/>
            <p:cNvSpPr/>
            <p:nvPr/>
          </p:nvSpPr>
          <p:spPr>
            <a:xfrm>
              <a:off x="7126560" y="3645360"/>
              <a:ext cx="72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0000"/>
                  </a:solidFill>
                  <a:latin typeface="Arial"/>
                </a:rPr>
                <a:t>Ne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6" name="Grafik 6" descr=""/>
          <p:cNvPicPr/>
          <p:nvPr/>
        </p:nvPicPr>
        <p:blipFill>
          <a:blip r:embed="rId2"/>
          <a:stretch/>
        </p:blipFill>
        <p:spPr>
          <a:xfrm>
            <a:off x="5334120" y="4844880"/>
            <a:ext cx="539640" cy="540000"/>
          </a:xfrm>
          <a:prstGeom prst="rect">
            <a:avLst/>
          </a:prstGeom>
          <a:ln w="0">
            <a:noFill/>
          </a:ln>
        </p:spPr>
      </p:pic>
      <p:pic>
        <p:nvPicPr>
          <p:cNvPr id="687" name="Grafik 6" descr=""/>
          <p:cNvPicPr/>
          <p:nvPr/>
        </p:nvPicPr>
        <p:blipFill>
          <a:blip r:embed="rId3"/>
          <a:stretch/>
        </p:blipFill>
        <p:spPr>
          <a:xfrm>
            <a:off x="4643280" y="4653000"/>
            <a:ext cx="63216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88" name="Grafik 8" descr=""/>
          <p:cNvPicPr/>
          <p:nvPr/>
        </p:nvPicPr>
        <p:blipFill>
          <a:blip r:embed="rId4"/>
          <a:stretch/>
        </p:blipFill>
        <p:spPr>
          <a:xfrm>
            <a:off x="5334120" y="5454720"/>
            <a:ext cx="3743280" cy="21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nsteckungspotenz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3"/>
          <p:cNvSpPr/>
          <p:nvPr/>
        </p:nvSpPr>
        <p:spPr>
          <a:xfrm>
            <a:off x="684360" y="197820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 </a:t>
            </a:r>
            <a:r>
              <a:rPr b="1" lang="de-DE" sz="2400" spc="-1" strike="noStrike" u="sng">
                <a:solidFill>
                  <a:srgbClr val="0070c0"/>
                </a:solidFill>
                <a:uFillTx/>
                <a:latin typeface="Arial"/>
              </a:rPr>
              <a:t>Blut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tragene Erreger und ihr Ansteckungspotenzi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4"/>
          <p:cNvSpPr/>
          <p:nvPr/>
        </p:nvSpPr>
        <p:spPr>
          <a:xfrm>
            <a:off x="1401840" y="2925720"/>
            <a:ext cx="38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patitis-B-Viren (HBV)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5"/>
          <p:cNvSpPr/>
          <p:nvPr/>
        </p:nvSpPr>
        <p:spPr>
          <a:xfrm>
            <a:off x="1401840" y="4181400"/>
            <a:ext cx="37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patitis-C-Viren (HCV) 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6"/>
          <p:cNvSpPr/>
          <p:nvPr/>
        </p:nvSpPr>
        <p:spPr>
          <a:xfrm>
            <a:off x="1401840" y="5391000"/>
            <a:ext cx="371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-Viren (HIV/AIDS) 0,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13"/>
          <p:cNvGrpSpPr/>
          <p:nvPr/>
        </p:nvGrpSpPr>
        <p:grpSpPr>
          <a:xfrm>
            <a:off x="5262480" y="2997360"/>
            <a:ext cx="3630600" cy="1439640"/>
            <a:chOff x="5262480" y="2997360"/>
            <a:chExt cx="3630600" cy="1439640"/>
          </a:xfrm>
        </p:grpSpPr>
        <p:sp>
          <p:nvSpPr>
            <p:cNvPr id="695" name="Text Box 7"/>
            <p:cNvSpPr/>
            <p:nvPr/>
          </p:nvSpPr>
          <p:spPr>
            <a:xfrm>
              <a:off x="5726160" y="3514680"/>
              <a:ext cx="31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270000"/>
                  <a:tab algn="l" pos="539640"/>
                  <a:tab algn="l" pos="809640"/>
                  <a:tab algn="l" pos="1079640"/>
                  <a:tab algn="l" pos="1349280"/>
                  <a:tab algn="l" pos="1619280"/>
                  <a:tab algn="l" pos="1889280"/>
                  <a:tab algn="l" pos="2158920"/>
                  <a:tab algn="l" pos="2428920"/>
                  <a:tab algn="l" pos="2698920"/>
                  <a:tab algn="l" pos="2968560"/>
                  <a:tab algn="l" pos="3238560"/>
                  <a:tab algn="l" pos="3508200"/>
                  <a:tab algn="l" pos="3778200"/>
                  <a:tab algn="l" pos="4048200"/>
                  <a:tab algn="l" pos="4317840"/>
                  <a:tab algn="l" pos="4587840"/>
                  <a:tab algn="l" pos="4857840"/>
                  <a:tab algn="l" pos="5127480"/>
                  <a:tab algn="l" pos="5397480"/>
                  <a:tab algn="l" pos="56674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10 x ansteckender 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AutoShape 11"/>
            <p:cNvSpPr/>
            <p:nvPr/>
          </p:nvSpPr>
          <p:spPr>
            <a:xfrm>
              <a:off x="5262480" y="2997360"/>
              <a:ext cx="457200" cy="143964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252000 h 1439640"/>
                <a:gd name="textAreaBottom" fmla="*/ 10440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980891"/>
                  <a:lnTo>
                    <a:pt x="6150" y="21287"/>
                  </a:lnTo>
                  <a:lnTo>
                    <a:pt x="0" y="17280"/>
                  </a:lnTo>
                  <a:lnTo>
                    <a:pt x="6150" y="12647"/>
                  </a:lnTo>
                  <a:lnTo>
                    <a:pt x="6150" y="14807"/>
                  </a:lnTo>
                  <a:arcTo wR="21600" hR="7560" stAng="2980891" swAng="-2623457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Group 14"/>
          <p:cNvGrpSpPr/>
          <p:nvPr/>
        </p:nvGrpSpPr>
        <p:grpSpPr>
          <a:xfrm>
            <a:off x="5259240" y="4437000"/>
            <a:ext cx="3633480" cy="1440000"/>
            <a:chOff x="5259240" y="4437000"/>
            <a:chExt cx="3633480" cy="1440000"/>
          </a:xfrm>
        </p:grpSpPr>
        <p:sp>
          <p:nvSpPr>
            <p:cNvPr id="698" name="Text Box 8"/>
            <p:cNvSpPr/>
            <p:nvPr/>
          </p:nvSpPr>
          <p:spPr>
            <a:xfrm>
              <a:off x="5725800" y="4900680"/>
              <a:ext cx="31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270000"/>
                  <a:tab algn="l" pos="539640"/>
                  <a:tab algn="l" pos="809640"/>
                  <a:tab algn="l" pos="1079640"/>
                  <a:tab algn="l" pos="1349280"/>
                  <a:tab algn="l" pos="1619280"/>
                  <a:tab algn="l" pos="1889280"/>
                  <a:tab algn="l" pos="2158920"/>
                  <a:tab algn="l" pos="2428920"/>
                  <a:tab algn="l" pos="2698920"/>
                  <a:tab algn="l" pos="2968560"/>
                  <a:tab algn="l" pos="3238560"/>
                  <a:tab algn="l" pos="3508200"/>
                  <a:tab algn="l" pos="3778200"/>
                  <a:tab algn="l" pos="4048200"/>
                  <a:tab algn="l" pos="4317840"/>
                  <a:tab algn="l" pos="4587840"/>
                  <a:tab algn="l" pos="4857840"/>
                  <a:tab algn="l" pos="5127480"/>
                  <a:tab algn="l" pos="5397480"/>
                  <a:tab algn="l" pos="56674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10 x ansteckender 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AutoShape 12"/>
            <p:cNvSpPr/>
            <p:nvPr/>
          </p:nvSpPr>
          <p:spPr>
            <a:xfrm>
              <a:off x="5259240" y="4437000"/>
              <a:ext cx="457200" cy="144000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252000 h 1440000"/>
                <a:gd name="textAreaBottom" fmla="*/ 104400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980891"/>
                  <a:lnTo>
                    <a:pt x="6150" y="21287"/>
                  </a:lnTo>
                  <a:lnTo>
                    <a:pt x="0" y="17280"/>
                  </a:lnTo>
                  <a:lnTo>
                    <a:pt x="6150" y="12647"/>
                  </a:lnTo>
                  <a:lnTo>
                    <a:pt x="6150" y="14807"/>
                  </a:lnTo>
                  <a:arcTo wR="21600" hR="7560" stAng="2980891" swAng="-2623457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Gruppieren 11"/>
          <p:cNvGrpSpPr/>
          <p:nvPr/>
        </p:nvGrpSpPr>
        <p:grpSpPr>
          <a:xfrm>
            <a:off x="684360" y="1639800"/>
            <a:ext cx="8359560" cy="5018040"/>
            <a:chOff x="684360" y="1639800"/>
            <a:chExt cx="8359560" cy="5018040"/>
          </a:xfrm>
        </p:grpSpPr>
        <p:pic>
          <p:nvPicPr>
            <p:cNvPr id="701" name="Rechteck 14" descr=""/>
            <p:cNvPicPr/>
            <p:nvPr/>
          </p:nvPicPr>
          <p:blipFill>
            <a:blip r:embed="rId1"/>
            <a:stretch/>
          </p:blipFill>
          <p:spPr>
            <a:xfrm>
              <a:off x="1493640" y="1639800"/>
              <a:ext cx="6156720" cy="5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2" name="Gruppieren 10"/>
            <p:cNvGrpSpPr/>
            <p:nvPr/>
          </p:nvGrpSpPr>
          <p:grpSpPr>
            <a:xfrm>
              <a:off x="684360" y="2518920"/>
              <a:ext cx="8359560" cy="4138920"/>
              <a:chOff x="684360" y="2518920"/>
              <a:chExt cx="8359560" cy="4138920"/>
            </a:xfrm>
          </p:grpSpPr>
          <p:pic>
            <p:nvPicPr>
              <p:cNvPr id="703" name="Grafik 3" descr=""/>
              <p:cNvPicPr/>
              <p:nvPr/>
            </p:nvPicPr>
            <p:blipFill>
              <a:blip r:embed="rId2"/>
              <a:stretch/>
            </p:blipFill>
            <p:spPr>
              <a:xfrm>
                <a:off x="6130800" y="2518920"/>
                <a:ext cx="2913120" cy="41389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grpSp>
            <p:nvGrpSpPr>
              <p:cNvPr id="704" name="Gruppieren 9"/>
              <p:cNvGrpSpPr/>
              <p:nvPr/>
            </p:nvGrpSpPr>
            <p:grpSpPr>
              <a:xfrm>
                <a:off x="684360" y="2518920"/>
                <a:ext cx="5399640" cy="2440440"/>
                <a:chOff x="684360" y="2518920"/>
                <a:chExt cx="5399640" cy="2440440"/>
              </a:xfrm>
            </p:grpSpPr>
            <p:pic>
              <p:nvPicPr>
                <p:cNvPr id="705" name="Grafik 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360" y="2518920"/>
                  <a:ext cx="5399640" cy="45864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706" name="Grafik 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4360" y="2970000"/>
                  <a:ext cx="5399640" cy="198936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</p:grpSp>
        </p:grpSp>
      </p:grpSp>
      <p:sp>
        <p:nvSpPr>
          <p:cNvPr id="70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eitere Informationen un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feld 3"/>
          <p:cNvSpPr/>
          <p:nvPr/>
        </p:nvSpPr>
        <p:spPr>
          <a:xfrm>
            <a:off x="1660680" y="6369120"/>
            <a:ext cx="44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Deutsche AIDS-Hilfe e. V. und Bundeszahnärztekammer, Keine Angst v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HIV, HBV und HCV! Informationen für das zahnärztliche Behandlungsteam,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itelbla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4"/>
          <p:cNvSpPr/>
          <p:nvPr/>
        </p:nvSpPr>
        <p:spPr>
          <a:xfrm>
            <a:off x="684360" y="955800"/>
            <a:ext cx="845964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ie Themen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Arbeitsmedizinische Vorsorge und Immunisierung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Grafik 1" descr=""/>
          <p:cNvPicPr/>
          <p:nvPr/>
        </p:nvPicPr>
        <p:blipFill>
          <a:blip r:embed="rId1"/>
          <a:stretch/>
        </p:blipFill>
        <p:spPr>
          <a:xfrm>
            <a:off x="971640" y="2592360"/>
            <a:ext cx="2700360" cy="418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1" name="Grafik 2" descr=""/>
          <p:cNvPicPr/>
          <p:nvPr/>
        </p:nvPicPr>
        <p:blipFill>
          <a:blip r:embed="rId2"/>
          <a:stretch/>
        </p:blipFill>
        <p:spPr>
          <a:xfrm>
            <a:off x="4125960" y="4329000"/>
            <a:ext cx="3449520" cy="244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2" name="Picture 13" descr=""/>
          <p:cNvPicPr/>
          <p:nvPr/>
        </p:nvPicPr>
        <p:blipFill>
          <a:blip r:embed="rId3"/>
          <a:stretch/>
        </p:blipFill>
        <p:spPr>
          <a:xfrm>
            <a:off x="4125960" y="2421000"/>
            <a:ext cx="4635360" cy="18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3" name="Rechteck 4"/>
          <p:cNvSpPr/>
          <p:nvPr/>
        </p:nvSpPr>
        <p:spPr>
          <a:xfrm>
            <a:off x="4125960" y="3711600"/>
            <a:ext cx="2092320" cy="51912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4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6" name="Rectangle 5"/>
          <p:cNvSpPr/>
          <p:nvPr/>
        </p:nvSpPr>
        <p:spPr>
          <a:xfrm>
            <a:off x="1768320" y="3592440"/>
            <a:ext cx="5921640" cy="285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684360" y="1978200"/>
            <a:ext cx="845964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utgefährdung - Feuchtarb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ektionsgefährdende Tätig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ätigkeiten an Bildschirmgerä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suchung nach dem Jugendarbeitsschutzgese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s ist zu dokumentie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mmun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684360" y="197820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ordnung zur arbeitsmedizinischen Vorsorge (ArbMedV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Grafik 2" descr=""/>
          <p:cNvPicPr/>
          <p:nvPr/>
        </p:nvPicPr>
        <p:blipFill>
          <a:blip r:embed="rId1"/>
          <a:srcRect l="0" t="0" r="0" b="27439"/>
          <a:stretch/>
        </p:blipFill>
        <p:spPr>
          <a:xfrm>
            <a:off x="1892160" y="2681280"/>
            <a:ext cx="4996080" cy="32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4" name="Grafik 3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3"/>
          <p:cNvSpPr/>
          <p:nvPr/>
        </p:nvSpPr>
        <p:spPr>
          <a:xfrm>
            <a:off x="684360" y="1654200"/>
            <a:ext cx="8459640" cy="21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bMedVV und AMR:</a:t>
            </a:r>
            <a:br>
              <a:rPr sz="2400"/>
            </a:br>
            <a:br>
              <a:rPr sz="1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Gefährdungsbeurteilung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uf der Basis der im Anhang 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ArbMedVV genannten Tätigkeiten/Expositionen werden der 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anlass/die Vorsorgeanläss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 die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ar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ermittelt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Personenbezogene Festleg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Muster im PRAXIS-Handbuch: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3.1.6 Formulare &gt;&gt;&gt; 3.1.6.1 Arbeitsmedizinische Vorsor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Inhaltsplatzhalter 3" descr=""/>
          <p:cNvPicPr/>
          <p:nvPr/>
        </p:nvPicPr>
        <p:blipFill>
          <a:blip r:embed="rId1"/>
          <a:srcRect l="0" t="1561" r="0" b="2585"/>
          <a:stretch/>
        </p:blipFill>
        <p:spPr>
          <a:xfrm>
            <a:off x="7666200" y="1185840"/>
            <a:ext cx="1439640" cy="90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7" name="Grafik 8" descr=""/>
          <p:cNvPicPr/>
          <p:nvPr/>
        </p:nvPicPr>
        <p:blipFill>
          <a:blip r:embed="rId2"/>
          <a:stretch/>
        </p:blipFill>
        <p:spPr>
          <a:xfrm>
            <a:off x="7632720" y="3816360"/>
            <a:ext cx="1079640" cy="67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8" name="Grafik 6" descr=""/>
          <p:cNvPicPr/>
          <p:nvPr/>
        </p:nvPicPr>
        <p:blipFill>
          <a:blip r:embed="rId3"/>
          <a:stretch/>
        </p:blipFill>
        <p:spPr>
          <a:xfrm>
            <a:off x="8566200" y="3879720"/>
            <a:ext cx="539640" cy="54000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3"/>
          <p:cNvSpPr/>
          <p:nvPr/>
        </p:nvSpPr>
        <p:spPr>
          <a:xfrm>
            <a:off x="684360" y="4176720"/>
            <a:ext cx="845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arten:</a:t>
            </a:r>
            <a:br>
              <a:rPr sz="2000"/>
            </a:b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▪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Angebotsvorsorg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regelmäßig von der Praxis anzubieten, ohn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ilnahmeverpflichtung für die Beschäftigten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▪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Pflichtvorsorg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regelmäßig von der Praxis zu veranlassen, mi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ilnahmeverpflichtung für die Beschäftigten, Tätigkeits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)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▪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unschvorsor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uppieren 11"/>
          <p:cNvGrpSpPr/>
          <p:nvPr/>
        </p:nvGrpSpPr>
        <p:grpSpPr>
          <a:xfrm>
            <a:off x="2149560" y="6041880"/>
            <a:ext cx="6335640" cy="727200"/>
            <a:chOff x="2149560" y="6041880"/>
            <a:chExt cx="6335640" cy="727200"/>
          </a:xfrm>
        </p:grpSpPr>
        <p:pic>
          <p:nvPicPr>
            <p:cNvPr id="571" name="Rechteck 1" descr=""/>
            <p:cNvPicPr/>
            <p:nvPr/>
          </p:nvPicPr>
          <p:blipFill>
            <a:blip r:embed="rId4"/>
            <a:stretch/>
          </p:blipFill>
          <p:spPr>
            <a:xfrm>
              <a:off x="2149560" y="6371280"/>
              <a:ext cx="5244480" cy="39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Grafik 10" descr=""/>
            <p:cNvPicPr/>
            <p:nvPr/>
          </p:nvPicPr>
          <p:blipFill>
            <a:blip r:embed="rId5"/>
            <a:stretch/>
          </p:blipFill>
          <p:spPr>
            <a:xfrm>
              <a:off x="4684680" y="6041880"/>
              <a:ext cx="3800520" cy="328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pic>
        <p:nvPicPr>
          <p:cNvPr id="573" name="Grafik 6" descr=""/>
          <p:cNvPicPr/>
          <p:nvPr/>
        </p:nvPicPr>
        <p:blipFill>
          <a:blip r:embed="rId6"/>
          <a:stretch/>
        </p:blipFill>
        <p:spPr>
          <a:xfrm>
            <a:off x="8545680" y="6027840"/>
            <a:ext cx="539640" cy="54108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feld 3"/>
          <p:cNvSpPr/>
          <p:nvPr/>
        </p:nvSpPr>
        <p:spPr>
          <a:xfrm>
            <a:off x="7332840" y="2071800"/>
            <a:ext cx="18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GW/Martin Großkinsk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3"/>
          <p:cNvSpPr/>
          <p:nvPr/>
        </p:nvSpPr>
        <p:spPr>
          <a:xfrm>
            <a:off x="684360" y="1979640"/>
            <a:ext cx="8459640" cy="48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1080"/>
                <a:tab algn="l" pos="44784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Abstände der arbeitsmedizinischen Vorsorgen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▪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 Vorsorge (innerhalb von 3 Monaten vor Aufnahme de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ätigkeit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▪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weite Vorsorge (spätestens nach 6/12 Monaten) un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▪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l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teren Vorsorgen (spätestens nach 3 Jahren)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icht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ngebotsvorsorge bei Beendigung einer infektions-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ährdenden Tätigkeit (praxisintern bzw. -exter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1080"/>
                <a:tab algn="l" pos="44784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Qualifikation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Ärztin/Arzt, die/der berechtigt  ist, die Gebiets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bezeichnung „Arbeitsmedizin“ oder die Zusatzbezeichnung 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„Betriebsmedizin“ zu füh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1080"/>
                <a:tab algn="l" pos="44784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Kost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für die arbeitsmedizinische Vorsorg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GOÄ-Leistungen)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trägt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die/der Praxisinhaber*i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1080"/>
                <a:tab algn="l" pos="44784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arbeitsmedizinische Vorsorge ist durch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ährdungsbeurteilung personenbezogen festzule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feld 1"/>
          <p:cNvSpPr/>
          <p:nvPr/>
        </p:nvSpPr>
        <p:spPr>
          <a:xfrm>
            <a:off x="1028880" y="2010240"/>
            <a:ext cx="755964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fährdungsbeurteilung „Arbeitsmedizinische Vorsorg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feil: nach rechts 2"/>
          <p:cNvSpPr/>
          <p:nvPr/>
        </p:nvSpPr>
        <p:spPr>
          <a:xfrm rot="5400000">
            <a:off x="4496040" y="264204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feld 4"/>
          <p:cNvSpPr/>
          <p:nvPr/>
        </p:nvSpPr>
        <p:spPr>
          <a:xfrm>
            <a:off x="1028880" y="3275640"/>
            <a:ext cx="7559640" cy="3988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Wer arbeitet potentiell infektionsgefährde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feil: nach rechts 6"/>
          <p:cNvSpPr/>
          <p:nvPr/>
        </p:nvSpPr>
        <p:spPr>
          <a:xfrm rot="5400000">
            <a:off x="4527000" y="3904920"/>
            <a:ext cx="612720" cy="39708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feil: nach rechts 7"/>
          <p:cNvSpPr/>
          <p:nvPr/>
        </p:nvSpPr>
        <p:spPr>
          <a:xfrm rot="5400000">
            <a:off x="4496040" y="517752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feld 9"/>
          <p:cNvSpPr/>
          <p:nvPr/>
        </p:nvSpPr>
        <p:spPr>
          <a:xfrm>
            <a:off x="1028880" y="4540680"/>
            <a:ext cx="7559640" cy="3988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ersonenbezogene Festl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feld 10"/>
          <p:cNvSpPr/>
          <p:nvPr/>
        </p:nvSpPr>
        <p:spPr>
          <a:xfrm>
            <a:off x="1028880" y="5806080"/>
            <a:ext cx="7559640" cy="3988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flichtvorsorge (eh. G 4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2"/>
          <p:cNvSpPr/>
          <p:nvPr/>
        </p:nvSpPr>
        <p:spPr>
          <a:xfrm>
            <a:off x="684360" y="971640"/>
            <a:ext cx="845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fektionsgefährdende Tätigke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Grafik 20" descr=""/>
          <p:cNvPicPr/>
          <p:nvPr/>
        </p:nvPicPr>
        <p:blipFill>
          <a:blip r:embed="rId1"/>
          <a:stretch/>
        </p:blipFill>
        <p:spPr>
          <a:xfrm>
            <a:off x="6788160" y="4175280"/>
            <a:ext cx="1800360" cy="113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7" name="Grafik 22" descr=""/>
          <p:cNvPicPr/>
          <p:nvPr/>
        </p:nvPicPr>
        <p:blipFill>
          <a:blip r:embed="rId2"/>
          <a:stretch/>
        </p:blipFill>
        <p:spPr>
          <a:xfrm>
            <a:off x="1028880" y="5178600"/>
            <a:ext cx="1041120" cy="165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8" name="Grafik 3" descr=""/>
          <p:cNvPicPr/>
          <p:nvPr/>
        </p:nvPicPr>
        <p:blipFill>
          <a:blip r:embed="rId3"/>
          <a:stretch/>
        </p:blipFill>
        <p:spPr>
          <a:xfrm>
            <a:off x="1028880" y="2489040"/>
            <a:ext cx="885600" cy="7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9" name="Grafik 5" descr=""/>
          <p:cNvPicPr/>
          <p:nvPr/>
        </p:nvPicPr>
        <p:blipFill>
          <a:blip r:embed="rId4"/>
          <a:stretch/>
        </p:blipFill>
        <p:spPr>
          <a:xfrm>
            <a:off x="2033640" y="2489040"/>
            <a:ext cx="887400" cy="7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0" name="Grafik 1" descr=""/>
          <p:cNvPicPr/>
          <p:nvPr/>
        </p:nvPicPr>
        <p:blipFill>
          <a:blip r:embed="rId5"/>
          <a:stretch/>
        </p:blipFill>
        <p:spPr>
          <a:xfrm>
            <a:off x="3029040" y="2489040"/>
            <a:ext cx="885600" cy="7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1" name="Textfeld 3"/>
          <p:cNvSpPr/>
          <p:nvPr/>
        </p:nvSpPr>
        <p:spPr>
          <a:xfrm rot="16200000">
            <a:off x="9360" y="2739960"/>
            <a:ext cx="18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Grafik 1" descr="Arbeitsmedizinische_Vorsorgeuntersuchungen - Microsoft Word"/>
          <p:cNvPicPr/>
          <p:nvPr/>
        </p:nvPicPr>
        <p:blipFill>
          <a:blip r:embed="rId1"/>
          <a:srcRect l="14718" t="23451" r="12171" b="8231"/>
          <a:stretch/>
        </p:blipFill>
        <p:spPr>
          <a:xfrm>
            <a:off x="631800" y="2152800"/>
            <a:ext cx="8459640" cy="43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3" name="Rectangle 4"/>
          <p:cNvSpPr/>
          <p:nvPr/>
        </p:nvSpPr>
        <p:spPr>
          <a:xfrm>
            <a:off x="7288200" y="2170080"/>
            <a:ext cx="900000" cy="39592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5"/>
          <p:cNvSpPr/>
          <p:nvPr/>
        </p:nvSpPr>
        <p:spPr>
          <a:xfrm>
            <a:off x="3979800" y="2171880"/>
            <a:ext cx="1116000" cy="395892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Vorsorge eh. G 42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- Infektionsgefährd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Pflichtvorso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dcterms:modified xsi:type="dcterms:W3CDTF">2025-08-08T05:50:36Z</dcterms:modified>
  <cp:revision>28</cp:revision>
  <dc:subject/>
  <dc:title/>
</cp:coreProperties>
</file>