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2B5D0-4496-4A7A-BAE2-55B6CF65923A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uck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 - 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 -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Grafik 4" descr=""/>
          <p:cNvPicPr/>
          <p:nvPr/>
        </p:nvPicPr>
        <p:blipFill>
          <a:blip r:embed="rId1"/>
          <a:srcRect l="0" t="0" r="-491" b="40081"/>
          <a:stretch/>
        </p:blipFill>
        <p:spPr>
          <a:xfrm>
            <a:off x="1892160" y="2681280"/>
            <a:ext cx="5743800" cy="32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84360" y="19782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icherheitsverordnung (BetrSi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3" descr=""/>
          <p:cNvPicPr/>
          <p:nvPr/>
        </p:nvPicPr>
        <p:blipFill>
          <a:blip r:embed="rId2"/>
          <a:stretch/>
        </p:blipFill>
        <p:spPr>
          <a:xfrm>
            <a:off x="7939080" y="4986360"/>
            <a:ext cx="90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ruckgerä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Grafik 6" descr=""/>
          <p:cNvPicPr/>
          <p:nvPr/>
        </p:nvPicPr>
        <p:blipFill>
          <a:blip r:embed="rId1"/>
          <a:stretch/>
        </p:blipFill>
        <p:spPr>
          <a:xfrm>
            <a:off x="8566200" y="3879720"/>
            <a:ext cx="539640" cy="540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684360" y="215892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Druckgerät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: z. B. Kompressor (BetrSichV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Prüf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rundsätzlich alle 5 Jahre (Dokument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üfpflichten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ruckgerä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Kompressor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 gemäß §§ 14-15 BetrSich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72" descr=""/>
          <p:cNvPicPr/>
          <p:nvPr/>
        </p:nvPicPr>
        <p:blipFill>
          <a:blip r:embed="rId1"/>
          <a:stretch/>
        </p:blipFill>
        <p:spPr>
          <a:xfrm>
            <a:off x="900000" y="2435400"/>
            <a:ext cx="7917120" cy="3298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84360" y="5985000"/>
            <a:ext cx="845964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axistipp: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achweis in Form von Prüfbuch und Prüfsie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6:00:50Z</dcterms:modified>
  <cp:revision>13</cp:revision>
  <dc:subject/>
  <dc:title/>
</cp:coreProperties>
</file>