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FD266-9886-46C3-9E31-42ECA59FC4D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ische Anla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rieb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684360" y="205956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7"/>
          <p:cNvSpPr/>
          <p:nvPr/>
        </p:nvSpPr>
        <p:spPr>
          <a:xfrm>
            <a:off x="671400" y="3313440"/>
            <a:ext cx="264024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äre An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9"/>
          <p:cNvSpPr/>
          <p:nvPr/>
        </p:nvSpPr>
        <p:spPr>
          <a:xfrm rot="5400000">
            <a:off x="1683000" y="26308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feil: nach rechts 11"/>
          <p:cNvSpPr/>
          <p:nvPr/>
        </p:nvSpPr>
        <p:spPr>
          <a:xfrm rot="5400000">
            <a:off x="7352640" y="263016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8"/>
          <p:cNvSpPr/>
          <p:nvPr/>
        </p:nvSpPr>
        <p:spPr>
          <a:xfrm>
            <a:off x="3513240" y="3183840"/>
            <a:ext cx="2700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9"/>
          <p:cNvSpPr/>
          <p:nvPr/>
        </p:nvSpPr>
        <p:spPr>
          <a:xfrm>
            <a:off x="6327720" y="3197520"/>
            <a:ext cx="266220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0"/>
          <p:cNvSpPr/>
          <p:nvPr/>
        </p:nvSpPr>
        <p:spPr>
          <a:xfrm rot="5400000">
            <a:off x="4554000" y="262404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25"/>
          <p:cNvSpPr/>
          <p:nvPr/>
        </p:nvSpPr>
        <p:spPr>
          <a:xfrm rot="5400000">
            <a:off x="7436160" y="5196600"/>
            <a:ext cx="444600" cy="398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"/>
          <p:cNvSpPr/>
          <p:nvPr/>
        </p:nvSpPr>
        <p:spPr>
          <a:xfrm>
            <a:off x="896760" y="379584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mit ihrer Umgebung fest verbunden sind (z. B. Installatio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3660840" y="3780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3"/>
          <p:cNvSpPr/>
          <p:nvPr/>
        </p:nvSpPr>
        <p:spPr>
          <a:xfrm>
            <a:off x="6407280" y="379584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gebracht werden können, während sie an den Versorgungsstromkreis angeschlossen s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14"/>
          <p:cNvSpPr/>
          <p:nvPr/>
        </p:nvSpPr>
        <p:spPr>
          <a:xfrm rot="5400000">
            <a:off x="4458600" y="5015880"/>
            <a:ext cx="792000" cy="396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4"/>
          <p:cNvSpPr/>
          <p:nvPr/>
        </p:nvSpPr>
        <p:spPr>
          <a:xfrm rot="5400000">
            <a:off x="1435320" y="4834800"/>
            <a:ext cx="1152360" cy="398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"/>
          <p:cNvSpPr/>
          <p:nvPr/>
        </p:nvSpPr>
        <p:spPr>
          <a:xfrm>
            <a:off x="3513240" y="5685120"/>
            <a:ext cx="5476680" cy="3070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üfung wird durch Praxisinhaber*in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69960" y="5688360"/>
            <a:ext cx="2682720" cy="946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ventuell wird die Prüfung durch den Eigentümer*in der Praxis (Vermieter*in)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7"/>
          <p:cNvSpPr/>
          <p:nvPr/>
        </p:nvSpPr>
        <p:spPr>
          <a:xfrm>
            <a:off x="681120" y="2059560"/>
            <a:ext cx="81151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2771640" y="3210120"/>
            <a:ext cx="41767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11"/>
          <p:cNvSpPr/>
          <p:nvPr/>
        </p:nvSpPr>
        <p:spPr>
          <a:xfrm rot="5400000">
            <a:off x="4555440" y="264132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feil: nach rechts 16"/>
          <p:cNvSpPr/>
          <p:nvPr/>
        </p:nvSpPr>
        <p:spPr>
          <a:xfrm rot="5400000">
            <a:off x="4555440" y="3724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ieren 2"/>
          <p:cNvGrpSpPr/>
          <p:nvPr/>
        </p:nvGrpSpPr>
        <p:grpSpPr>
          <a:xfrm>
            <a:off x="1090440" y="4303800"/>
            <a:ext cx="7560000" cy="1103400"/>
            <a:chOff x="1090440" y="4303800"/>
            <a:chExt cx="7560000" cy="1103400"/>
          </a:xfrm>
        </p:grpSpPr>
        <p:pic>
          <p:nvPicPr>
            <p:cNvPr id="180" name="Grafik 33" descr=""/>
            <p:cNvPicPr/>
            <p:nvPr/>
          </p:nvPicPr>
          <p:blipFill>
            <a:blip r:embed="rId1"/>
            <a:stretch/>
          </p:blipFill>
          <p:spPr>
            <a:xfrm>
              <a:off x="1090440" y="4303800"/>
              <a:ext cx="7560000" cy="11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Rectangle 27"/>
            <p:cNvSpPr/>
            <p:nvPr/>
          </p:nvSpPr>
          <p:spPr>
            <a:xfrm>
              <a:off x="3807360" y="4306680"/>
              <a:ext cx="108324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6815160" y="4306680"/>
              <a:ext cx="183528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feld 41"/>
          <p:cNvSpPr/>
          <p:nvPr/>
        </p:nvSpPr>
        <p:spPr>
          <a:xfrm>
            <a:off x="6953400" y="2765520"/>
            <a:ext cx="201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42"/>
          <p:cNvSpPr/>
          <p:nvPr/>
        </p:nvSpPr>
        <p:spPr>
          <a:xfrm>
            <a:off x="681120" y="6167880"/>
            <a:ext cx="8115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43"/>
          <p:cNvSpPr/>
          <p:nvPr/>
        </p:nvSpPr>
        <p:spPr>
          <a:xfrm rot="5400000">
            <a:off x="4565160" y="55926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7"/>
          <p:cNvSpPr/>
          <p:nvPr/>
        </p:nvSpPr>
        <p:spPr>
          <a:xfrm>
            <a:off x="711360" y="154512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2522520" y="2582280"/>
            <a:ext cx="468000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: nach rechts 3"/>
          <p:cNvSpPr/>
          <p:nvPr/>
        </p:nvSpPr>
        <p:spPr>
          <a:xfrm rot="5400000">
            <a:off x="4608360" y="2111400"/>
            <a:ext cx="503280" cy="287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feld 19"/>
          <p:cNvSpPr/>
          <p:nvPr/>
        </p:nvSpPr>
        <p:spPr>
          <a:xfrm>
            <a:off x="6772320" y="19605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bracht wer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önnen, während sie an den Versorgungsstromkreis angeschlossen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0"/>
          <p:cNvSpPr/>
          <p:nvPr/>
        </p:nvSpPr>
        <p:spPr>
          <a:xfrm>
            <a:off x="711360" y="6266160"/>
            <a:ext cx="8305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 bzw. elektronisch unterwiesen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feil: nach rechts 22"/>
          <p:cNvSpPr/>
          <p:nvPr/>
        </p:nvSpPr>
        <p:spPr>
          <a:xfrm rot="5400000">
            <a:off x="4608000" y="308592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feil: nach rechts 23"/>
          <p:cNvSpPr/>
          <p:nvPr/>
        </p:nvSpPr>
        <p:spPr>
          <a:xfrm rot="5400000">
            <a:off x="4643280" y="5840280"/>
            <a:ext cx="431640" cy="288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4"/>
          <p:cNvGrpSpPr/>
          <p:nvPr/>
        </p:nvGrpSpPr>
        <p:grpSpPr>
          <a:xfrm>
            <a:off x="2530440" y="3524400"/>
            <a:ext cx="4662360" cy="2178000"/>
            <a:chOff x="2530440" y="3524400"/>
            <a:chExt cx="4662360" cy="2178000"/>
          </a:xfrm>
        </p:grpSpPr>
        <p:pic>
          <p:nvPicPr>
            <p:cNvPr id="195" name="Grafik 6" descr=""/>
            <p:cNvPicPr/>
            <p:nvPr/>
          </p:nvPicPr>
          <p:blipFill>
            <a:blip r:embed="rId1"/>
            <a:stretch/>
          </p:blipFill>
          <p:spPr>
            <a:xfrm>
              <a:off x="2530440" y="3542760"/>
              <a:ext cx="4655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Rectangle 27"/>
            <p:cNvSpPr/>
            <p:nvPr/>
          </p:nvSpPr>
          <p:spPr>
            <a:xfrm>
              <a:off x="3732120" y="3540600"/>
              <a:ext cx="146880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60680" y="3524400"/>
              <a:ext cx="103212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pieren 5"/>
          <p:cNvGrpSpPr/>
          <p:nvPr/>
        </p:nvGrpSpPr>
        <p:grpSpPr>
          <a:xfrm>
            <a:off x="1278000" y="1979640"/>
            <a:ext cx="7199280" cy="2027160"/>
            <a:chOff x="1278000" y="1979640"/>
            <a:chExt cx="7199280" cy="2027160"/>
          </a:xfrm>
        </p:grpSpPr>
        <p:pic>
          <p:nvPicPr>
            <p:cNvPr id="200" name="Grafik 2" descr=""/>
            <p:cNvPicPr/>
            <p:nvPr/>
          </p:nvPicPr>
          <p:blipFill>
            <a:blip r:embed="rId2"/>
            <a:stretch/>
          </p:blipFill>
          <p:spPr>
            <a:xfrm>
              <a:off x="1278000" y="1979640"/>
              <a:ext cx="7199280" cy="44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4" descr=""/>
            <p:cNvPicPr/>
            <p:nvPr/>
          </p:nvPicPr>
          <p:blipFill>
            <a:blip r:embed="rId3"/>
            <a:stretch/>
          </p:blipFill>
          <p:spPr>
            <a:xfrm>
              <a:off x="1278000" y="2411280"/>
              <a:ext cx="7199280" cy="15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2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3846600" y="1984320"/>
            <a:ext cx="1044360" cy="14446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16880" y="1984320"/>
            <a:ext cx="1760400" cy="20098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2560" y="1979640"/>
            <a:ext cx="8460000" cy="76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stest am FI-Schutzschal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-Schutzschalter schützen vor elektrischen Schlä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2560" y="3141720"/>
            <a:ext cx="84171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hen Sie folgendermaßen vor: Drücken Sie die eingebaute Prüftaste Ihres Fehlerstromschutzschalters -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so wird ein Fehlerstrom simulier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und der Schalter wird umgehend aus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3"/>
          <p:cNvCxnSpPr/>
          <p:nvPr/>
        </p:nvCxnSpPr>
        <p:spPr>
          <a:xfrm>
            <a:off x="2023560" y="5681160"/>
            <a:ext cx="14662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71640"/>
            <a:ext cx="845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Festlegung der Prüfpf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1" descr="Festlegung_Elektrogeraete [Kompatibilitätsmodus] - Microsoft Word"/>
          <p:cNvPicPr/>
          <p:nvPr/>
        </p:nvPicPr>
        <p:blipFill>
          <a:blip r:embed="rId1"/>
          <a:srcRect l="19063" t="19060" r="19584" b="3976"/>
          <a:stretch/>
        </p:blipFill>
        <p:spPr>
          <a:xfrm>
            <a:off x="1787400" y="2114640"/>
            <a:ext cx="63136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1" descr=""/>
          <p:cNvPicPr/>
          <p:nvPr/>
        </p:nvPicPr>
        <p:blipFill>
          <a:blip r:embed="rId2"/>
          <a:stretch/>
        </p:blipFill>
        <p:spPr>
          <a:xfrm>
            <a:off x="8191440" y="5705640"/>
            <a:ext cx="7304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strom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chutzschalter (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Festlegu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964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über Sicherheit und Gesundheitsschutz bei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Bereitstellung von Arbeitsmitteln und deren Benutzung bei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rbeit, über Sicherheit beim Betrieb überwachungsbedürftig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nlagen und über die Organisation des betrieblichen Arb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utzes (Betriebssicherheitsverordnung - 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5" descr="https://www.bgw-online.de/SharedDocs/Downloads/DE/Medientypen/DGUV_vorschrift-regel/DGUV-Vorsch - Internet Explorer"/>
          <p:cNvPicPr/>
          <p:nvPr/>
        </p:nvPicPr>
        <p:blipFill>
          <a:blip r:embed="rId1"/>
          <a:srcRect l="66048" t="15438" r="1979" b="1682"/>
          <a:stretch/>
        </p:blipFill>
        <p:spPr>
          <a:xfrm>
            <a:off x="4022640" y="4151160"/>
            <a:ext cx="17827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feld 1"/>
          <p:cNvSpPr/>
          <p:nvPr/>
        </p:nvSpPr>
        <p:spPr>
          <a:xfrm>
            <a:off x="5810400" y="6499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2160720"/>
            <a:ext cx="845964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S-Z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rüfte Sicherheit“ gemäß Prod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 durch eine zugelassen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und unabhängige Stel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84360" y="4456080"/>
            <a:ext cx="8459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G-Prüfz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ufsgenossenschaftliche Prüf- und Zertifizierungs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 auch von Geräteteilen (Anbau- oder Zusatz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684360" y="2158920"/>
            <a:ext cx="845964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band der Elektrotechnik, Elektronik und Informationstechnik e.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elektrotechnische Erzeug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et die Konformität mit den VDE-Bestimmungen bzw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uropäischer oder international harmonisierter Normen und bestätigt di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inhaltung der Schutzanforderungen der zutreffenden Richtl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E-Zeichen steht für die Sicherheit des Produktes hinsichtli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ektrischer, mechanischer, thermischer, toxischer, radiologischer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sonstiger Gefähr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26370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371628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ein ungehinderter Zugang zu Sicherungs- und Verteiler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ränken jederzeit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alle Stromkreise und Verteilungen ordnungsgemäß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kennzeich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4360" y="51577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Schalter und Steckdosen noch sicher befesti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ie Kabelführungen in einwandfreiem Zu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84360" y="2637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Verlängerungen und Anschlussleitung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tolperfrei“ verle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15:54Z</dcterms:modified>
  <cp:revision>19</cp:revision>
  <dc:subject/>
  <dc:title/>
</cp:coreProperties>
</file>