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95B18-E50E-496D-BE8D-E4B97D397068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7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lektrische Anlagen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triebsmit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feld 3"/>
          <p:cNvSpPr/>
          <p:nvPr/>
        </p:nvSpPr>
        <p:spPr>
          <a:xfrm>
            <a:off x="684360" y="2059560"/>
            <a:ext cx="83055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Elektrische Anlagen und Betrieb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feld 7"/>
          <p:cNvSpPr/>
          <p:nvPr/>
        </p:nvSpPr>
        <p:spPr>
          <a:xfrm>
            <a:off x="671400" y="3313440"/>
            <a:ext cx="2640240" cy="3373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ationäre Anl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feil: nach rechts 9"/>
          <p:cNvSpPr/>
          <p:nvPr/>
        </p:nvSpPr>
        <p:spPr>
          <a:xfrm rot="5400000">
            <a:off x="1683000" y="26308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feil: nach rechts 11"/>
          <p:cNvSpPr/>
          <p:nvPr/>
        </p:nvSpPr>
        <p:spPr>
          <a:xfrm rot="5400000">
            <a:off x="7352640" y="263016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18"/>
          <p:cNvSpPr/>
          <p:nvPr/>
        </p:nvSpPr>
        <p:spPr>
          <a:xfrm>
            <a:off x="3513240" y="3183840"/>
            <a:ext cx="270036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fest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feld 19"/>
          <p:cNvSpPr/>
          <p:nvPr/>
        </p:nvSpPr>
        <p:spPr>
          <a:xfrm>
            <a:off x="6327720" y="3197520"/>
            <a:ext cx="266220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veränderlich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feil: nach rechts 20"/>
          <p:cNvSpPr/>
          <p:nvPr/>
        </p:nvSpPr>
        <p:spPr>
          <a:xfrm rot="5400000">
            <a:off x="4554000" y="262404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feil: nach rechts 25"/>
          <p:cNvSpPr/>
          <p:nvPr/>
        </p:nvSpPr>
        <p:spPr>
          <a:xfrm rot="5400000">
            <a:off x="7436160" y="5196600"/>
            <a:ext cx="444600" cy="3985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feld 2"/>
          <p:cNvSpPr/>
          <p:nvPr/>
        </p:nvSpPr>
        <p:spPr>
          <a:xfrm>
            <a:off x="896760" y="3795840"/>
            <a:ext cx="223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solche, die mit ihrer Umgebung fest verbunden sind (z. B. Installation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feld 12"/>
          <p:cNvSpPr/>
          <p:nvPr/>
        </p:nvSpPr>
        <p:spPr>
          <a:xfrm>
            <a:off x="3660840" y="3780000"/>
            <a:ext cx="2376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fest angebracht oder haben keine Tragevorrichtung und deren Masse ist so groß, dass sie nicht leicht bewegt werden kön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feld 13"/>
          <p:cNvSpPr/>
          <p:nvPr/>
        </p:nvSpPr>
        <p:spPr>
          <a:xfrm>
            <a:off x="6407280" y="3795840"/>
            <a:ext cx="252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solche, die während des Betriebes bewegt werden oder die leicht von einem Platz zum anderen gebracht werden können, während sie an den Versorgungsstromkreis angeschlossen s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14"/>
          <p:cNvSpPr/>
          <p:nvPr/>
        </p:nvSpPr>
        <p:spPr>
          <a:xfrm rot="5400000">
            <a:off x="4458600" y="5015880"/>
            <a:ext cx="792000" cy="3967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feil: nach rechts 4"/>
          <p:cNvSpPr/>
          <p:nvPr/>
        </p:nvSpPr>
        <p:spPr>
          <a:xfrm rot="5400000">
            <a:off x="1435320" y="4834800"/>
            <a:ext cx="1152360" cy="398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feld 1"/>
          <p:cNvSpPr/>
          <p:nvPr/>
        </p:nvSpPr>
        <p:spPr>
          <a:xfrm>
            <a:off x="3513240" y="5685120"/>
            <a:ext cx="5476680" cy="3070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üfung wird durch Praxisinhaber*in veranlas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3"/>
          <p:cNvSpPr/>
          <p:nvPr/>
        </p:nvSpPr>
        <p:spPr>
          <a:xfrm>
            <a:off x="669960" y="5688360"/>
            <a:ext cx="2682720" cy="9464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ventuell wird die Prüfung durch den Eigentümer*in der Praxis (Vermieter*in) veranlas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feld 7"/>
          <p:cNvSpPr/>
          <p:nvPr/>
        </p:nvSpPr>
        <p:spPr>
          <a:xfrm>
            <a:off x="681120" y="2059560"/>
            <a:ext cx="811512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Elektrische Anlagen und Betrieb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feld 10"/>
          <p:cNvSpPr/>
          <p:nvPr/>
        </p:nvSpPr>
        <p:spPr>
          <a:xfrm>
            <a:off x="2771640" y="3210120"/>
            <a:ext cx="41767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fest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feil: nach rechts 11"/>
          <p:cNvSpPr/>
          <p:nvPr/>
        </p:nvSpPr>
        <p:spPr>
          <a:xfrm rot="5400000">
            <a:off x="4555440" y="264132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feil: nach rechts 16"/>
          <p:cNvSpPr/>
          <p:nvPr/>
        </p:nvSpPr>
        <p:spPr>
          <a:xfrm rot="5400000">
            <a:off x="4555440" y="37242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uppieren 2"/>
          <p:cNvGrpSpPr/>
          <p:nvPr/>
        </p:nvGrpSpPr>
        <p:grpSpPr>
          <a:xfrm>
            <a:off x="1090440" y="4303800"/>
            <a:ext cx="7560000" cy="1103400"/>
            <a:chOff x="1090440" y="4303800"/>
            <a:chExt cx="7560000" cy="1103400"/>
          </a:xfrm>
        </p:grpSpPr>
        <p:pic>
          <p:nvPicPr>
            <p:cNvPr id="180" name="Grafik 33" descr=""/>
            <p:cNvPicPr/>
            <p:nvPr/>
          </p:nvPicPr>
          <p:blipFill>
            <a:blip r:embed="rId1"/>
            <a:stretch/>
          </p:blipFill>
          <p:spPr>
            <a:xfrm>
              <a:off x="1090440" y="4303800"/>
              <a:ext cx="7560000" cy="1103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1" name="Rectangle 27"/>
            <p:cNvSpPr/>
            <p:nvPr/>
          </p:nvSpPr>
          <p:spPr>
            <a:xfrm>
              <a:off x="3807360" y="4306680"/>
              <a:ext cx="1083240" cy="109656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7"/>
            <p:cNvSpPr/>
            <p:nvPr/>
          </p:nvSpPr>
          <p:spPr>
            <a:xfrm>
              <a:off x="6815160" y="4306680"/>
              <a:ext cx="1835280" cy="109656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feld 41"/>
          <p:cNvSpPr/>
          <p:nvPr/>
        </p:nvSpPr>
        <p:spPr>
          <a:xfrm>
            <a:off x="6953400" y="2765520"/>
            <a:ext cx="2016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fest angebracht oder haben keine Tragevorrichtung und deren Masse ist so groß, dass sie nicht leicht bewegt werden kön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feld 42"/>
          <p:cNvSpPr/>
          <p:nvPr/>
        </p:nvSpPr>
        <p:spPr>
          <a:xfrm>
            <a:off x="681120" y="6167880"/>
            <a:ext cx="8115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üfung durch Elektrofachk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feil: nach rechts 43"/>
          <p:cNvSpPr/>
          <p:nvPr/>
        </p:nvSpPr>
        <p:spPr>
          <a:xfrm rot="5400000">
            <a:off x="4565160" y="55926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feld 7"/>
          <p:cNvSpPr/>
          <p:nvPr/>
        </p:nvSpPr>
        <p:spPr>
          <a:xfrm>
            <a:off x="711360" y="1545120"/>
            <a:ext cx="83055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Elektrische Anlagen und Betrieb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feld 2"/>
          <p:cNvSpPr/>
          <p:nvPr/>
        </p:nvSpPr>
        <p:spPr>
          <a:xfrm>
            <a:off x="2522520" y="2582280"/>
            <a:ext cx="468000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veränderlich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feil: nach rechts 3"/>
          <p:cNvSpPr/>
          <p:nvPr/>
        </p:nvSpPr>
        <p:spPr>
          <a:xfrm rot="5400000">
            <a:off x="4608360" y="2111400"/>
            <a:ext cx="503280" cy="28728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feld 19"/>
          <p:cNvSpPr/>
          <p:nvPr/>
        </p:nvSpPr>
        <p:spPr>
          <a:xfrm>
            <a:off x="6772320" y="1960560"/>
            <a:ext cx="2374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solche, die während des Betriebes bewegt werden oder die leicht von einem Platz zum anderen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bracht werden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önnen, während sie an den Versorgungsstromkreis angeschlossen s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20"/>
          <p:cNvSpPr/>
          <p:nvPr/>
        </p:nvSpPr>
        <p:spPr>
          <a:xfrm>
            <a:off x="711360" y="6266160"/>
            <a:ext cx="83055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üfung durch Elektrofachkraft bzw. elektronisch unterwiesene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feil: nach rechts 22"/>
          <p:cNvSpPr/>
          <p:nvPr/>
        </p:nvSpPr>
        <p:spPr>
          <a:xfrm rot="5400000">
            <a:off x="4608000" y="3085920"/>
            <a:ext cx="504720" cy="2890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feil: nach rechts 23"/>
          <p:cNvSpPr/>
          <p:nvPr/>
        </p:nvSpPr>
        <p:spPr>
          <a:xfrm rot="5400000">
            <a:off x="4643280" y="5840280"/>
            <a:ext cx="431640" cy="2887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uppieren 4"/>
          <p:cNvGrpSpPr/>
          <p:nvPr/>
        </p:nvGrpSpPr>
        <p:grpSpPr>
          <a:xfrm>
            <a:off x="2530440" y="3524400"/>
            <a:ext cx="4662360" cy="2178000"/>
            <a:chOff x="2530440" y="3524400"/>
            <a:chExt cx="4662360" cy="2178000"/>
          </a:xfrm>
        </p:grpSpPr>
        <p:pic>
          <p:nvPicPr>
            <p:cNvPr id="195" name="Grafik 6" descr=""/>
            <p:cNvPicPr/>
            <p:nvPr/>
          </p:nvPicPr>
          <p:blipFill>
            <a:blip r:embed="rId1"/>
            <a:stretch/>
          </p:blipFill>
          <p:spPr>
            <a:xfrm>
              <a:off x="2530440" y="3542760"/>
              <a:ext cx="4655880" cy="2159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6" name="Rectangle 27"/>
            <p:cNvSpPr/>
            <p:nvPr/>
          </p:nvSpPr>
          <p:spPr>
            <a:xfrm>
              <a:off x="3732120" y="3540600"/>
              <a:ext cx="1468800" cy="215964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7"/>
            <p:cNvSpPr/>
            <p:nvPr/>
          </p:nvSpPr>
          <p:spPr>
            <a:xfrm>
              <a:off x="6160680" y="3524400"/>
              <a:ext cx="1032120" cy="215964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Grafik 1" descr=""/>
          <p:cNvPicPr/>
          <p:nvPr/>
        </p:nvPicPr>
        <p:blipFill>
          <a:blip r:embed="rId1"/>
          <a:stretch/>
        </p:blipFill>
        <p:spPr>
          <a:xfrm>
            <a:off x="2532240" y="3672000"/>
            <a:ext cx="4638600" cy="3095640"/>
          </a:xfrm>
          <a:prstGeom prst="rect">
            <a:avLst/>
          </a:prstGeom>
          <a:ln w="0">
            <a:noFill/>
          </a:ln>
        </p:spPr>
      </p:pic>
      <p:grpSp>
        <p:nvGrpSpPr>
          <p:cNvPr id="199" name="Gruppieren 5"/>
          <p:cNvGrpSpPr/>
          <p:nvPr/>
        </p:nvGrpSpPr>
        <p:grpSpPr>
          <a:xfrm>
            <a:off x="1278000" y="1979640"/>
            <a:ext cx="7199280" cy="2027160"/>
            <a:chOff x="1278000" y="1979640"/>
            <a:chExt cx="7199280" cy="2027160"/>
          </a:xfrm>
        </p:grpSpPr>
        <p:pic>
          <p:nvPicPr>
            <p:cNvPr id="200" name="Grafik 2" descr=""/>
            <p:cNvPicPr/>
            <p:nvPr/>
          </p:nvPicPr>
          <p:blipFill>
            <a:blip r:embed="rId2"/>
            <a:stretch/>
          </p:blipFill>
          <p:spPr>
            <a:xfrm>
              <a:off x="1278000" y="1979640"/>
              <a:ext cx="7199280" cy="447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01" name="Grafik 4" descr=""/>
            <p:cNvPicPr/>
            <p:nvPr/>
          </p:nvPicPr>
          <p:blipFill>
            <a:blip r:embed="rId3"/>
            <a:stretch/>
          </p:blipFill>
          <p:spPr>
            <a:xfrm>
              <a:off x="1278000" y="2411280"/>
              <a:ext cx="7199280" cy="1595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02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ehlerstrom-Schutzschalter (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5"/>
          <p:cNvSpPr/>
          <p:nvPr/>
        </p:nvSpPr>
        <p:spPr>
          <a:xfrm>
            <a:off x="3846600" y="1984320"/>
            <a:ext cx="1044360" cy="144468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6716880" y="1984320"/>
            <a:ext cx="1760400" cy="200988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feld 2"/>
          <p:cNvSpPr/>
          <p:nvPr/>
        </p:nvSpPr>
        <p:spPr>
          <a:xfrm>
            <a:off x="7176960" y="657072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</a:t>
            </a:r>
            <a:r>
              <a:rPr b="0" lang="az-Cyrl-AZ" sz="800" spc="-1" strike="noStrike">
                <a:solidFill>
                  <a:srgbClr val="000000"/>
                </a:solidFill>
                <a:latin typeface="Arial"/>
                <a:ea typeface="Arial"/>
              </a:rPr>
              <a:t>Ахте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Grafik 1" descr=""/>
          <p:cNvPicPr/>
          <p:nvPr/>
        </p:nvPicPr>
        <p:blipFill>
          <a:blip r:embed="rId1"/>
          <a:stretch/>
        </p:blipFill>
        <p:spPr>
          <a:xfrm>
            <a:off x="2532240" y="3672000"/>
            <a:ext cx="4638600" cy="309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682560" y="1979640"/>
            <a:ext cx="8460000" cy="76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unktionstest am FI-Schutzschal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I-Schutzschalter schützen vor elektrischen Schläg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ehlerstrom-Schutzschalter (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82560" y="3141720"/>
            <a:ext cx="841716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Gehen Sie folgendermaßen vor: Drücken Sie die eingebaute Prüftaste Ihres Fehlerstromschutzschalters -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so wird ein Fehlerstrom simuliert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und der Schalter wird umgehend ausgelö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feld 2"/>
          <p:cNvSpPr/>
          <p:nvPr/>
        </p:nvSpPr>
        <p:spPr>
          <a:xfrm>
            <a:off x="7176960" y="657072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</a:t>
            </a:r>
            <a:r>
              <a:rPr b="0" lang="az-Cyrl-AZ" sz="800" spc="-1" strike="noStrike">
                <a:solidFill>
                  <a:srgbClr val="000000"/>
                </a:solidFill>
                <a:latin typeface="Arial"/>
                <a:ea typeface="Arial"/>
              </a:rPr>
              <a:t>Ахте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Gerade Verbindung mit Pfeil 3"/>
          <p:cNvCxnSpPr/>
          <p:nvPr/>
        </p:nvCxnSpPr>
        <p:spPr>
          <a:xfrm>
            <a:off x="2023560" y="5681160"/>
            <a:ext cx="1466280" cy="108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triangle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684360" y="971640"/>
            <a:ext cx="845964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Festlegung der Prüfpfl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Grafik 1" descr="Festlegung_Elektrogeraete [Kompatibilitätsmodus] - Microsoft Word"/>
          <p:cNvPicPr/>
          <p:nvPr/>
        </p:nvPicPr>
        <p:blipFill>
          <a:blip r:embed="rId1"/>
          <a:srcRect l="19063" t="19060" r="19584" b="3976"/>
          <a:stretch/>
        </p:blipFill>
        <p:spPr>
          <a:xfrm>
            <a:off x="1787400" y="2114640"/>
            <a:ext cx="631368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Grafik 1" descr=""/>
          <p:cNvPicPr/>
          <p:nvPr/>
        </p:nvPicPr>
        <p:blipFill>
          <a:blip r:embed="rId2"/>
          <a:stretch/>
        </p:blipFill>
        <p:spPr>
          <a:xfrm>
            <a:off x="8191440" y="5705640"/>
            <a:ext cx="730440" cy="7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35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Gerätekennz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Was ist in der Praxis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hlerstrom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Schutzschalter (F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Festlegu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4360" y="197964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ordnung über Sicherheit und Gesundheitsschutz bei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Bereitstellung von Arbeitsmitteln und deren Benutzung bei d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Arbeit, über Sicherheit beim Betrieb überwachungsbedürftig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Anlagen und über die Organisation des betrieblichen Arbeit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schutzes (Betriebssicherheitsverordnung - BetrSi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fallverhütungsvorschrift DGUV Vorschrif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Grafik 5" descr="https://www.bgw-online.de/SharedDocs/Downloads/DE/Medientypen/DGUV_vorschrift-regel/DGUV-Vorsch - Internet Explorer"/>
          <p:cNvPicPr/>
          <p:nvPr/>
        </p:nvPicPr>
        <p:blipFill>
          <a:blip r:embed="rId1"/>
          <a:srcRect l="66048" t="15438" r="1979" b="1682"/>
          <a:stretch/>
        </p:blipFill>
        <p:spPr>
          <a:xfrm>
            <a:off x="4022640" y="4151160"/>
            <a:ext cx="178272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Textfeld 1"/>
          <p:cNvSpPr/>
          <p:nvPr/>
        </p:nvSpPr>
        <p:spPr>
          <a:xfrm>
            <a:off x="5810400" y="649908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, DGUV Vorschrift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Gerätekennzeichen verst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84360" y="2160720"/>
            <a:ext cx="8459640" cy="1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GS-Zeic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prüfte Sicherheit“ gemäß Prod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cherheitstechnische Prüfung eines Baumusters durch eine zugelassene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und unabhängige Stell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Prüf- und Zertifizierungsstelle führt Fertigungskontrolle d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684360" y="4456080"/>
            <a:ext cx="845964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G-Prüfze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ufsgenossenschaftliche Prüf- und Zertifizierungsst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cherheitstechnische Prüfung eines Baum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ung auch von Geräteteilen (Anbau- oder Zusatzgerä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- und Zertifizierungsstelle führt Fertigungskontrolle d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684360" y="2158920"/>
            <a:ext cx="845964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V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band der Elektrotechnik, Elektronik und Informationstechnik e. 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elektrotechnische Erzeugni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ennzeichnet die Konformität mit den VDE-Bestimmungen bzw.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uropäischer oder international harmonisierter Normen und bestätigt di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inhaltung der Schutzanforderungen der zutreffenden Richtli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DE-Zeichen steht für die Sicherheit des Produktes hinsichtlich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lektrischer, mechanischer, thermischer, toxischer, radiologischer und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sonstiger Gefähr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Gerätekennzeichen verst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4360" y="26370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4360" y="371628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ein ungehinderter Zugang zu Sicherungs- und Verteiler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schränken jederzeit mögl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alle Stromkreise und Verteilungen ordnungsgemäß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kennzeichn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84360" y="51577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Schalter und Steckdosen noch sicher befestig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die Kabelführungen in einwandfreiem Zusta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684360" y="263700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Verlängerungen und Anschlussleitung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tolperfrei“ verleg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6:15:54Z</dcterms:modified>
  <cp:revision>19</cp:revision>
  <dc:subject/>
  <dc:title/>
</cp:coreProperties>
</file>