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450D4C-9581-4803-9803-DD297C339A8B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Jugendl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611520"/>
            <a:ext cx="5921640" cy="285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684360" y="1978200"/>
            <a:ext cx="84596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terweisungspun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tersuchung von Jugendlichen (15-17 Jah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uppieren 6"/>
          <p:cNvGrpSpPr/>
          <p:nvPr/>
        </p:nvGrpSpPr>
        <p:grpSpPr>
          <a:xfrm>
            <a:off x="754200" y="2276640"/>
            <a:ext cx="3238200" cy="4109760"/>
            <a:chOff x="754200" y="2276640"/>
            <a:chExt cx="3238200" cy="4109760"/>
          </a:xfrm>
        </p:grpSpPr>
        <p:pic>
          <p:nvPicPr>
            <p:cNvPr id="142" name="Grafik 2" descr=""/>
            <p:cNvPicPr/>
            <p:nvPr/>
          </p:nvPicPr>
          <p:blipFill>
            <a:blip r:embed="rId1"/>
            <a:srcRect l="0" t="0" r="0" b="73686"/>
            <a:stretch/>
          </p:blipFill>
          <p:spPr>
            <a:xfrm>
              <a:off x="754200" y="2276640"/>
              <a:ext cx="3238200" cy="120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Grafik 4" descr=""/>
            <p:cNvPicPr/>
            <p:nvPr/>
          </p:nvPicPr>
          <p:blipFill>
            <a:blip r:embed="rId2"/>
            <a:srcRect l="0" t="38743" r="4881" b="0"/>
            <a:stretch/>
          </p:blipFill>
          <p:spPr>
            <a:xfrm>
              <a:off x="754200" y="3429000"/>
              <a:ext cx="3238200" cy="295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84360" y="16905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ugendarbeitsschutzgesetz (JArbSch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4064040" y="2421000"/>
            <a:ext cx="5079960" cy="29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zeit und Freiz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ungsverbote-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ränk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nstige Pflichten des Arbeitge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undheitliche Betreu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hänge und Verzeichni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s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hteck 5"/>
          <p:cNvSpPr/>
          <p:nvPr/>
        </p:nvSpPr>
        <p:spPr>
          <a:xfrm>
            <a:off x="754200" y="2276640"/>
            <a:ext cx="3309840" cy="4109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Jugendliche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84360" y="1798560"/>
            <a:ext cx="84596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§ 29 JArbSchG hat folgenden Wortla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Arbeitgeber hat die Jugendlichen vor Beginn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ung über die Unfall- und Gesundheitsgefahren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nen sie bei der Beschäftigung ausgesetzt sind sowie über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richtungen und Maßnahmen zur Abwendung dies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ahren zu unterweisen. Er hat die Jugendlichen vor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maligen Beschäftigung an Maschinen oder gefährlich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tellen oder mit Arbeiten, bei denen sie mit gesund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itsgefährdenden Stoffen in Berührung kommen, über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onderen Gefahren dieser Arbeiten sowie über das bei ihr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richtung erforderliche Verhalten zu unterwei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Unterweisungen sind in angemessenen Zeitabständen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ndestens aber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halbjährlich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, zu wiederho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Jugendliche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684360" y="1798560"/>
            <a:ext cx="8459640" cy="32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rner wird mit der Unterschrift bestätigt, dass gemäß § 47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ArbSchG darauf hingewiesen wurde, an welcher Stelle i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 das Jugendarbeitsschutzgesetz (siehe im „PRAXIS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ndbuch Qualitätssicherung: Anhang“ unter "Aushang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ichtnahme" im Kapitel „Personal“) und die Adresse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ständigen Arbeitsschutzbehörde - Landratsamt - (siehe i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PRAXIS-Handbuch Qualitätssicherung: Anhang“ im Kapitel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"Adressenverzeichnis") auslie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/Dem Jugendlichen wurde eine Kopie der Unterweis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ehändi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suchung von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Jugendlichen (15-17 J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Rechteck 1" descr=""/>
          <p:cNvPicPr/>
          <p:nvPr/>
        </p:nvPicPr>
        <p:blipFill>
          <a:blip r:embed="rId1"/>
          <a:stretch/>
        </p:blipFill>
        <p:spPr>
          <a:xfrm>
            <a:off x="822240" y="6175440"/>
            <a:ext cx="7718400" cy="646200"/>
          </a:xfrm>
          <a:prstGeom prst="rect">
            <a:avLst/>
          </a:prstGeom>
          <a:ln w="0">
            <a:noFill/>
          </a:ln>
        </p:spPr>
      </p:pic>
      <p:pic>
        <p:nvPicPr>
          <p:cNvPr id="154" name="Grafik 2" descr=""/>
          <p:cNvPicPr/>
          <p:nvPr/>
        </p:nvPicPr>
        <p:blipFill>
          <a:blip r:embed="rId2"/>
          <a:stretch/>
        </p:blipFill>
        <p:spPr>
          <a:xfrm>
            <a:off x="620640" y="1652760"/>
            <a:ext cx="8460000" cy="429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5" name="Grafik 6" descr=""/>
          <p:cNvPicPr/>
          <p:nvPr/>
        </p:nvPicPr>
        <p:blipFill>
          <a:blip r:embed="rId3"/>
          <a:stretch/>
        </p:blipFill>
        <p:spPr>
          <a:xfrm>
            <a:off x="8540640" y="6021360"/>
            <a:ext cx="540000" cy="539640"/>
          </a:xfrm>
          <a:prstGeom prst="rect">
            <a:avLst/>
          </a:prstGeom>
          <a:ln w="0">
            <a:noFill/>
          </a:ln>
        </p:spPr>
      </p:pic>
      <p:pic>
        <p:nvPicPr>
          <p:cNvPr id="156" name="Grafik 4" descr=""/>
          <p:cNvPicPr/>
          <p:nvPr/>
        </p:nvPicPr>
        <p:blipFill>
          <a:blip r:embed="rId4"/>
          <a:stretch/>
        </p:blipFill>
        <p:spPr>
          <a:xfrm>
            <a:off x="2925720" y="5756400"/>
            <a:ext cx="384984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Jugendlich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"/>
          <p:cNvPicPr/>
          <p:nvPr/>
        </p:nvPicPr>
        <p:blipFill>
          <a:blip r:embed="rId1"/>
          <a:stretch/>
        </p:blipFill>
        <p:spPr>
          <a:xfrm>
            <a:off x="4889520" y="243540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9" name="Rechteck 3"/>
          <p:cNvSpPr/>
          <p:nvPr/>
        </p:nvSpPr>
        <p:spPr>
          <a:xfrm>
            <a:off x="4886280" y="362124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Grafik 2" descr=""/>
          <p:cNvPicPr/>
          <p:nvPr/>
        </p:nvPicPr>
        <p:blipFill>
          <a:blip r:embed="rId2"/>
          <a:stretch/>
        </p:blipFill>
        <p:spPr>
          <a:xfrm>
            <a:off x="684360" y="2435400"/>
            <a:ext cx="4103640" cy="124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1" name="Grafik 5" descr=""/>
          <p:cNvPicPr/>
          <p:nvPr/>
        </p:nvPicPr>
        <p:blipFill>
          <a:blip r:embed="rId3"/>
          <a:stretch/>
        </p:blipFill>
        <p:spPr>
          <a:xfrm>
            <a:off x="4886280" y="4168800"/>
            <a:ext cx="4140360" cy="167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8-08T06:22:23Z</dcterms:modified>
  <cp:revision>20</cp:revision>
  <dc:subject/>
  <dc:title/>
</cp:coreProperties>
</file>