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4F56A-A2EF-4BAA-BAB6-042BB2E5B6A3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sschutz &amp; Unfallverhü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Grafik 4" descr=""/>
          <p:cNvPicPr/>
          <p:nvPr/>
        </p:nvPicPr>
        <p:blipFill>
          <a:blip r:embed="rId1"/>
          <a:stretch/>
        </p:blipFill>
        <p:spPr>
          <a:xfrm>
            <a:off x="4643280" y="1619280"/>
            <a:ext cx="4380120" cy="32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6" name="Grafik 1" descr="Unterweisungserklaerung [Kompatibilitätsmodus] - Microsoft Word"/>
          <p:cNvPicPr/>
          <p:nvPr/>
        </p:nvPicPr>
        <p:blipFill>
          <a:blip r:embed="rId2"/>
          <a:srcRect l="8303" t="4842" r="59528" b="3725"/>
          <a:stretch/>
        </p:blipFill>
        <p:spPr>
          <a:xfrm>
            <a:off x="809640" y="1535040"/>
            <a:ext cx="342108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ok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809640" y="4903920"/>
            <a:ext cx="3419640" cy="10429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 flipV="1">
            <a:off x="4092480" y="3265200"/>
            <a:ext cx="1295640" cy="1531800"/>
          </a:xfrm>
          <a:prstGeom prst="line">
            <a:avLst/>
          </a:prstGeom>
          <a:ln w="63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4633920" y="5021280"/>
            <a:ext cx="440208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terweisungsmodule: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ateien im *.pdf und *.ppt-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afik 11" descr=""/>
          <p:cNvPicPr/>
          <p:nvPr/>
        </p:nvPicPr>
        <p:blipFill>
          <a:blip r:embed="rId3"/>
          <a:stretch/>
        </p:blipFill>
        <p:spPr>
          <a:xfrm>
            <a:off x="8408880" y="5850000"/>
            <a:ext cx="627120" cy="6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684360" y="971640"/>
            <a:ext cx="845964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Personenbezogene Festleg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2"/>
          <p:cNvSpPr/>
          <p:nvPr/>
        </p:nvSpPr>
        <p:spPr>
          <a:xfrm flipV="1">
            <a:off x="4092480" y="3265200"/>
            <a:ext cx="1295640" cy="1531800"/>
          </a:xfrm>
          <a:prstGeom prst="line">
            <a:avLst/>
          </a:prstGeom>
          <a:ln w="63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Grafik 1" descr="Unterweisungserklaerung [Kompatibilitätsmodus] - Microsoft Word"/>
          <p:cNvPicPr/>
          <p:nvPr/>
        </p:nvPicPr>
        <p:blipFill>
          <a:blip r:embed="rId1"/>
          <a:srcRect l="14433" t="19128" r="13869" b="4008"/>
          <a:stretch/>
        </p:blipFill>
        <p:spPr>
          <a:xfrm>
            <a:off x="973080" y="2224080"/>
            <a:ext cx="7197840" cy="421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Grafik 11" descr=""/>
          <p:cNvPicPr/>
          <p:nvPr/>
        </p:nvPicPr>
        <p:blipFill>
          <a:blip r:embed="rId2"/>
          <a:stretch/>
        </p:blipFill>
        <p:spPr>
          <a:xfrm>
            <a:off x="8427960" y="580716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186" name="Grafik 2" descr=""/>
          <p:cNvPicPr/>
          <p:nvPr/>
        </p:nvPicPr>
        <p:blipFill>
          <a:blip r:embed="rId3"/>
          <a:stretch/>
        </p:blipFill>
        <p:spPr>
          <a:xfrm>
            <a:off x="5027760" y="6505560"/>
            <a:ext cx="336060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Grafik 1" descr=""/>
          <p:cNvPicPr/>
          <p:nvPr/>
        </p:nvPicPr>
        <p:blipFill>
          <a:blip r:embed="rId1"/>
          <a:stretch/>
        </p:blipFill>
        <p:spPr>
          <a:xfrm>
            <a:off x="4751280" y="3016080"/>
            <a:ext cx="425448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8" name="Text Box 3"/>
          <p:cNvSpPr/>
          <p:nvPr/>
        </p:nvSpPr>
        <p:spPr>
          <a:xfrm>
            <a:off x="684360" y="1127160"/>
            <a:ext cx="845964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für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Unterweisungen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steht die folgende Checkliste zur Verfüg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3" descr=""/>
          <p:cNvPicPr/>
          <p:nvPr/>
        </p:nvPicPr>
        <p:blipFill>
          <a:blip r:embed="rId2"/>
          <a:stretch/>
        </p:blipFill>
        <p:spPr>
          <a:xfrm>
            <a:off x="685800" y="1924200"/>
            <a:ext cx="4211640" cy="163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" name="Rechteck 9"/>
          <p:cNvSpPr/>
          <p:nvPr/>
        </p:nvSpPr>
        <p:spPr>
          <a:xfrm>
            <a:off x="684360" y="310500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84360" y="2158920"/>
            <a:ext cx="845964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Beschäftigten einer Praxis haben alle der Arbeitssicherhei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enden Maßnahmen zu unterstützen und sind verpflichtet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 der Praxisinhaberin/des Praxisinhabers zum Zweck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Unfallverhütung zu befolgen, es sei denn, es handelt sich u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, die offensichtlich unbegründet s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zur Verfügung gestellte persönliche Schutzausrüstun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zu benut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cherte haben Einrichtungen, Arbeitsmittel und Arbeitsstoff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wie Schutzvorrichtungen bestimmungsgemäß und im Rahm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ihnen übertragenen Arbeitsaufgaben zu benut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684360" y="2158920"/>
            <a:ext cx="8459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Beschäftigten haben der Praxisinhaberin/dem Praxisinhab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 von ihnen festgestellte unmittelbare erhebliche Gefahr fü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icherheit und Gesundheit sowie jeden an den Schutzvor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ichtungen und Schutzsystemen festgestellten Defek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verzüglich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Versicherten haben die Maßnahmen zur Verhütung v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ällen, Berufskrankheiten und arbeitsbeding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gefahren sowie für eine wirksame Erste Hilfe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tützen. Versicherte haben die entsprechen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en des Unternehmers zu befolgen. Die Versicher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ürfen erkennbar gegen Sicherheit und Gesundheit gerichte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 nicht befol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684360" y="2158920"/>
            <a:ext cx="845964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cherte dürfen sich durch den Konsum von Alkohol, Dro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anderen berauschenden Mitteln (inkl. Medikamente) nicht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n Zusta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etzen, durch den sie sich selbst oder ander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ön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Verhalten bei Arbeitsunfällen und Notfallsituationen ist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len und die Erste-Hilfe-Organisation in der Praxis ist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ten bekannt zu ma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 Beschäftigten ist die Bedeutung von Sicherheits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schutzkennzeichnung in der Praxis zu erläut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684360" y="2158920"/>
            <a:ext cx="8459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ellt ein Beschäftigter fest, dass im Hinblick auf die Verhüt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n Arbeitsunfällen, Berufskrankheiten und arbeitsbeding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gefahren ein Arbeitsmittel oder eine sonsti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 einen Mangel aufweist, Arbeitsstoffe nicht einwand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 verpackt, gekennzeichnet oder beschaffen sind oder e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verfahren oder Arbeitsabläufe Mängel aufweisen hat er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weit dies zu seiner Arbeitsaufgabe gehört und er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twendige Befähigung verfügt, den festgestellten Mangel oh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ungspotenzial unverzüglich zu beseitigen. Andernfalls ha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 den Mangel dem Praxisinhaber unverzüglich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84360" y="215892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in den einzelnen Unfallverhütungsvorschriften enthalten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ßnahmen sind zu beachten und einzu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646200" y="3238560"/>
            <a:ext cx="8459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Unfallverhütungsvorschriften sind im Kapitel „1.6 Unfall-verhütungsvorschriften und Technische Regeln“ über die Schaltfläche „1. Gesetze und Rechtliche Grundlagen“ im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AXIS-Handbuch in ihrem Wortlaut nachzule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7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68444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der Mitarbeiter*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Inha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Dok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sätze des Arbeitsschutzes und der Unfallverhü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schutz und Unfallverhü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1"/>
          <a:stretch/>
        </p:blipFill>
        <p:spPr>
          <a:xfrm>
            <a:off x="1981080" y="1897200"/>
            <a:ext cx="5399280" cy="491652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3" descr=""/>
          <p:cNvPicPr/>
          <p:nvPr/>
        </p:nvPicPr>
        <p:blipFill>
          <a:blip r:embed="rId2"/>
          <a:srcRect l="5221" t="5582" r="288" b="0"/>
          <a:stretch/>
        </p:blipFill>
        <p:spPr>
          <a:xfrm>
            <a:off x="4370400" y="5261040"/>
            <a:ext cx="3774960" cy="14540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144" name="Textfeld 3"/>
          <p:cNvSpPr/>
          <p:nvPr/>
        </p:nvSpPr>
        <p:spPr>
          <a:xfrm>
            <a:off x="1971720" y="586260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n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gesetz (ArbSchG) und Unfallverhütungsvorschrift DGUV V1 „Grundsätze der Präventio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600360" y="2692440"/>
            <a:ext cx="50040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s Unterneh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r Versich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ation des betrieb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54952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der Mitarbeiter*i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Grafik 3" descr=""/>
          <p:cNvPicPr/>
          <p:nvPr/>
        </p:nvPicPr>
        <p:blipFill>
          <a:blip r:embed="rId1"/>
          <a:stretch/>
        </p:blipFill>
        <p:spPr>
          <a:xfrm>
            <a:off x="3002040" y="1584360"/>
            <a:ext cx="369396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1" name="Textfeld 3"/>
          <p:cNvSpPr/>
          <p:nvPr/>
        </p:nvSpPr>
        <p:spPr>
          <a:xfrm>
            <a:off x="6705720" y="6465960"/>
            <a:ext cx="20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themen, Unterweisen im Betrieb - ein Leitfaden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, 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feld 1"/>
          <p:cNvSpPr/>
          <p:nvPr/>
        </p:nvSpPr>
        <p:spPr>
          <a:xfrm>
            <a:off x="684360" y="1573560"/>
            <a:ext cx="8184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Unterweisung der Mitarbeiter*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feld 3"/>
          <p:cNvSpPr/>
          <p:nvPr/>
        </p:nvSpPr>
        <p:spPr>
          <a:xfrm>
            <a:off x="708120" y="4652640"/>
            <a:ext cx="249228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Vor Arbeitsaufnah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feil: nach rechts 4"/>
          <p:cNvSpPr/>
          <p:nvPr/>
        </p:nvSpPr>
        <p:spPr>
          <a:xfrm rot="5400000">
            <a:off x="1740600" y="4112280"/>
            <a:ext cx="431640" cy="2808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feld 5"/>
          <p:cNvSpPr/>
          <p:nvPr/>
        </p:nvSpPr>
        <p:spPr>
          <a:xfrm>
            <a:off x="3568680" y="4532400"/>
            <a:ext cx="259236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i wesentlichen Änd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6"/>
          <p:cNvSpPr/>
          <p:nvPr/>
        </p:nvSpPr>
        <p:spPr>
          <a:xfrm>
            <a:off x="6377040" y="4532400"/>
            <a:ext cx="249228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Regelmäßig einmal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o Ja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feil: nach rechts 11"/>
          <p:cNvSpPr/>
          <p:nvPr/>
        </p:nvSpPr>
        <p:spPr>
          <a:xfrm rot="5400000">
            <a:off x="4557240" y="57463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feld 14"/>
          <p:cNvSpPr/>
          <p:nvPr/>
        </p:nvSpPr>
        <p:spPr>
          <a:xfrm>
            <a:off x="870120" y="5227560"/>
            <a:ext cx="21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rstunterweis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feld 20"/>
          <p:cNvSpPr/>
          <p:nvPr/>
        </p:nvSpPr>
        <p:spPr>
          <a:xfrm>
            <a:off x="3565440" y="511956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eues Arbeitsverfahren, neue Geräte, neue Regelwerke, …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26"/>
          <p:cNvSpPr/>
          <p:nvPr/>
        </p:nvSpPr>
        <p:spPr>
          <a:xfrm>
            <a:off x="6367320" y="5113440"/>
            <a:ext cx="25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sicht: Jugendliche zwischen 15-17 Jahren: halbjährl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27"/>
          <p:cNvSpPr/>
          <p:nvPr/>
        </p:nvSpPr>
        <p:spPr>
          <a:xfrm>
            <a:off x="684360" y="2608560"/>
            <a:ext cx="8184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Wer darf die Unterweisungen durchfüh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feil: nach rechts 29"/>
          <p:cNvSpPr/>
          <p:nvPr/>
        </p:nvSpPr>
        <p:spPr>
          <a:xfrm rot="5400000">
            <a:off x="4600080" y="2125440"/>
            <a:ext cx="503280" cy="32868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feld 30"/>
          <p:cNvSpPr/>
          <p:nvPr/>
        </p:nvSpPr>
        <p:spPr>
          <a:xfrm>
            <a:off x="708120" y="6310800"/>
            <a:ext cx="8161200" cy="33732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okumentation der Mitarbeiter-Unterweis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feil: nach rechts 32"/>
          <p:cNvSpPr/>
          <p:nvPr/>
        </p:nvSpPr>
        <p:spPr>
          <a:xfrm rot="5400000">
            <a:off x="1642680" y="5740200"/>
            <a:ext cx="622440" cy="3970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feil: nach rechts 33"/>
          <p:cNvSpPr/>
          <p:nvPr/>
        </p:nvSpPr>
        <p:spPr>
          <a:xfrm rot="5400000">
            <a:off x="7315560" y="5729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Grafik 12" descr=""/>
          <p:cNvPicPr/>
          <p:nvPr/>
        </p:nvPicPr>
        <p:blipFill>
          <a:blip r:embed="rId1"/>
          <a:stretch/>
        </p:blipFill>
        <p:spPr>
          <a:xfrm>
            <a:off x="8572680" y="596268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35"/>
          <p:cNvSpPr/>
          <p:nvPr/>
        </p:nvSpPr>
        <p:spPr>
          <a:xfrm>
            <a:off x="682560" y="3646800"/>
            <a:ext cx="81867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raxisinhaber*in + fachkundige und zuverlässige Praxismitarbeiter*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feil: nach rechts 36"/>
          <p:cNvSpPr/>
          <p:nvPr/>
        </p:nvSpPr>
        <p:spPr>
          <a:xfrm rot="5400000">
            <a:off x="4641840" y="4106880"/>
            <a:ext cx="432000" cy="279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feil: nach rechts 37"/>
          <p:cNvSpPr/>
          <p:nvPr/>
        </p:nvSpPr>
        <p:spPr>
          <a:xfrm rot="5400000">
            <a:off x="7410600" y="4105800"/>
            <a:ext cx="432000" cy="28116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feil: nach rechts 38"/>
          <p:cNvSpPr/>
          <p:nvPr/>
        </p:nvSpPr>
        <p:spPr>
          <a:xfrm rot="5400000">
            <a:off x="4599720" y="3161520"/>
            <a:ext cx="503280" cy="326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feld 39"/>
          <p:cNvSpPr/>
          <p:nvPr/>
        </p:nvSpPr>
        <p:spPr>
          <a:xfrm>
            <a:off x="2139840" y="5635800"/>
            <a:ext cx="245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fbewahrung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5 Jahre; nach dem Ausscheiden des Mitarbeiters noch weitere 5 Jah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Inhal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84360" y="180036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 + Allgemeine Unfallverhü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medizinische Vorsorge und Immun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sbeschränkungen- und -verb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ostof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d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gebnisse der Gefährdungsbeurteil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önt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5:59:30Z</dcterms:modified>
  <cp:revision>16</cp:revision>
  <dc:subject/>
  <dc:title/>
</cp:coreProperties>
</file>