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DAFEF-4C1C-414C-86BC-FFA86423DC5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EB0E1-F715-43F3-B108-28E36153F93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DAD8A-5581-4427-8724-2DEAFF7CF1D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Hygiene und Medizinprodukte-Aufbereit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320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5" descr=""/>
          <p:cNvPicPr/>
          <p:nvPr/>
        </p:nvPicPr>
        <p:blipFill>
          <a:blip r:embed="rId3"/>
          <a:stretch/>
        </p:blipFill>
        <p:spPr>
          <a:xfrm>
            <a:off x="4886280" y="4143240"/>
            <a:ext cx="4075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0:49Z</dcterms:modified>
  <cp:revision>21</cp:revision>
  <dc:subject/>
  <dc:title/>
</cp:coreProperties>
</file>