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6.jpeg" ContentType="image/jpeg"/>
  <Override PartName="/ppt/media/image4.png" ContentType="image/png"/>
  <Override PartName="/ppt/media/image27.png" ContentType="image/png"/>
  <Override PartName="/ppt/media/image3.jpeg" ContentType="image/jpeg"/>
  <Override PartName="/ppt/media/image24.jpeg" ContentType="image/jpeg"/>
  <Override PartName="/ppt/media/image26.png" ContentType="image/png"/>
  <Override PartName="/ppt/media/image1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25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1164960" y="1240920"/>
            <a:ext cx="446724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E14B56-D3DA-4978-86E1-6CA994EFCD8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498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Foliennummernplatzhalt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6EDAE3-3689-4B47-A269-EAA5F8C0CA3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34FA16-F98A-465D-8440-9C7A518319A0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9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8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8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edizinproduk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feld 9"/>
          <p:cNvSpPr/>
          <p:nvPr/>
        </p:nvSpPr>
        <p:spPr>
          <a:xfrm>
            <a:off x="4952880" y="3537000"/>
            <a:ext cx="458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 Lasergeräte der Klasse 3B, 3R oder 4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Anästhesiegeräte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Nervenfunktionsgeräte (Pulpenprüfer)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Hochfrequenz-Chirurgiegeräte 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  (z.B. Elektrotom, Piezo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edizinprodukteb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feld 7"/>
          <p:cNvSpPr/>
          <p:nvPr/>
        </p:nvSpPr>
        <p:spPr>
          <a:xfrm>
            <a:off x="671400" y="205956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feld 12"/>
          <p:cNvSpPr/>
          <p:nvPr/>
        </p:nvSpPr>
        <p:spPr>
          <a:xfrm>
            <a:off x="4937040" y="265320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Grafik 8" descr=""/>
          <p:cNvPicPr/>
          <p:nvPr/>
        </p:nvPicPr>
        <p:blipFill>
          <a:blip r:embed="rId1"/>
          <a:stretch/>
        </p:blipFill>
        <p:spPr>
          <a:xfrm>
            <a:off x="2192400" y="3139920"/>
            <a:ext cx="1587600" cy="2584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4" name="Rechteck 11" descr=""/>
          <p:cNvPicPr/>
          <p:nvPr/>
        </p:nvPicPr>
        <p:blipFill>
          <a:blip r:embed="rId2"/>
          <a:stretch/>
        </p:blipFill>
        <p:spPr>
          <a:xfrm>
            <a:off x="1243080" y="5754600"/>
            <a:ext cx="3309840" cy="463680"/>
          </a:xfrm>
          <a:prstGeom prst="rect">
            <a:avLst/>
          </a:prstGeom>
          <a:ln w="0">
            <a:noFill/>
          </a:ln>
        </p:spPr>
      </p:pic>
      <p:sp>
        <p:nvSpPr>
          <p:cNvPr id="195" name="Textfeld 13"/>
          <p:cNvSpPr/>
          <p:nvPr/>
        </p:nvSpPr>
        <p:spPr>
          <a:xfrm>
            <a:off x="1841400" y="2799000"/>
            <a:ext cx="2303640" cy="3373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edizinprodukteb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Grafik 12" descr=""/>
          <p:cNvPicPr/>
          <p:nvPr/>
        </p:nvPicPr>
        <p:blipFill>
          <a:blip r:embed="rId3"/>
          <a:stretch/>
        </p:blipFill>
        <p:spPr>
          <a:xfrm>
            <a:off x="3854520" y="544032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ktive Medizinprodukte - Aufgab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684360" y="1978200"/>
            <a:ext cx="845964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Ein-/Unterweisung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 (Betriebsanweisung + Gebrauchsanweisung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weisung: Vor Inbetriebnahme (wenn Anlage 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: Vor Arbeitsaufnahme + 1 x pro Ja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Prüfpflich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cherheitstechnische Kontrolle (STK) gemäß MPBetreib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Persönliche Schutzausrüstung (PS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genschutz (Laserschutzbrille -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Wellenläng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gf. Schutzhandschuhe und Schutzkleidu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Dokumentation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andsverzeichnis (aktiv + nicht-implantierb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dizinproduktebuch (Anlage 1 der MPBetreib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CE-Kennzeichen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(Richtlinie 93/42/EWG, Verordnung (EU) 2017/745)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aussetzung für die Verkehrsfähigkeit eines Medizinproduk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Aktive Medizinprodukt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- STK und Wartu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feld 3"/>
          <p:cNvSpPr/>
          <p:nvPr/>
        </p:nvSpPr>
        <p:spPr>
          <a:xfrm>
            <a:off x="671400" y="2019600"/>
            <a:ext cx="8437680" cy="70380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Alle aktiven und nicht-implantierbaren Medizinprodukte </a:t>
            </a:r>
            <a:br>
              <a:rPr sz="20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gemäß der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nlage 1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 der MPBetreib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Grafik 5" descr=""/>
          <p:cNvPicPr/>
          <p:nvPr/>
        </p:nvPicPr>
        <p:blipFill>
          <a:blip r:embed="rId1"/>
          <a:stretch/>
        </p:blipFill>
        <p:spPr>
          <a:xfrm>
            <a:off x="4262400" y="3430440"/>
            <a:ext cx="1236600" cy="201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2" name="Textfeld 6"/>
          <p:cNvSpPr/>
          <p:nvPr/>
        </p:nvSpPr>
        <p:spPr>
          <a:xfrm>
            <a:off x="3728880" y="3537360"/>
            <a:ext cx="2305080" cy="3373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edizinprodukteb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feld 8"/>
          <p:cNvSpPr/>
          <p:nvPr/>
        </p:nvSpPr>
        <p:spPr>
          <a:xfrm>
            <a:off x="673200" y="4699080"/>
            <a:ext cx="8439120" cy="15541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STK-Intervall: Betreiber legt STK-Frist so fest, dass entsprechende Mängel rechtzeitig festgestellt werden können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Die STK ist jedoch spätestens alle zwei Jahre durchzuführen (Achtung: Hersteller legt einen Prüffrist &lt; 2 Jahre fest)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STK durch z. B. Medizintechniker (§ 5 MPBetreibV); Dokumentation in Form eines STK-Protokolls und Aufbewahrung mindestens bis zur nächsten ST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feil: nach rechts 9"/>
          <p:cNvSpPr/>
          <p:nvPr/>
        </p:nvSpPr>
        <p:spPr>
          <a:xfrm rot="5400000">
            <a:off x="4547160" y="2940840"/>
            <a:ext cx="684360" cy="39672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feil: nach rechts 10"/>
          <p:cNvSpPr/>
          <p:nvPr/>
        </p:nvSpPr>
        <p:spPr>
          <a:xfrm rot="5400000">
            <a:off x="4554360" y="4095720"/>
            <a:ext cx="669960" cy="39672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673200" y="6335640"/>
            <a:ext cx="8439120" cy="276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Achtung: Angaben zur Wartung in der Gebrauchsanweisung des Geräteherstellers sind zu beachte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Grafik 1" descr=""/>
          <p:cNvPicPr/>
          <p:nvPr/>
        </p:nvPicPr>
        <p:blipFill>
          <a:blip r:embed="rId2"/>
          <a:stretch/>
        </p:blipFill>
        <p:spPr>
          <a:xfrm>
            <a:off x="2236680" y="4329000"/>
            <a:ext cx="194652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xkurs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Meldung an das Bf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684360" y="1978200"/>
            <a:ext cx="842472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„System für die Aufzeichnung von Vorkommnissen und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ldung von schwerwiegenden Vorkommnissen und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„Sicherheitskorrekturmaßnahmen im Feld“ gemäß EU-MDR und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PAMIV ist in einer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Verfahrensanweisung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zu beschreib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Meldung</a:t>
            </a:r>
            <a:r>
              <a:rPr b="0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as Auftreten eines „mutmaßlich schwerwiegenden Vorkommnisses“ (z. B. Tod eines Patienten, Anwenders oder einer anderen Person; die vorübergehende oder dauerhafte schwerwiegende Verschlechterung des Gesundheitszustands eines Patienten, Anwenders oder einer anderen Person) ist an die zuständige Behörde (Bundesinstitut für Arzneimittel und Medizinprodukte (BfArM)) zu mel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Muster-Verfahrensanweisung im PRAXIS-Handbuch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Grafik 5" descr="BfArM - Formulare Medizinprodukte - Internet Explorer"/>
          <p:cNvPicPr/>
          <p:nvPr/>
        </p:nvPicPr>
        <p:blipFill>
          <a:blip r:embed="rId1"/>
          <a:srcRect l="31700" t="16534" r="57738" b="73263"/>
          <a:stretch/>
        </p:blipFill>
        <p:spPr>
          <a:xfrm>
            <a:off x="7281720" y="1079640"/>
            <a:ext cx="1800360" cy="94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1" name="Grafik 4" descr=""/>
          <p:cNvPicPr/>
          <p:nvPr/>
        </p:nvPicPr>
        <p:blipFill>
          <a:blip r:embed="rId2"/>
          <a:stretch/>
        </p:blipFill>
        <p:spPr>
          <a:xfrm>
            <a:off x="3390840" y="5526000"/>
            <a:ext cx="3044880" cy="1303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2" name="Grafik 5" descr=""/>
          <p:cNvPicPr/>
          <p:nvPr/>
        </p:nvPicPr>
        <p:blipFill>
          <a:blip r:embed="rId3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  <p:pic>
        <p:nvPicPr>
          <p:cNvPr id="213" name="Grafik 1" descr=""/>
          <p:cNvPicPr/>
          <p:nvPr/>
        </p:nvPicPr>
        <p:blipFill>
          <a:blip r:embed="rId4"/>
          <a:stretch/>
        </p:blipFill>
        <p:spPr>
          <a:xfrm>
            <a:off x="2320920" y="6488280"/>
            <a:ext cx="606888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auftragter für Medizinprodukte-sicherh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684360" y="2160720"/>
            <a:ext cx="8424720" cy="29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axen </a:t>
            </a:r>
            <a:r>
              <a:rPr b="1" lang="de-DE" sz="1800" spc="-1" strike="noStrike" u="sng">
                <a:solidFill>
                  <a:srgbClr val="0070c0"/>
                </a:solidFill>
                <a:uFillTx/>
                <a:latin typeface="Arial"/>
              </a:rPr>
              <a:t>mit regelmäßig mehr als 20 Beschäftigten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aben sicherzustellen,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ass eine sachkundige und zuverlässige Person mit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medizinischer,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naturwissenschaftlicher, pflegerischer, pharmazeutischer oder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technischer Ausbildung als Beauftragter für Medizinproduktesicherheit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(z.B. angestellte/r Zahnärztin/Zahnarzt)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stimmt 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66760"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Funktions-E-Mail-Adresse des Beauftragten für die Medizinprodukte-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sicherheit auf der Internetseite der Prax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r Beauftragte für Medizinproduktesicherheit nimmt als zentrale Stelle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 der Praxis Kontakt- und Koordinierungsaufgaben in einem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orkommnis-Verfahren wah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2708280" y="5400720"/>
            <a:ext cx="4319640" cy="642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Regelmäßig mehr als 20 Beschäftigte </a:t>
            </a:r>
            <a:r>
              <a:rPr b="1" lang="de-DE" sz="1800" spc="-1" strike="noStrike" u="sng">
                <a:solidFill>
                  <a:srgbClr val="ffffff"/>
                </a:solidFill>
                <a:uFillTx/>
                <a:latin typeface="Arial"/>
              </a:rPr>
              <a:t>pro Praxis-Stand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Grafik 8" descr=""/>
          <p:cNvPicPr/>
          <p:nvPr/>
        </p:nvPicPr>
        <p:blipFill>
          <a:blip r:embed="rId1"/>
          <a:stretch/>
        </p:blipFill>
        <p:spPr>
          <a:xfrm>
            <a:off x="8447040" y="5991120"/>
            <a:ext cx="627120" cy="627120"/>
          </a:xfrm>
          <a:prstGeom prst="rect">
            <a:avLst/>
          </a:prstGeom>
          <a:ln w="0">
            <a:noFill/>
          </a:ln>
        </p:spPr>
      </p:pic>
      <p:pic>
        <p:nvPicPr>
          <p:cNvPr id="218" name="Grafik 5" descr=""/>
          <p:cNvPicPr/>
          <p:nvPr/>
        </p:nvPicPr>
        <p:blipFill>
          <a:blip r:embed="rId2"/>
          <a:stretch/>
        </p:blipFill>
        <p:spPr>
          <a:xfrm>
            <a:off x="4497480" y="6330960"/>
            <a:ext cx="388152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684360" y="104472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Medizinprodukte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3" descr=""/>
          <p:cNvPicPr/>
          <p:nvPr/>
        </p:nvPicPr>
        <p:blipFill>
          <a:blip r:embed="rId1"/>
          <a:stretch/>
        </p:blipFill>
        <p:spPr>
          <a:xfrm>
            <a:off x="4889520" y="2495520"/>
            <a:ext cx="4210200" cy="16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1" name="Rechteck 4"/>
          <p:cNvSpPr/>
          <p:nvPr/>
        </p:nvSpPr>
        <p:spPr>
          <a:xfrm>
            <a:off x="4886280" y="3676680"/>
            <a:ext cx="2092320" cy="4665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Grafik 5" descr=""/>
          <p:cNvPicPr/>
          <p:nvPr/>
        </p:nvPicPr>
        <p:blipFill>
          <a:blip r:embed="rId2"/>
          <a:stretch/>
        </p:blipFill>
        <p:spPr>
          <a:xfrm>
            <a:off x="684360" y="2495520"/>
            <a:ext cx="3995640" cy="3718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3" name="Grafik 6" descr=""/>
          <p:cNvPicPr/>
          <p:nvPr/>
        </p:nvPicPr>
        <p:blipFill>
          <a:blip r:embed="rId3"/>
          <a:stretch/>
        </p:blipFill>
        <p:spPr>
          <a:xfrm>
            <a:off x="4889520" y="4221000"/>
            <a:ext cx="4211640" cy="23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3" name="Rectangle 5"/>
          <p:cNvSpPr/>
          <p:nvPr/>
        </p:nvSpPr>
        <p:spPr>
          <a:xfrm>
            <a:off x="1768320" y="3610080"/>
            <a:ext cx="5921640" cy="28540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684360" y="1978200"/>
            <a:ext cx="845964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as ist in der Praxis wichti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ktive Medizinprodukte - 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andsverzeichn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dizinprodukteb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ga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üfpflich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ktive Medizinprodukte - STK und War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auftragter für Medizinproduktesicherh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684360" y="1690560"/>
            <a:ext cx="84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U-Medizinprodukteverordnung 2017/745 (EU-MDR) und Medizinprodukte-Betreiberverordnung (MPBetreib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3822840" y="2637000"/>
            <a:ext cx="507996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legende Anforder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E-Kennzeich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lassifizierung von Medizinproduk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Grafik 2" descr=""/>
          <p:cNvPicPr/>
          <p:nvPr/>
        </p:nvPicPr>
        <p:blipFill>
          <a:blip r:embed="rId1"/>
          <a:stretch/>
        </p:blipFill>
        <p:spPr>
          <a:xfrm>
            <a:off x="793800" y="2519280"/>
            <a:ext cx="2766960" cy="39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edizinprodukte - Was ist in der Praxis wicht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684360" y="2782800"/>
            <a:ext cx="845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ortige Meldung von festgestellten Schäden (wenn gefahrlos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möglich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Gerät außer Betrieb setzen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Gerät als „defekt“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kennzeichnen)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Fachgerechte Instandsetzung bzw. Entsor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684360" y="215892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ienungs-/Betriebsanleitung bzw. Gebrauchsanwei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ktive Medizinprodukt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684360" y="1978200"/>
            <a:ext cx="8459640" cy="16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„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Aktiv“ bedeutet beispielsweise „elektrisch betrieben“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Beispiele für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aktive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 Medizinprodukte: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ehandlungseinheiten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HF-Chirurgiegeräte, RDG, Autoklav, Chirurgie- und Endo-Motoren,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ulverstrahlgeräte, UV-Lampen, Röntgengerä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684360" y="5446800"/>
            <a:ext cx="8070840" cy="1313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Eine Sonde oder ein Mundspiegel sind auch Medizin-produkte, aber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nicht-aktive Medizinprodukte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, da kein elektrischer Antrieb. Elektrogeräte (z.B. Kaffeemaschine, Waschmaschine) sind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keine (aktiven) Medizinprodukte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Grafik 2" descr=""/>
          <p:cNvPicPr/>
          <p:nvPr/>
        </p:nvPicPr>
        <p:blipFill>
          <a:blip r:embed="rId1"/>
          <a:stretch/>
        </p:blipFill>
        <p:spPr>
          <a:xfrm>
            <a:off x="3044880" y="3384720"/>
            <a:ext cx="3630600" cy="197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9" name="Textfeld 3"/>
          <p:cNvSpPr/>
          <p:nvPr/>
        </p:nvSpPr>
        <p:spPr>
          <a:xfrm>
            <a:off x="6697800" y="5195880"/>
            <a:ext cx="22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Adobe Stock / Noorlia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standsverzeichnis und Medizinprodukteb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feld 7"/>
          <p:cNvSpPr/>
          <p:nvPr/>
        </p:nvSpPr>
        <p:spPr>
          <a:xfrm>
            <a:off x="671400" y="205956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feld 10"/>
          <p:cNvSpPr/>
          <p:nvPr/>
        </p:nvSpPr>
        <p:spPr>
          <a:xfrm>
            <a:off x="676440" y="3201480"/>
            <a:ext cx="417492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feil: nach rechts 11"/>
          <p:cNvSpPr/>
          <p:nvPr/>
        </p:nvSpPr>
        <p:spPr>
          <a:xfrm rot="5400000">
            <a:off x="2459880" y="2642400"/>
            <a:ext cx="611280" cy="39672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feld 12"/>
          <p:cNvSpPr/>
          <p:nvPr/>
        </p:nvSpPr>
        <p:spPr>
          <a:xfrm>
            <a:off x="4937040" y="320184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feil: nach rechts 13"/>
          <p:cNvSpPr/>
          <p:nvPr/>
        </p:nvSpPr>
        <p:spPr>
          <a:xfrm rot="5400000">
            <a:off x="6716880" y="2632680"/>
            <a:ext cx="611280" cy="39708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Grafik 15" descr=""/>
          <p:cNvPicPr/>
          <p:nvPr/>
        </p:nvPicPr>
        <p:blipFill>
          <a:blip r:embed="rId1"/>
          <a:stretch/>
        </p:blipFill>
        <p:spPr>
          <a:xfrm>
            <a:off x="1092240" y="4470480"/>
            <a:ext cx="33480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7" name="Grafik 19" descr=""/>
          <p:cNvPicPr/>
          <p:nvPr/>
        </p:nvPicPr>
        <p:blipFill>
          <a:blip r:embed="rId2"/>
          <a:stretch/>
        </p:blipFill>
        <p:spPr>
          <a:xfrm>
            <a:off x="6404040" y="4718160"/>
            <a:ext cx="1238040" cy="201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8" name="Pfeil: nach rechts 16"/>
          <p:cNvSpPr/>
          <p:nvPr/>
        </p:nvSpPr>
        <p:spPr>
          <a:xfrm rot="5400000">
            <a:off x="2459880" y="3966480"/>
            <a:ext cx="611280" cy="39672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feil: nach rechts 17"/>
          <p:cNvSpPr/>
          <p:nvPr/>
        </p:nvSpPr>
        <p:spPr>
          <a:xfrm rot="5400000">
            <a:off x="6680520" y="4240800"/>
            <a:ext cx="684360" cy="39708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feil: nach rechts 20"/>
          <p:cNvSpPr/>
          <p:nvPr/>
        </p:nvSpPr>
        <p:spPr>
          <a:xfrm rot="8100000">
            <a:off x="4376520" y="405216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Rechteck 21" descr=""/>
          <p:cNvPicPr/>
          <p:nvPr/>
        </p:nvPicPr>
        <p:blipFill>
          <a:blip r:embed="rId3"/>
          <a:stretch/>
        </p:blipFill>
        <p:spPr>
          <a:xfrm>
            <a:off x="1719360" y="5834160"/>
            <a:ext cx="2090520" cy="457200"/>
          </a:xfrm>
          <a:prstGeom prst="rect">
            <a:avLst/>
          </a:prstGeom>
          <a:ln w="0">
            <a:noFill/>
          </a:ln>
        </p:spPr>
      </p:pic>
      <p:pic>
        <p:nvPicPr>
          <p:cNvPr id="172" name="Rechteck 22" descr=""/>
          <p:cNvPicPr/>
          <p:nvPr/>
        </p:nvPicPr>
        <p:blipFill>
          <a:blip r:embed="rId4"/>
          <a:stretch/>
        </p:blipFill>
        <p:spPr>
          <a:xfrm>
            <a:off x="5364000" y="6334200"/>
            <a:ext cx="3316320" cy="463320"/>
          </a:xfrm>
          <a:prstGeom prst="rect">
            <a:avLst/>
          </a:prstGeom>
          <a:ln w="0">
            <a:noFill/>
          </a:ln>
        </p:spPr>
      </p:pic>
      <p:sp>
        <p:nvSpPr>
          <p:cNvPr id="173" name="Textfeld 23"/>
          <p:cNvSpPr/>
          <p:nvPr/>
        </p:nvSpPr>
        <p:spPr>
          <a:xfrm>
            <a:off x="1616040" y="4536000"/>
            <a:ext cx="230364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Bestandsverzeichn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feld 24"/>
          <p:cNvSpPr/>
          <p:nvPr/>
        </p:nvSpPr>
        <p:spPr>
          <a:xfrm>
            <a:off x="5872320" y="4824720"/>
            <a:ext cx="2303280" cy="3373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edizinprodukteb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Grafik 12" descr=""/>
          <p:cNvPicPr/>
          <p:nvPr/>
        </p:nvPicPr>
        <p:blipFill>
          <a:blip r:embed="rId5"/>
          <a:stretch/>
        </p:blipFill>
        <p:spPr>
          <a:xfrm>
            <a:off x="4497480" y="653580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76" name="Grafik 12" descr=""/>
          <p:cNvPicPr/>
          <p:nvPr/>
        </p:nvPicPr>
        <p:blipFill>
          <a:blip r:embed="rId6"/>
          <a:stretch/>
        </p:blipFill>
        <p:spPr>
          <a:xfrm>
            <a:off x="7694640" y="6008760"/>
            <a:ext cx="287280" cy="288720"/>
          </a:xfrm>
          <a:prstGeom prst="rect">
            <a:avLst/>
          </a:prstGeom>
          <a:ln w="0">
            <a:noFill/>
          </a:ln>
        </p:spPr>
      </p:pic>
      <p:pic>
        <p:nvPicPr>
          <p:cNvPr id="177" name="Grafik 1" descr=""/>
          <p:cNvPicPr/>
          <p:nvPr/>
        </p:nvPicPr>
        <p:blipFill>
          <a:blip r:embed="rId7"/>
          <a:stretch/>
        </p:blipFill>
        <p:spPr>
          <a:xfrm>
            <a:off x="2052720" y="5504040"/>
            <a:ext cx="1422360" cy="21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8" name="Grafik 2" descr=""/>
          <p:cNvPicPr/>
          <p:nvPr/>
        </p:nvPicPr>
        <p:blipFill>
          <a:blip r:embed="rId8"/>
          <a:stretch/>
        </p:blipFill>
        <p:spPr>
          <a:xfrm>
            <a:off x="6248520" y="5616720"/>
            <a:ext cx="1490400" cy="21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standsverzeich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feld 9"/>
          <p:cNvSpPr/>
          <p:nvPr/>
        </p:nvSpPr>
        <p:spPr>
          <a:xfrm>
            <a:off x="4952880" y="3328920"/>
            <a:ext cx="458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 Lasergeräte der Klasse 3B, 3R oder 4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Anästhesiegeräte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Nervenfunktionsgeräte (Pulpenprüfer)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Hochfrequenz-Chirurgiegeräte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Defibrillator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feld 7"/>
          <p:cNvSpPr/>
          <p:nvPr/>
        </p:nvSpPr>
        <p:spPr>
          <a:xfrm>
            <a:off x="671400" y="185148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feld 11"/>
          <p:cNvSpPr/>
          <p:nvPr/>
        </p:nvSpPr>
        <p:spPr>
          <a:xfrm>
            <a:off x="676440" y="2567880"/>
            <a:ext cx="417492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feld 13"/>
          <p:cNvSpPr/>
          <p:nvPr/>
        </p:nvSpPr>
        <p:spPr>
          <a:xfrm>
            <a:off x="4937040" y="244548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Grafik 14" descr=""/>
          <p:cNvPicPr/>
          <p:nvPr/>
        </p:nvPicPr>
        <p:blipFill>
          <a:blip r:embed="rId1"/>
          <a:stretch/>
        </p:blipFill>
        <p:spPr>
          <a:xfrm>
            <a:off x="3774960" y="5221440"/>
            <a:ext cx="2229120" cy="155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5" name="Rechteck 18" descr=""/>
          <p:cNvPicPr/>
          <p:nvPr/>
        </p:nvPicPr>
        <p:blipFill>
          <a:blip r:embed="rId2"/>
          <a:stretch/>
        </p:blipFill>
        <p:spPr>
          <a:xfrm>
            <a:off x="3846600" y="6218280"/>
            <a:ext cx="2084400" cy="463680"/>
          </a:xfrm>
          <a:prstGeom prst="rect">
            <a:avLst/>
          </a:prstGeom>
          <a:ln w="0">
            <a:noFill/>
          </a:ln>
        </p:spPr>
      </p:pic>
      <p:sp>
        <p:nvSpPr>
          <p:cNvPr id="186" name="Textfeld 19"/>
          <p:cNvSpPr/>
          <p:nvPr/>
        </p:nvSpPr>
        <p:spPr>
          <a:xfrm>
            <a:off x="3774960" y="4864320"/>
            <a:ext cx="222912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Bestandsverzeichn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Grafik 12" descr=""/>
          <p:cNvPicPr/>
          <p:nvPr/>
        </p:nvPicPr>
        <p:blipFill>
          <a:blip r:embed="rId3"/>
          <a:stretch/>
        </p:blipFill>
        <p:spPr>
          <a:xfrm>
            <a:off x="6070680" y="65008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188" name="Textfeld 24"/>
          <p:cNvSpPr/>
          <p:nvPr/>
        </p:nvSpPr>
        <p:spPr>
          <a:xfrm>
            <a:off x="676440" y="3337920"/>
            <a:ext cx="4174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Behandlungseinhei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Polymerisationslamp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 Hochfrequenz-Chirurgiegerät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(z.B. Elektrotom, Piezo)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Air-Flow-Gerä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Aufbereitungsgerä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Röntgengerä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8:44:56Z</dcterms:created>
  <dc:creator>Aylin Klein</dc:creator>
  <dc:description/>
  <dc:language>en-US</dc:language>
  <cp:lastModifiedBy>Marco Wagner</cp:lastModifiedBy>
  <cp:lastPrinted>2024-08-07T06:48:23Z</cp:lastPrinted>
  <dcterms:modified xsi:type="dcterms:W3CDTF">2025-08-08T06:26:39Z</dcterms:modified>
  <cp:revision>24</cp:revision>
  <dc:subject/>
  <dc:title/>
</cp:coreProperties>
</file>