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C6086-2099-4A34-B31E-12DB662C2D3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6CAA1-790B-4BD0-B2D9-07929F08AB4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10E2C-E159-49CD-8C20-85474D7FAD2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1800360" y="2952720"/>
            <a:ext cx="576396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684360" y="197964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kleidung, wenn bei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Tätigkeit mit Verspritzen o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prühen (Bio-/Gefahrstoffe) zu rechnen i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formation: Angaben des Produktherstellers im Sicherheitsdatenbla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flüssigkeitsdichte (langärmelige) Einweg-Schutzschü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84360" y="3699000"/>
            <a:ext cx="8459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nd-Nasen-Schutzmask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(Medizinprodu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atientenschutz!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NS schützt auch den Träger vor größer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öpfchen und ist „Berührungsschutz“ für Mund und N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N EN 14683 (Empfehlung: Typ II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Grafik 1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5867280" y="4805280"/>
            <a:ext cx="84960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" name="Textfeld 2"/>
          <p:cNvSpPr/>
          <p:nvPr/>
        </p:nvSpPr>
        <p:spPr>
          <a:xfrm>
            <a:off x="5772240" y="589104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Grafik 2" descr=""/>
          <p:cNvPicPr/>
          <p:nvPr/>
        </p:nvPicPr>
        <p:blipFill>
          <a:blip r:embed="rId1"/>
          <a:srcRect l="50002" t="8406" r="17320" b="5808"/>
          <a:stretch/>
        </p:blipFill>
        <p:spPr>
          <a:xfrm>
            <a:off x="7974000" y="2735280"/>
            <a:ext cx="1008000" cy="14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Text Box 5"/>
          <p:cNvSpPr/>
          <p:nvPr/>
        </p:nvSpPr>
        <p:spPr>
          <a:xfrm>
            <a:off x="684360" y="197964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Atemschutz (partikelfiltrierende Halbmaske m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satemventil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igen- und/oder Fremdschu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FP2 / FFP3 (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ltering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e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e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684360" y="435600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Gehör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B. im Praxi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"/>
          <p:cNvGrpSpPr/>
          <p:nvPr/>
        </p:nvGrpSpPr>
        <p:grpSpPr>
          <a:xfrm>
            <a:off x="6105960" y="2800800"/>
            <a:ext cx="1542240" cy="1515600"/>
            <a:chOff x="6105960" y="2800800"/>
            <a:chExt cx="1542240" cy="1515600"/>
          </a:xfrm>
        </p:grpSpPr>
        <p:pic>
          <p:nvPicPr>
            <p:cNvPr id="197" name="Picture 5" descr="Vorsorgekartei"/>
            <p:cNvPicPr/>
            <p:nvPr/>
          </p:nvPicPr>
          <p:blipFill>
            <a:blip r:embed="rId2"/>
            <a:stretch/>
          </p:blipFill>
          <p:spPr>
            <a:xfrm rot="21300000">
              <a:off x="6156360" y="2838600"/>
              <a:ext cx="92232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6" descr="Ärztliche Bescheinigung"/>
            <p:cNvPicPr/>
            <p:nvPr/>
          </p:nvPicPr>
          <p:blipFill>
            <a:blip r:embed="rId3"/>
            <a:stretch/>
          </p:blipFill>
          <p:spPr>
            <a:xfrm rot="300000">
              <a:off x="6652800" y="3049920"/>
              <a:ext cx="943560" cy="122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uppieren 8"/>
          <p:cNvGrpSpPr/>
          <p:nvPr/>
        </p:nvGrpSpPr>
        <p:grpSpPr>
          <a:xfrm>
            <a:off x="1371600" y="3132000"/>
            <a:ext cx="4200480" cy="979560"/>
            <a:chOff x="1371600" y="3132000"/>
            <a:chExt cx="4200480" cy="979560"/>
          </a:xfrm>
        </p:grpSpPr>
        <p:pic>
          <p:nvPicPr>
            <p:cNvPr id="200" name="Grafik 5" descr=""/>
            <p:cNvPicPr/>
            <p:nvPr/>
          </p:nvPicPr>
          <p:blipFill>
            <a:blip r:embed="rId4"/>
            <a:stretch/>
          </p:blipFill>
          <p:spPr>
            <a:xfrm>
              <a:off x="1371600" y="3132000"/>
              <a:ext cx="4200480" cy="6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Grafik 7" descr=""/>
            <p:cNvPicPr/>
            <p:nvPr/>
          </p:nvPicPr>
          <p:blipFill>
            <a:blip r:embed="rId5"/>
            <a:stretch/>
          </p:blipFill>
          <p:spPr>
            <a:xfrm>
              <a:off x="1371600" y="3735000"/>
              <a:ext cx="4200480" cy="3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Rechteck 13" descr=""/>
          <p:cNvPicPr/>
          <p:nvPr/>
        </p:nvPicPr>
        <p:blipFill>
          <a:blip r:embed="rId6"/>
          <a:stretch/>
        </p:blipFill>
        <p:spPr>
          <a:xfrm>
            <a:off x="5499000" y="4102200"/>
            <a:ext cx="27799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3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PSA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3" descr=""/>
          <p:cNvPicPr/>
          <p:nvPr/>
        </p:nvPicPr>
        <p:blipFill>
          <a:blip r:embed="rId1"/>
          <a:stretch/>
        </p:blipFill>
        <p:spPr>
          <a:xfrm>
            <a:off x="4789440" y="229248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Rechteck 4"/>
          <p:cNvSpPr/>
          <p:nvPr/>
        </p:nvSpPr>
        <p:spPr>
          <a:xfrm>
            <a:off x="4786200" y="347184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Grafik 5" descr=""/>
          <p:cNvPicPr/>
          <p:nvPr/>
        </p:nvPicPr>
        <p:blipFill>
          <a:blip r:embed="rId2"/>
          <a:stretch/>
        </p:blipFill>
        <p:spPr>
          <a:xfrm>
            <a:off x="684360" y="2292480"/>
            <a:ext cx="3958920" cy="363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Grafik 6" descr=""/>
          <p:cNvPicPr/>
          <p:nvPr/>
        </p:nvPicPr>
        <p:blipFill>
          <a:blip r:embed="rId3"/>
          <a:stretch/>
        </p:blipFill>
        <p:spPr>
          <a:xfrm>
            <a:off x="4786200" y="4019400"/>
            <a:ext cx="4211640" cy="25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68320" y="361152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84360" y="1978200"/>
            <a:ext cx="84596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önliche Schutzausrüstung (P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SA - Was ist zu t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SA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 der Zahnarztpr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gesetz (ArbSchG) und Unfallverhütungsvorschrift DGUV V1 „Grundsätze der Präven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600360" y="2692440"/>
            <a:ext cx="500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s Unterneh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r Versich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des betrieb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54952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Textfeld 1"/>
          <p:cNvSpPr/>
          <p:nvPr/>
        </p:nvSpPr>
        <p:spPr>
          <a:xfrm>
            <a:off x="3608280" y="635940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BGW, DGUV Vorschrift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feld 3"/>
          <p:cNvSpPr/>
          <p:nvPr/>
        </p:nvSpPr>
        <p:spPr>
          <a:xfrm>
            <a:off x="682560" y="1843560"/>
            <a:ext cx="83170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(Gefährdungen ermitteln und beurtei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feil: nach rechts 4"/>
          <p:cNvSpPr/>
          <p:nvPr/>
        </p:nvSpPr>
        <p:spPr>
          <a:xfrm rot="5400000">
            <a:off x="4553280" y="27309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feld 9"/>
          <p:cNvSpPr/>
          <p:nvPr/>
        </p:nvSpPr>
        <p:spPr>
          <a:xfrm>
            <a:off x="682560" y="619812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Fortschreibung der 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feld 12"/>
          <p:cNvSpPr/>
          <p:nvPr/>
        </p:nvSpPr>
        <p:spPr>
          <a:xfrm>
            <a:off x="682560" y="330228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festlegen und durchfü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17"/>
          <p:cNvSpPr/>
          <p:nvPr/>
        </p:nvSpPr>
        <p:spPr>
          <a:xfrm>
            <a:off x="682560" y="489636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auf Wirksamkeit überprü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feil: nach rechts 21"/>
          <p:cNvSpPr/>
          <p:nvPr/>
        </p:nvSpPr>
        <p:spPr>
          <a:xfrm rot="5400000">
            <a:off x="4320000" y="4109040"/>
            <a:ext cx="1079280" cy="3985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feil: nach rechts 22"/>
          <p:cNvSpPr/>
          <p:nvPr/>
        </p:nvSpPr>
        <p:spPr>
          <a:xfrm rot="5400000">
            <a:off x="4463640" y="5551200"/>
            <a:ext cx="792000" cy="39852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23"/>
          <p:cNvSpPr/>
          <p:nvPr/>
        </p:nvSpPr>
        <p:spPr>
          <a:xfrm>
            <a:off x="1528920" y="3930480"/>
            <a:ext cx="30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nutzung von PSA durch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schäftigten, solange ein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fährdung besteht (Tragepflicht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24"/>
          <p:cNvSpPr/>
          <p:nvPr/>
        </p:nvSpPr>
        <p:spPr>
          <a:xfrm>
            <a:off x="5184720" y="532764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der Benutzung von P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Grafik 6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6757920" y="3795840"/>
            <a:ext cx="79380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4" name="Textfeld 2"/>
          <p:cNvSpPr/>
          <p:nvPr/>
        </p:nvSpPr>
        <p:spPr>
          <a:xfrm>
            <a:off x="7559640" y="463536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1620720" y="2587680"/>
            <a:ext cx="6407280" cy="2422440"/>
            <a:chOff x="1620720" y="2587680"/>
            <a:chExt cx="6407280" cy="2422440"/>
          </a:xfrm>
        </p:grpSpPr>
        <p:sp>
          <p:nvSpPr>
            <p:cNvPr id="166" name="Text Box 3"/>
            <p:cNvSpPr/>
            <p:nvPr/>
          </p:nvSpPr>
          <p:spPr>
            <a:xfrm>
              <a:off x="2412720" y="341460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Technis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4"/>
            <p:cNvSpPr/>
            <p:nvPr/>
          </p:nvSpPr>
          <p:spPr>
            <a:xfrm>
              <a:off x="1620720" y="3570480"/>
              <a:ext cx="718920" cy="1439640"/>
            </a:xfrm>
            <a:custGeom>
              <a:avLst/>
              <a:gdLst>
                <a:gd name="textAreaLeft" fmla="*/ 96120 w 718920"/>
                <a:gd name="textAreaRight" fmla="*/ 622800 w 71892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5"/>
            <p:cNvSpPr/>
            <p:nvPr/>
          </p:nvSpPr>
          <p:spPr>
            <a:xfrm>
              <a:off x="7308720" y="3570480"/>
              <a:ext cx="719280" cy="1439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"/>
            <p:cNvSpPr/>
            <p:nvPr/>
          </p:nvSpPr>
          <p:spPr>
            <a:xfrm>
              <a:off x="4498920" y="2587680"/>
              <a:ext cx="64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7"/>
          <p:cNvGrpSpPr/>
          <p:nvPr/>
        </p:nvGrpSpPr>
        <p:grpSpPr>
          <a:xfrm>
            <a:off x="1620720" y="4027320"/>
            <a:ext cx="6407280" cy="2566800"/>
            <a:chOff x="1620720" y="4027320"/>
            <a:chExt cx="6407280" cy="2566800"/>
          </a:xfrm>
        </p:grpSpPr>
        <p:sp>
          <p:nvSpPr>
            <p:cNvPr id="171" name="Text Box 8"/>
            <p:cNvSpPr/>
            <p:nvPr/>
          </p:nvSpPr>
          <p:spPr>
            <a:xfrm>
              <a:off x="2412720" y="485424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Organisatoris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>
              <a:off x="1620720" y="5154120"/>
              <a:ext cx="718920" cy="1440000"/>
            </a:xfrm>
            <a:custGeom>
              <a:avLst/>
              <a:gdLst>
                <a:gd name="textAreaLeft" fmla="*/ 96120 w 718920"/>
                <a:gd name="textAreaRight" fmla="*/ 622800 w 71892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7308720" y="5152680"/>
              <a:ext cx="719280" cy="144000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1"/>
            <p:cNvSpPr/>
            <p:nvPr/>
          </p:nvSpPr>
          <p:spPr>
            <a:xfrm>
              <a:off x="4429080" y="4027320"/>
              <a:ext cx="72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2"/>
          <p:cNvGrpSpPr/>
          <p:nvPr/>
        </p:nvGrpSpPr>
        <p:grpSpPr>
          <a:xfrm>
            <a:off x="2413080" y="5467320"/>
            <a:ext cx="4824360" cy="1226160"/>
            <a:chOff x="2413080" y="5467320"/>
            <a:chExt cx="4824360" cy="1226160"/>
          </a:xfrm>
        </p:grpSpPr>
        <p:sp>
          <p:nvSpPr>
            <p:cNvPr id="176" name="Text Box 13"/>
            <p:cNvSpPr/>
            <p:nvPr/>
          </p:nvSpPr>
          <p:spPr>
            <a:xfrm>
              <a:off x="2413080" y="629460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Persönli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4500720" y="5467320"/>
              <a:ext cx="64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7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SA - Was ist zu t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684360" y="1630440"/>
            <a:ext cx="8351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 – T – O – P – Prinzip: Bevor Schutzmaßnahmen ergriffen werden, sollte geprüft werden: Gibt es für diese Tätigkeit einen weniger gefährlichen Stoff (S steht für Substitutio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684360" y="1978200"/>
            <a:ext cx="8459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ung von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Persönlicher Schutzausrüstung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ten, solange eine Gefährdung besteht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(Tragepflicht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684360" y="3141720"/>
            <a:ext cx="845964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Benutzung von P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SA - Was ist zu t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Rechteck 14" descr=""/>
          <p:cNvPicPr/>
          <p:nvPr/>
        </p:nvPicPr>
        <p:blipFill>
          <a:blip r:embed="rId1"/>
          <a:stretch/>
        </p:blipFill>
        <p:spPr>
          <a:xfrm>
            <a:off x="914400" y="2736720"/>
            <a:ext cx="6765840" cy="3668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684360" y="1979640"/>
            <a:ext cx="845964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 Einmalhandschuhe (DIN EN 4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in der Patientenbehand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üssigkeitsdichte, ausreichend widerstandsfähi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schuhe (DIN EN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i Tätigkeiten mit Gefahrstoff-Konzentrate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- und ggf. Gesichtsschutz (DIN EN 16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bei der Tätigkeit mit Verspritzen oder Versprü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rechnen ist (Angaben des Produktherstellers i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heitsdatenbl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Grafik 2" descr=""/>
          <p:cNvPicPr/>
          <p:nvPr/>
        </p:nvPicPr>
        <p:blipFill>
          <a:blip r:embed="rId2"/>
          <a:srcRect l="36888" t="4511" r="42819" b="56746"/>
          <a:stretch/>
        </p:blipFill>
        <p:spPr>
          <a:xfrm>
            <a:off x="7775640" y="4900680"/>
            <a:ext cx="84924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Textfeld 1"/>
          <p:cNvSpPr/>
          <p:nvPr/>
        </p:nvSpPr>
        <p:spPr>
          <a:xfrm>
            <a:off x="7408800" y="600084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46:01Z</dcterms:modified>
  <cp:revision>23</cp:revision>
  <dc:subject/>
  <dc:title/>
</cp:coreProperties>
</file>