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26.png" ContentType="image/png"/>
  <Override PartName="/ppt/media/image24.png" ContentType="image/png"/>
  <Override PartName="/ppt/media/image11.jpeg" ContentType="image/jpeg"/>
  <Override PartName="/ppt/media/image23.png" ContentType="image/png"/>
  <Override PartName="/ppt/media/image28.png" ContentType="image/png"/>
  <Override PartName="/ppt/media/image8.jpeg" ContentType="image/jpeg"/>
  <Override PartName="/ppt/media/image5.png" ContentType="image/png"/>
  <Override PartName="/ppt/media/image35.png" ContentType="image/png"/>
  <Override PartName="/ppt/media/image6.jpeg" ContentType="image/jpeg"/>
  <Override PartName="/ppt/media/image10.png" ContentType="image/png"/>
  <Override PartName="/ppt/media/image1.jpeg" ContentType="image/jpeg"/>
  <Override PartName="/ppt/media/image7.png" ContentType="image/png"/>
  <Override PartName="/ppt/media/image13.png" ContentType="image/png"/>
  <Override PartName="/ppt/media/image12.png" ContentType="image/png"/>
  <Override PartName="/ppt/media/image9.png" ContentType="image/png"/>
  <Override PartName="/ppt/media/image31.png" ContentType="image/png"/>
  <Override PartName="/ppt/media/image33.png" ContentType="image/png"/>
  <Override PartName="/ppt/media/image14.jpeg" ContentType="image/jpeg"/>
  <Override PartName="/ppt/media/image34.png" ContentType="image/png"/>
  <Override PartName="/ppt/media/image4.png" ContentType="image/png"/>
  <Override PartName="/ppt/media/image27.png" ContentType="image/png"/>
  <Override PartName="/ppt/media/image30.png" ContentType="image/png"/>
  <Override PartName="/ppt/media/image3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15.jpeg" ContentType="image/jpeg"/>
  <Override PartName="/ppt/media/image16.png" ContentType="image/png"/>
  <Override PartName="/ppt/media/image17.png" ContentType="image/png"/>
  <Override PartName="/ppt/media/image18.jpeg" ContentType="image/jpeg"/>
  <Override PartName="/ppt/media/image19.png" ContentType="image/png"/>
  <Override PartName="/ppt/media/image20.png" ContentType="image/png"/>
  <Override PartName="/ppt/media/image2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de-DE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de-DE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D320CF-B417-47CC-8BF5-FD567C29D021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Foliennummernplatzhalt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270877-02E8-4532-8948-5161A5818248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468360" y="836640"/>
            <a:ext cx="108000" cy="6067440"/>
          </a:xfrm>
          <a:prstGeom prst="rect">
            <a:avLst/>
          </a:prstGeom>
          <a:gradFill rotWithShape="0">
            <a:gsLst>
              <a:gs pos="0">
                <a:srgbClr val="fecc00"/>
              </a:gs>
              <a:gs pos="100000">
                <a:srgbClr val="003b7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Text Box 8"/>
          <p:cNvSpPr/>
          <p:nvPr/>
        </p:nvSpPr>
        <p:spPr>
          <a:xfrm>
            <a:off x="1042920" y="1341360"/>
            <a:ext cx="756144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1" descr="Kammer-Ihr-Partner-blau"/>
          <p:cNvPicPr/>
          <p:nvPr/>
        </p:nvPicPr>
        <p:blipFill>
          <a:blip r:embed="rId2"/>
          <a:stretch/>
        </p:blipFill>
        <p:spPr>
          <a:xfrm>
            <a:off x="7440480" y="204840"/>
            <a:ext cx="1656000" cy="404640"/>
          </a:xfrm>
          <a:prstGeom prst="rect">
            <a:avLst/>
          </a:prstGeom>
          <a:ln w="0">
            <a:noFill/>
          </a:ln>
        </p:spPr>
      </p:pic>
      <p:pic>
        <p:nvPicPr>
          <p:cNvPr id="3" name="Grafik 6" descr=""/>
          <p:cNvPicPr/>
          <p:nvPr/>
        </p:nvPicPr>
        <p:blipFill>
          <a:blip r:embed="rId3"/>
          <a:stretch/>
        </p:blipFill>
        <p:spPr>
          <a:xfrm>
            <a:off x="468360" y="190440"/>
            <a:ext cx="677880" cy="579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7"/>
          <p:cNvSpPr/>
          <p:nvPr/>
        </p:nvSpPr>
        <p:spPr>
          <a:xfrm>
            <a:off x="-252360" y="2565360"/>
            <a:ext cx="8064360" cy="3240000"/>
          </a:xfrm>
          <a:prstGeom prst="rect">
            <a:avLst/>
          </a:prstGeom>
          <a:noFill/>
          <a:ln w="15840">
            <a:solidFill>
              <a:srgbClr val="fe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8"/>
          <p:cNvSpPr/>
          <p:nvPr/>
        </p:nvSpPr>
        <p:spPr>
          <a:xfrm>
            <a:off x="468360" y="1303200"/>
            <a:ext cx="539640" cy="5581800"/>
          </a:xfrm>
          <a:prstGeom prst="rect">
            <a:avLst/>
          </a:prstGeom>
          <a:gradFill rotWithShape="0">
            <a:gsLst>
              <a:gs pos="0">
                <a:srgbClr val="003b79"/>
              </a:gs>
              <a:gs pos="100000">
                <a:srgbClr val="fe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0"/>
          <p:cNvSpPr/>
          <p:nvPr/>
        </p:nvSpPr>
        <p:spPr>
          <a:xfrm>
            <a:off x="250920" y="620640"/>
            <a:ext cx="3816360" cy="8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11"/>
          <p:cNvSpPr/>
          <p:nvPr/>
        </p:nvSpPr>
        <p:spPr>
          <a:xfrm>
            <a:off x="1403280" y="4869000"/>
            <a:ext cx="403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2"/>
          <p:cNvSpPr/>
          <p:nvPr/>
        </p:nvSpPr>
        <p:spPr>
          <a:xfrm>
            <a:off x="468360" y="0"/>
            <a:ext cx="539640" cy="568440"/>
          </a:xfrm>
          <a:prstGeom prst="rect">
            <a:avLst/>
          </a:prstGeom>
          <a:solidFill>
            <a:srgbClr val="003b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3"/>
          <p:cNvSpPr/>
          <p:nvPr/>
        </p:nvSpPr>
        <p:spPr>
          <a:xfrm>
            <a:off x="1403280" y="2924280"/>
            <a:ext cx="6048360" cy="23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15" descr="Kammer-Ihr-Partner-blau"/>
          <p:cNvPicPr/>
          <p:nvPr/>
        </p:nvPicPr>
        <p:blipFill>
          <a:blip r:embed="rId2"/>
          <a:stretch/>
        </p:blipFill>
        <p:spPr>
          <a:xfrm>
            <a:off x="7297560" y="604800"/>
            <a:ext cx="1656000" cy="405000"/>
          </a:xfrm>
          <a:prstGeom prst="rect">
            <a:avLst/>
          </a:prstGeom>
          <a:ln w="0">
            <a:noFill/>
          </a:ln>
        </p:spPr>
      </p:pic>
      <p:pic>
        <p:nvPicPr>
          <p:cNvPr id="47" name="Grafik 10" descr=""/>
          <p:cNvPicPr/>
          <p:nvPr/>
        </p:nvPicPr>
        <p:blipFill>
          <a:blip r:embed="rId3"/>
          <a:stretch/>
        </p:blipFill>
        <p:spPr>
          <a:xfrm>
            <a:off x="360360" y="601560"/>
            <a:ext cx="3365640" cy="66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468360" y="836640"/>
            <a:ext cx="108000" cy="6067440"/>
          </a:xfrm>
          <a:prstGeom prst="rect">
            <a:avLst/>
          </a:prstGeom>
          <a:gradFill rotWithShape="0">
            <a:gsLst>
              <a:gs pos="0">
                <a:srgbClr val="fecc00"/>
              </a:gs>
              <a:gs pos="100000">
                <a:srgbClr val="003b7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8"/>
          <p:cNvSpPr/>
          <p:nvPr/>
        </p:nvSpPr>
        <p:spPr>
          <a:xfrm>
            <a:off x="1042920" y="1341360"/>
            <a:ext cx="756144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1" descr="Kammer-Ihr-Partner-blau"/>
          <p:cNvPicPr/>
          <p:nvPr/>
        </p:nvPicPr>
        <p:blipFill>
          <a:blip r:embed="rId2"/>
          <a:stretch/>
        </p:blipFill>
        <p:spPr>
          <a:xfrm>
            <a:off x="7440480" y="204840"/>
            <a:ext cx="1656000" cy="404640"/>
          </a:xfrm>
          <a:prstGeom prst="rect">
            <a:avLst/>
          </a:prstGeom>
          <a:ln w="0">
            <a:noFill/>
          </a:ln>
        </p:spPr>
      </p:pic>
      <p:pic>
        <p:nvPicPr>
          <p:cNvPr id="87" name="Grafik 6" descr=""/>
          <p:cNvPicPr/>
          <p:nvPr/>
        </p:nvPicPr>
        <p:blipFill>
          <a:blip r:embed="rId3"/>
          <a:stretch/>
        </p:blipFill>
        <p:spPr>
          <a:xfrm>
            <a:off x="468360" y="190440"/>
            <a:ext cx="677880" cy="579600"/>
          </a:xfrm>
          <a:prstGeom prst="rect">
            <a:avLst/>
          </a:prstGeom>
          <a:ln w="0">
            <a:noFill/>
          </a:ln>
        </p:spPr>
      </p:pic>
      <p:sp>
        <p:nvSpPr>
          <p:cNvPr id="88" name="Rechteck 1"/>
          <p:cNvSpPr/>
          <p:nvPr/>
        </p:nvSpPr>
        <p:spPr>
          <a:xfrm>
            <a:off x="8537040" y="6613560"/>
            <a:ext cx="75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919FE3E-0BFD-4CA6-BC5F-1E6408795234}" type="slidenum">
              <a:rPr b="0" lang="de-DE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hyperlink" Target="http://cgi.ebay.de/ws/eBayISAPI.dll?ViewItem&amp;item=180103142092&amp;ih=008&amp;category=57478&amp;rd=1&amp;ssPageName=mem_guide:2" TargetMode="External"/><Relationship Id="rId5" Type="http://schemas.openxmlformats.org/officeDocument/2006/relationships/image" Target="../media/image18.jpe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image" Target="../media/image21.jpeg"/><Relationship Id="rId9" Type="http://schemas.openxmlformats.org/officeDocument/2006/relationships/image" Target="../media/image22.png"/><Relationship Id="rId10" Type="http://schemas.openxmlformats.org/officeDocument/2006/relationships/slideLayout" Target="../slideLayouts/slideLayout25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14.jpeg"/><Relationship Id="rId3" Type="http://schemas.openxmlformats.org/officeDocument/2006/relationships/image" Target="../media/image24.pn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image" Target="../media/image31.png"/><Relationship Id="rId8" Type="http://schemas.openxmlformats.org/officeDocument/2006/relationships/image" Target="../media/image16.png"/><Relationship Id="rId9" Type="http://schemas.openxmlformats.org/officeDocument/2006/relationships/image" Target="../media/image32.png"/><Relationship Id="rId10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5"/>
          <p:cNvSpPr/>
          <p:nvPr/>
        </p:nvSpPr>
        <p:spPr>
          <a:xfrm>
            <a:off x="1800360" y="2952720"/>
            <a:ext cx="5763960" cy="13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Unterweisungsmod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Persönliche Schutzausrüstung (PS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 Box 2"/>
          <p:cNvSpPr/>
          <p:nvPr/>
        </p:nvSpPr>
        <p:spPr>
          <a:xfrm>
            <a:off x="684360" y="1979640"/>
            <a:ext cx="8459640" cy="38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edizinische Einmalhandschuhe (DIN EN 45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z. B. in der Patientenbehandlu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Flüssigkeitsdichte, ausreichend widerstandsfähige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Handschuhe (DIN EN 37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z. B. bei Tätigkeiten mit Gefahrstoff-Konzentrate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gen- und ggf. Gesichtsschutz (DIN EN 16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enn bei der Tätigkeit mit Verspritzen  oder Versprühen zu rechnen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st (Angaben des Produktherstellers im Sicherheitsdatenblatt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Rechteck 14" descr=""/>
          <p:cNvPicPr/>
          <p:nvPr/>
        </p:nvPicPr>
        <p:blipFill>
          <a:blip r:embed="rId1"/>
          <a:stretch/>
        </p:blipFill>
        <p:spPr>
          <a:xfrm>
            <a:off x="914400" y="2736720"/>
            <a:ext cx="6765840" cy="366840"/>
          </a:xfrm>
          <a:prstGeom prst="rect">
            <a:avLst/>
          </a:prstGeom>
          <a:ln w="0">
            <a:noFill/>
          </a:ln>
        </p:spPr>
      </p:pic>
      <p:pic>
        <p:nvPicPr>
          <p:cNvPr id="190" name="Grafik 1" descr=""/>
          <p:cNvPicPr/>
          <p:nvPr/>
        </p:nvPicPr>
        <p:blipFill>
          <a:blip r:embed="rId2"/>
          <a:srcRect l="8520" t="0" r="0" b="0"/>
          <a:stretch/>
        </p:blipFill>
        <p:spPr>
          <a:xfrm>
            <a:off x="7991640" y="3348000"/>
            <a:ext cx="1081080" cy="115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7" descr=""/>
          <p:cNvPicPr/>
          <p:nvPr/>
        </p:nvPicPr>
        <p:blipFill>
          <a:blip r:embed="rId3"/>
          <a:stretch/>
        </p:blipFill>
        <p:spPr>
          <a:xfrm>
            <a:off x="1419120" y="5940360"/>
            <a:ext cx="949320" cy="64944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9" descr="180103142092_1">
            <a:hlinkClick r:id="rId4"/>
          </p:cNvPr>
          <p:cNvPicPr/>
          <p:nvPr/>
        </p:nvPicPr>
        <p:blipFill>
          <a:blip r:embed="rId5"/>
          <a:srcRect l="-5392" t="0" r="0" b="25906"/>
          <a:stretch/>
        </p:blipFill>
        <p:spPr>
          <a:xfrm>
            <a:off x="3052800" y="5940360"/>
            <a:ext cx="784080" cy="64944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0" descr=""/>
          <p:cNvPicPr/>
          <p:nvPr/>
        </p:nvPicPr>
        <p:blipFill>
          <a:blip r:embed="rId6"/>
          <a:stretch/>
        </p:blipFill>
        <p:spPr>
          <a:xfrm>
            <a:off x="4599000" y="5940360"/>
            <a:ext cx="731880" cy="649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94" name="Picture 8" descr=""/>
          <p:cNvPicPr/>
          <p:nvPr/>
        </p:nvPicPr>
        <p:blipFill>
          <a:blip r:embed="rId7"/>
          <a:stretch/>
        </p:blipFill>
        <p:spPr>
          <a:xfrm>
            <a:off x="7889760" y="5940360"/>
            <a:ext cx="844560" cy="649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95" name="Picture 6" descr="Schutzbrille G 30 Gold"/>
          <p:cNvPicPr/>
          <p:nvPr/>
        </p:nvPicPr>
        <p:blipFill>
          <a:blip r:embed="rId8"/>
          <a:stretch/>
        </p:blipFill>
        <p:spPr>
          <a:xfrm>
            <a:off x="6110280" y="5940360"/>
            <a:ext cx="966960" cy="649440"/>
          </a:xfrm>
          <a:prstGeom prst="rect">
            <a:avLst/>
          </a:prstGeom>
          <a:ln w="0">
            <a:noFill/>
          </a:ln>
        </p:spPr>
      </p:pic>
      <p:sp>
        <p:nvSpPr>
          <p:cNvPr id="196" name="Rectangle 4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Persönliche Schutzausrüstung (PS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Grafik 4" descr=""/>
          <p:cNvPicPr/>
          <p:nvPr/>
        </p:nvPicPr>
        <p:blipFill>
          <a:blip r:embed="rId9"/>
          <a:srcRect l="1166" t="0" r="0" b="0"/>
          <a:stretch/>
        </p:blipFill>
        <p:spPr>
          <a:xfrm>
            <a:off x="7778880" y="1979640"/>
            <a:ext cx="1225440" cy="120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Text Box 2"/>
          <p:cNvSpPr/>
          <p:nvPr/>
        </p:nvSpPr>
        <p:spPr>
          <a:xfrm>
            <a:off x="684360" y="1979640"/>
            <a:ext cx="8459640" cy="229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gf. Schutzkleidung, wenn bei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er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Tätigkeit mit Verspritzen oder Versprühen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(Bio-/Gefahrstoffe) zu rechnen ist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(Information: Angaben des Produktherstellers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im Sicherheitsdatenblat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z. B. flüssigkeitsdichte (langärmelige)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nweg-Schutzschür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8"/>
          <p:cNvSpPr/>
          <p:nvPr/>
        </p:nvSpPr>
        <p:spPr>
          <a:xfrm>
            <a:off x="684360" y="4751280"/>
            <a:ext cx="8459640" cy="14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und-Nasen-Schutzmaske </a:t>
            </a: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(Medizinproduk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Patientenschutz!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MNS schützt auch den Träger vor größeren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Tröpfchen und ist „Berührungsschutz“ für Mund und Na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IN EN 14683 (Empfehlung: Typ II 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Grafik 1" descr="MD520_A_0214.pdf - Adobe Acrobat Reader DC"/>
          <p:cNvPicPr/>
          <p:nvPr/>
        </p:nvPicPr>
        <p:blipFill>
          <a:blip r:embed="rId1"/>
          <a:srcRect l="10625" t="23837" r="31101" b="7851"/>
          <a:stretch/>
        </p:blipFill>
        <p:spPr>
          <a:xfrm>
            <a:off x="6191280" y="1979640"/>
            <a:ext cx="2833560" cy="18003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201" name="Grafik 6" descr=""/>
          <p:cNvPicPr/>
          <p:nvPr/>
        </p:nvPicPr>
        <p:blipFill>
          <a:blip r:embed="rId2"/>
          <a:srcRect l="36888" t="4511" r="42819" b="56746"/>
          <a:stretch/>
        </p:blipFill>
        <p:spPr>
          <a:xfrm>
            <a:off x="8175600" y="5543640"/>
            <a:ext cx="849240" cy="10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02" name="Rectangle 4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Persönliche Schutzausrüstung (PS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Grafik 4" descr=""/>
          <p:cNvPicPr/>
          <p:nvPr/>
        </p:nvPicPr>
        <p:blipFill>
          <a:blip r:embed="rId3"/>
          <a:stretch/>
        </p:blipFill>
        <p:spPr>
          <a:xfrm>
            <a:off x="8175600" y="3979800"/>
            <a:ext cx="849240" cy="1208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04" name="Picture 2" descr="Einwegschürzen ca. 35 my aus LDPE in blau in der Frontansicht"/>
          <p:cNvPicPr/>
          <p:nvPr/>
        </p:nvPicPr>
        <p:blipFill>
          <a:blip r:embed="rId4"/>
          <a:srcRect l="35411" t="15723" r="35645" b="1508"/>
          <a:stretch/>
        </p:blipFill>
        <p:spPr>
          <a:xfrm>
            <a:off x="6267600" y="2952720"/>
            <a:ext cx="630000" cy="1798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Grafik 2" descr=""/>
          <p:cNvPicPr/>
          <p:nvPr/>
        </p:nvPicPr>
        <p:blipFill>
          <a:blip r:embed="rId1"/>
          <a:srcRect l="50002" t="8406" r="17320" b="5808"/>
          <a:stretch/>
        </p:blipFill>
        <p:spPr>
          <a:xfrm>
            <a:off x="7974000" y="2735280"/>
            <a:ext cx="1008000" cy="1444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06" name="Text Box 5"/>
          <p:cNvSpPr/>
          <p:nvPr/>
        </p:nvSpPr>
        <p:spPr>
          <a:xfrm>
            <a:off x="684360" y="1979640"/>
            <a:ext cx="8459640" cy="10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gf. Atemschutz (partikelfiltrierende Halbmaske mit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oder </a:t>
            </a: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ohne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Ausatemventil </a:t>
            </a:r>
            <a:r>
              <a:rPr b="1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Eigen- und/oder Fremdschut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FFP2 / FFP3 (</a:t>
            </a: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F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ltering-</a:t>
            </a: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F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ce-</a:t>
            </a: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P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ec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8" descr=""/>
          <p:cNvPicPr/>
          <p:nvPr/>
        </p:nvPicPr>
        <p:blipFill>
          <a:blip r:embed="rId2"/>
          <a:stretch/>
        </p:blipFill>
        <p:spPr>
          <a:xfrm>
            <a:off x="1042920" y="5148360"/>
            <a:ext cx="2160720" cy="153036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9" descr=""/>
          <p:cNvPicPr/>
          <p:nvPr/>
        </p:nvPicPr>
        <p:blipFill>
          <a:blip r:embed="rId3"/>
          <a:stretch/>
        </p:blipFill>
        <p:spPr>
          <a:xfrm>
            <a:off x="3780000" y="4429080"/>
            <a:ext cx="1439640" cy="979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09" name="Text Box 14"/>
          <p:cNvSpPr/>
          <p:nvPr/>
        </p:nvSpPr>
        <p:spPr>
          <a:xfrm>
            <a:off x="684360" y="4356000"/>
            <a:ext cx="845964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gf. Gehörschut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z. B. im Praxislab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0" name="Group 7"/>
          <p:cNvGrpSpPr/>
          <p:nvPr/>
        </p:nvGrpSpPr>
        <p:grpSpPr>
          <a:xfrm>
            <a:off x="6105960" y="4023000"/>
            <a:ext cx="1542240" cy="1515960"/>
            <a:chOff x="6105960" y="4023000"/>
            <a:chExt cx="1542240" cy="1515960"/>
          </a:xfrm>
        </p:grpSpPr>
        <p:pic>
          <p:nvPicPr>
            <p:cNvPr id="211" name="Picture 5" descr="Vorsorgekartei"/>
            <p:cNvPicPr/>
            <p:nvPr/>
          </p:nvPicPr>
          <p:blipFill>
            <a:blip r:embed="rId4"/>
            <a:stretch/>
          </p:blipFill>
          <p:spPr>
            <a:xfrm rot="21300000">
              <a:off x="6156360" y="4060800"/>
              <a:ext cx="922320" cy="119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2" name="Picture 6" descr="Ärztliche Bescheinigung"/>
            <p:cNvPicPr/>
            <p:nvPr/>
          </p:nvPicPr>
          <p:blipFill>
            <a:blip r:embed="rId5"/>
            <a:stretch/>
          </p:blipFill>
          <p:spPr>
            <a:xfrm rot="300000">
              <a:off x="6652800" y="4272120"/>
              <a:ext cx="943560" cy="1227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3" name="Gruppieren 8"/>
          <p:cNvGrpSpPr/>
          <p:nvPr/>
        </p:nvGrpSpPr>
        <p:grpSpPr>
          <a:xfrm>
            <a:off x="1371600" y="3132000"/>
            <a:ext cx="4200480" cy="979560"/>
            <a:chOff x="1371600" y="3132000"/>
            <a:chExt cx="4200480" cy="979560"/>
          </a:xfrm>
        </p:grpSpPr>
        <p:pic>
          <p:nvPicPr>
            <p:cNvPr id="214" name="Grafik 5" descr=""/>
            <p:cNvPicPr/>
            <p:nvPr/>
          </p:nvPicPr>
          <p:blipFill>
            <a:blip r:embed="rId6"/>
            <a:stretch/>
          </p:blipFill>
          <p:spPr>
            <a:xfrm>
              <a:off x="1371600" y="3132000"/>
              <a:ext cx="4200480" cy="63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5" name="Grafik 7" descr=""/>
            <p:cNvPicPr/>
            <p:nvPr/>
          </p:nvPicPr>
          <p:blipFill>
            <a:blip r:embed="rId7"/>
            <a:stretch/>
          </p:blipFill>
          <p:spPr>
            <a:xfrm>
              <a:off x="1371600" y="3735000"/>
              <a:ext cx="4200480" cy="376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6" name="Rectangle 4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Persönliche Schutzausrüstung (PS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Grafik 3" descr=""/>
          <p:cNvPicPr/>
          <p:nvPr/>
        </p:nvPicPr>
        <p:blipFill>
          <a:blip r:embed="rId8"/>
          <a:stretch/>
        </p:blipFill>
        <p:spPr>
          <a:xfrm>
            <a:off x="5904000" y="2735280"/>
            <a:ext cx="1471680" cy="1152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18" name="Rechteck 13" descr=""/>
          <p:cNvPicPr/>
          <p:nvPr/>
        </p:nvPicPr>
        <p:blipFill>
          <a:blip r:embed="rId9"/>
          <a:stretch/>
        </p:blipFill>
        <p:spPr>
          <a:xfrm>
            <a:off x="5499000" y="5327640"/>
            <a:ext cx="2779920" cy="143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Text Box 2"/>
          <p:cNvSpPr/>
          <p:nvPr/>
        </p:nvSpPr>
        <p:spPr>
          <a:xfrm>
            <a:off x="684360" y="1127160"/>
            <a:ext cx="8459640" cy="1008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35080"/>
                <a:tab algn="l" pos="469800"/>
                <a:tab algn="l" pos="704880"/>
                <a:tab algn="l" pos="939960"/>
                <a:tab algn="l" pos="1174680"/>
                <a:tab algn="l" pos="1409760"/>
                <a:tab algn="l" pos="1644480"/>
                <a:tab algn="l" pos="1879560"/>
                <a:tab algn="l" pos="2114640"/>
                <a:tab algn="l" pos="2349360"/>
                <a:tab algn="l" pos="2584440"/>
                <a:tab algn="l" pos="2819520"/>
                <a:tab algn="l" pos="3054240"/>
                <a:tab algn="l" pos="3289320"/>
                <a:tab algn="l" pos="3524400"/>
                <a:tab algn="l" pos="3759120"/>
                <a:tab algn="l" pos="3994200"/>
                <a:tab algn="l" pos="4229280"/>
                <a:tab algn="l" pos="4464000"/>
                <a:tab algn="l" pos="469908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Achtung: Nicht vergessen, das Thema „PSA“ in der Zahnarztpraxis bearbeiten Sie mit der Checkliste und der Gefährdungsbeurteilung (Dokumentation und Aktualisierung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Group 3"/>
          <p:cNvGrpSpPr/>
          <p:nvPr/>
        </p:nvGrpSpPr>
        <p:grpSpPr>
          <a:xfrm>
            <a:off x="682560" y="2421000"/>
            <a:ext cx="3960720" cy="3522240"/>
            <a:chOff x="682560" y="2421000"/>
            <a:chExt cx="3960720" cy="3522240"/>
          </a:xfrm>
        </p:grpSpPr>
        <p:pic>
          <p:nvPicPr>
            <p:cNvPr id="221" name="Picture 4" descr=""/>
            <p:cNvPicPr/>
            <p:nvPr/>
          </p:nvPicPr>
          <p:blipFill>
            <a:blip r:embed="rId1"/>
            <a:stretch/>
          </p:blipFill>
          <p:spPr>
            <a:xfrm>
              <a:off x="682560" y="2521440"/>
              <a:ext cx="3959280" cy="331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Rectangle 5"/>
            <p:cNvSpPr/>
            <p:nvPr/>
          </p:nvSpPr>
          <p:spPr>
            <a:xfrm>
              <a:off x="684360" y="2421000"/>
              <a:ext cx="3958920" cy="3522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Group 6"/>
          <p:cNvGrpSpPr/>
          <p:nvPr/>
        </p:nvGrpSpPr>
        <p:grpSpPr>
          <a:xfrm>
            <a:off x="4888080" y="4230720"/>
            <a:ext cx="4106520" cy="2158920"/>
            <a:chOff x="4888080" y="4230720"/>
            <a:chExt cx="4106520" cy="2158920"/>
          </a:xfrm>
        </p:grpSpPr>
        <p:pic>
          <p:nvPicPr>
            <p:cNvPr id="224" name="Picture 7" descr=""/>
            <p:cNvPicPr/>
            <p:nvPr/>
          </p:nvPicPr>
          <p:blipFill>
            <a:blip r:embed="rId2"/>
            <a:stretch/>
          </p:blipFill>
          <p:spPr>
            <a:xfrm>
              <a:off x="4888080" y="4287960"/>
              <a:ext cx="410652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" name="Rectangle 8"/>
            <p:cNvSpPr/>
            <p:nvPr/>
          </p:nvSpPr>
          <p:spPr>
            <a:xfrm>
              <a:off x="4892400" y="4230720"/>
              <a:ext cx="4101840" cy="21589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26" name="Picture 13" descr=""/>
          <p:cNvPicPr/>
          <p:nvPr/>
        </p:nvPicPr>
        <p:blipFill>
          <a:blip r:embed="rId3"/>
          <a:stretch/>
        </p:blipFill>
        <p:spPr>
          <a:xfrm>
            <a:off x="4889520" y="2421000"/>
            <a:ext cx="4210200" cy="1635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27" name="Rechteck 3"/>
          <p:cNvSpPr/>
          <p:nvPr/>
        </p:nvSpPr>
        <p:spPr>
          <a:xfrm>
            <a:off x="4886280" y="3600360"/>
            <a:ext cx="2092320" cy="468360"/>
          </a:xfrm>
          <a:prstGeom prst="rect">
            <a:avLst/>
          </a:prstGeom>
          <a:noFill/>
          <a:ln w="316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Grafik 1" descr="Landeszahnärztekammer BW: Startseite - Internet Explorer"/>
          <p:cNvPicPr/>
          <p:nvPr/>
        </p:nvPicPr>
        <p:blipFill>
          <a:blip r:embed="rId1"/>
          <a:srcRect l="30730" t="13714" r="15313" b="21737"/>
          <a:stretch/>
        </p:blipFill>
        <p:spPr>
          <a:xfrm>
            <a:off x="3681360" y="2997360"/>
            <a:ext cx="5327640" cy="3476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6" name="Text Box 5"/>
          <p:cNvSpPr/>
          <p:nvPr/>
        </p:nvSpPr>
        <p:spPr>
          <a:xfrm>
            <a:off x="684360" y="1979640"/>
            <a:ext cx="845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268200"/>
                <a:tab algn="l" pos="447840"/>
                <a:tab algn="l" pos="527040"/>
                <a:tab algn="l" pos="790560"/>
                <a:tab algn="l" pos="1054080"/>
                <a:tab algn="l" pos="1317600"/>
                <a:tab algn="l" pos="1581120"/>
                <a:tab algn="l" pos="1844640"/>
                <a:tab algn="l" pos="2108160"/>
                <a:tab algn="l" pos="2371680"/>
                <a:tab algn="l" pos="2635200"/>
                <a:tab algn="l" pos="2898720"/>
                <a:tab algn="l" pos="3162240"/>
                <a:tab algn="l" pos="3425760"/>
                <a:tab algn="l" pos="3689280"/>
                <a:tab algn="l" pos="3952800"/>
                <a:tab algn="l" pos="4216320"/>
                <a:tab algn="l" pos="4479840"/>
                <a:tab algn="l" pos="4743360"/>
                <a:tab algn="l" pos="5006880"/>
                <a:tab algn="l" pos="5270400"/>
                <a:tab algn="l" pos="553392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Aktuelle Online-Variante über die Homepage der LZK BW unter </a:t>
            </a:r>
            <a:r>
              <a:rPr b="1" lang="de-DE" sz="2400" spc="-1" strike="noStrike">
                <a:solidFill>
                  <a:srgbClr val="0070c0"/>
                </a:solidFill>
                <a:latin typeface="Arial"/>
                <a:ea typeface="Arial"/>
              </a:rPr>
              <a:t>https://lzk-bw.de/ </a:t>
            </a:r>
            <a:r>
              <a:rPr b="1" lang="de-DE" sz="2400" spc="-1" strike="noStrike">
                <a:solidFill>
                  <a:srgbClr val="0070c0"/>
                </a:solidFill>
                <a:latin typeface="Wingdings"/>
                <a:ea typeface="Wingdings"/>
              </a:rPr>
              <a:t></a:t>
            </a:r>
            <a:r>
              <a:rPr b="1" lang="de-DE" sz="2400" spc="-1" strike="noStrike">
                <a:solidFill>
                  <a:srgbClr val="0070c0"/>
                </a:solidFill>
                <a:latin typeface="Arial"/>
                <a:ea typeface="Arial"/>
              </a:rPr>
              <a:t> PRAXIS-Handbu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hteck 3"/>
          <p:cNvSpPr/>
          <p:nvPr/>
        </p:nvSpPr>
        <p:spPr>
          <a:xfrm>
            <a:off x="3686040" y="5281560"/>
            <a:ext cx="2524320" cy="1203480"/>
          </a:xfrm>
          <a:prstGeom prst="rect">
            <a:avLst/>
          </a:prstGeom>
          <a:noFill/>
          <a:ln w="507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4"/>
          <p:cNvSpPr/>
          <p:nvPr/>
        </p:nvSpPr>
        <p:spPr>
          <a:xfrm>
            <a:off x="682560" y="971640"/>
            <a:ext cx="846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  <a:ea typeface="Arial"/>
              </a:rPr>
              <a:t>PRAXIS-Handbuch der LZK B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6"/>
          <p:cNvSpPr/>
          <p:nvPr/>
        </p:nvSpPr>
        <p:spPr>
          <a:xfrm>
            <a:off x="720720" y="654840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© LZK BW 03/202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Grafik 2" descr=""/>
          <p:cNvPicPr/>
          <p:nvPr/>
        </p:nvPicPr>
        <p:blipFill>
          <a:blip r:embed="rId2"/>
          <a:stretch/>
        </p:blipFill>
        <p:spPr>
          <a:xfrm>
            <a:off x="720720" y="2997360"/>
            <a:ext cx="1136520" cy="1136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684360" y="971640"/>
            <a:ext cx="845964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Online-PRAXIS-Handbuch der LZK B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6" descr=""/>
          <p:cNvPicPr/>
          <p:nvPr/>
        </p:nvPicPr>
        <p:blipFill>
          <a:blip r:embed="rId1"/>
          <a:stretch/>
        </p:blipFill>
        <p:spPr>
          <a:xfrm>
            <a:off x="1768320" y="1703520"/>
            <a:ext cx="5921640" cy="4771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43" name="Rectangle 5"/>
          <p:cNvSpPr/>
          <p:nvPr/>
        </p:nvSpPr>
        <p:spPr>
          <a:xfrm>
            <a:off x="1768320" y="3611520"/>
            <a:ext cx="5921640" cy="2854440"/>
          </a:xfrm>
          <a:prstGeom prst="rect">
            <a:avLst/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5"/>
          <p:cNvSpPr/>
          <p:nvPr/>
        </p:nvSpPr>
        <p:spPr>
          <a:xfrm>
            <a:off x="6648480" y="2874960"/>
            <a:ext cx="1041480" cy="244440"/>
          </a:xfrm>
          <a:prstGeom prst="rect">
            <a:avLst/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Grafik 10" descr=""/>
          <p:cNvPicPr/>
          <p:nvPr/>
        </p:nvPicPr>
        <p:blipFill>
          <a:blip r:embed="rId2"/>
          <a:stretch/>
        </p:blipFill>
        <p:spPr>
          <a:xfrm>
            <a:off x="7929720" y="5398920"/>
            <a:ext cx="900000" cy="9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6"/>
          <p:cNvSpPr/>
          <p:nvPr/>
        </p:nvSpPr>
        <p:spPr>
          <a:xfrm>
            <a:off x="684360" y="971640"/>
            <a:ext cx="827712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38080" indent="-838080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  <a:ea typeface="Arial"/>
              </a:rPr>
              <a:t>Unterweisungsinhalte - Beispie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7"/>
          <p:cNvSpPr/>
          <p:nvPr/>
        </p:nvSpPr>
        <p:spPr>
          <a:xfrm>
            <a:off x="684360" y="1978200"/>
            <a:ext cx="8459640" cy="18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Rechtliche Grundla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Persönliche Schutzausrüstung (PS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PSA - Was ist zu tu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PSA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-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In der Zahnarztprax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4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Persönliche Schutzausrüstung (PS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6" descr=""/>
          <p:cNvPicPr/>
          <p:nvPr/>
        </p:nvPicPr>
        <p:blipFill>
          <a:blip r:embed="rId1"/>
          <a:stretch/>
        </p:blipFill>
        <p:spPr>
          <a:xfrm>
            <a:off x="1800360" y="1979640"/>
            <a:ext cx="6110280" cy="432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Rechtliche Grundla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3"/>
          <p:cNvSpPr/>
          <p:nvPr/>
        </p:nvSpPr>
        <p:spPr>
          <a:xfrm>
            <a:off x="684360" y="1798560"/>
            <a:ext cx="8459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rbeitsschutzgesetz (ArbSchG) und Unfallverhütungsvorschrift DGUV V1 „Grundsätze der Prävention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5"/>
          <p:cNvSpPr/>
          <p:nvPr/>
        </p:nvSpPr>
        <p:spPr>
          <a:xfrm>
            <a:off x="3600360" y="2692440"/>
            <a:ext cx="5004000" cy="180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rundpflichten des Unterneh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rundpflichten der Versicher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Organisation des betrieblichen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rbeitsschutz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Grafik 1" descr="https://www.bgw-online.de/SharedDocs/Downloads/DE/Medientypen/DGUV_vorschrift-regel/DGUV-Vorsch - Internet Explorer"/>
          <p:cNvPicPr/>
          <p:nvPr/>
        </p:nvPicPr>
        <p:blipFill>
          <a:blip r:embed="rId1"/>
          <a:srcRect l="50002" t="15052" r="18124" b="2638"/>
          <a:stretch/>
        </p:blipFill>
        <p:spPr>
          <a:xfrm>
            <a:off x="789120" y="2549520"/>
            <a:ext cx="2811240" cy="3960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0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feld 3"/>
          <p:cNvSpPr/>
          <p:nvPr/>
        </p:nvSpPr>
        <p:spPr>
          <a:xfrm>
            <a:off x="682560" y="1843560"/>
            <a:ext cx="8317080" cy="703800"/>
          </a:xfrm>
          <a:prstGeom prst="rect">
            <a:avLst/>
          </a:prstGeom>
          <a:solidFill>
            <a:srgbClr val="007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  <a:ea typeface="Arial"/>
              </a:rPr>
              <a:t>Gefährdungsbeurteilung</a:t>
            </a:r>
            <a:br>
              <a:rPr sz="2000"/>
            </a:br>
            <a:r>
              <a:rPr b="1" lang="de-DE" sz="2000" spc="-1" strike="noStrike">
                <a:solidFill>
                  <a:srgbClr val="ffffff"/>
                </a:solidFill>
                <a:latin typeface="Arial"/>
                <a:ea typeface="Arial"/>
              </a:rPr>
              <a:t>(Gefährdungen ermitteln und beurteil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feil: nach rechts 4"/>
          <p:cNvSpPr/>
          <p:nvPr/>
        </p:nvSpPr>
        <p:spPr>
          <a:xfrm rot="5400000">
            <a:off x="4553280" y="2730960"/>
            <a:ext cx="612720" cy="398520"/>
          </a:xfrm>
          <a:prstGeom prst="rightArrow">
            <a:avLst>
              <a:gd name="adj1" fmla="val 50000"/>
              <a:gd name="adj2" fmla="val 49989"/>
            </a:avLst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feld 9"/>
          <p:cNvSpPr/>
          <p:nvPr/>
        </p:nvSpPr>
        <p:spPr>
          <a:xfrm>
            <a:off x="682560" y="6198120"/>
            <a:ext cx="8317080" cy="398880"/>
          </a:xfrm>
          <a:prstGeom prst="rect">
            <a:avLst/>
          </a:prstGeom>
          <a:solidFill>
            <a:srgbClr val="007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  <a:ea typeface="Arial"/>
              </a:rPr>
              <a:t>Fortschreibung der Gefährdungsbeurteil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feld 12"/>
          <p:cNvSpPr/>
          <p:nvPr/>
        </p:nvSpPr>
        <p:spPr>
          <a:xfrm>
            <a:off x="682560" y="3302280"/>
            <a:ext cx="8317080" cy="398880"/>
          </a:xfrm>
          <a:prstGeom prst="rect">
            <a:avLst/>
          </a:prstGeom>
          <a:solidFill>
            <a:srgbClr val="007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  <a:ea typeface="Arial"/>
              </a:rPr>
              <a:t>Schutzmaßnahmen festlegen und durchfüh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feld 17"/>
          <p:cNvSpPr/>
          <p:nvPr/>
        </p:nvSpPr>
        <p:spPr>
          <a:xfrm>
            <a:off x="682560" y="4896360"/>
            <a:ext cx="8317080" cy="398880"/>
          </a:xfrm>
          <a:prstGeom prst="rect">
            <a:avLst/>
          </a:prstGeom>
          <a:solidFill>
            <a:srgbClr val="007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  <a:ea typeface="Arial"/>
              </a:rPr>
              <a:t>Schutzmaßnahmen auf Wirksamkeit überprüf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feil: nach rechts 21"/>
          <p:cNvSpPr/>
          <p:nvPr/>
        </p:nvSpPr>
        <p:spPr>
          <a:xfrm rot="5400000">
            <a:off x="4320000" y="4109040"/>
            <a:ext cx="1079280" cy="398520"/>
          </a:xfrm>
          <a:prstGeom prst="rightArrow">
            <a:avLst>
              <a:gd name="adj1" fmla="val 50000"/>
              <a:gd name="adj2" fmla="val 49977"/>
            </a:avLst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feil: nach rechts 22"/>
          <p:cNvSpPr/>
          <p:nvPr/>
        </p:nvSpPr>
        <p:spPr>
          <a:xfrm rot="5400000">
            <a:off x="4463640" y="5551200"/>
            <a:ext cx="792000" cy="398520"/>
          </a:xfrm>
          <a:prstGeom prst="rightArrow">
            <a:avLst>
              <a:gd name="adj1" fmla="val 50000"/>
              <a:gd name="adj2" fmla="val 49978"/>
            </a:avLst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Persönliche Schutzausrüstung (PS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Inhaltsplatzhalter 3" descr=""/>
          <p:cNvPicPr/>
          <p:nvPr/>
        </p:nvPicPr>
        <p:blipFill>
          <a:blip r:embed="rId1"/>
          <a:srcRect l="0" t="1561" r="0" b="2585"/>
          <a:stretch/>
        </p:blipFill>
        <p:spPr>
          <a:xfrm>
            <a:off x="7378560" y="1646280"/>
            <a:ext cx="1411560" cy="887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63" name="Grafik 1" descr=""/>
          <p:cNvPicPr/>
          <p:nvPr/>
        </p:nvPicPr>
        <p:blipFill>
          <a:blip r:embed="rId2"/>
          <a:srcRect l="8520" t="0" r="0" b="0"/>
          <a:stretch/>
        </p:blipFill>
        <p:spPr>
          <a:xfrm>
            <a:off x="682560" y="2595600"/>
            <a:ext cx="841320" cy="900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64" name="Picture 7" descr=""/>
          <p:cNvPicPr/>
          <p:nvPr/>
        </p:nvPicPr>
        <p:blipFill>
          <a:blip r:embed="rId3"/>
          <a:stretch/>
        </p:blipFill>
        <p:spPr>
          <a:xfrm>
            <a:off x="682560" y="3554280"/>
            <a:ext cx="951120" cy="64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65" name="Grafik 6" descr=""/>
          <p:cNvPicPr/>
          <p:nvPr/>
        </p:nvPicPr>
        <p:blipFill>
          <a:blip r:embed="rId4"/>
          <a:srcRect l="36888" t="4511" r="42819" b="56746"/>
          <a:stretch/>
        </p:blipFill>
        <p:spPr>
          <a:xfrm>
            <a:off x="6993000" y="3768840"/>
            <a:ext cx="793800" cy="100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66" name="Picture 2" descr="Einwegschürzen ca. 35 my aus LDPE in blau in der Frontansicht"/>
          <p:cNvPicPr/>
          <p:nvPr/>
        </p:nvPicPr>
        <p:blipFill>
          <a:blip r:embed="rId5"/>
          <a:srcRect l="35411" t="15723" r="35645" b="1508"/>
          <a:stretch/>
        </p:blipFill>
        <p:spPr>
          <a:xfrm>
            <a:off x="8221680" y="2795760"/>
            <a:ext cx="568440" cy="162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67" name="Grafik 20" descr=""/>
          <p:cNvPicPr/>
          <p:nvPr/>
        </p:nvPicPr>
        <p:blipFill>
          <a:blip r:embed="rId6"/>
          <a:stretch/>
        </p:blipFill>
        <p:spPr>
          <a:xfrm>
            <a:off x="5275440" y="3800520"/>
            <a:ext cx="1287360" cy="100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68" name="Textfeld 23"/>
          <p:cNvSpPr/>
          <p:nvPr/>
        </p:nvSpPr>
        <p:spPr>
          <a:xfrm>
            <a:off x="1528920" y="3930480"/>
            <a:ext cx="30956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enutzung von PSA durch die </a:t>
            </a:r>
            <a:br>
              <a:rPr sz="1400"/>
            </a:b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eschäftigten, solange eine </a:t>
            </a:r>
            <a:br>
              <a:rPr sz="1400"/>
            </a:b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Gefährdung besteht (Tragepflicht)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feld 24"/>
          <p:cNvSpPr/>
          <p:nvPr/>
        </p:nvSpPr>
        <p:spPr>
          <a:xfrm>
            <a:off x="5184720" y="5327640"/>
            <a:ext cx="3959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 u="sng">
                <a:solidFill>
                  <a:srgbClr val="000000"/>
                </a:solidFill>
                <a:uFillTx/>
                <a:latin typeface="Arial"/>
              </a:rPr>
              <a:t>Sorgfaltsverpflichtung bei der Benutzung von PSA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- Sachgerechte Aufbewahrung der PS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- Prüfung vor Gebrauch und Reinigung nach Gebrauc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- Schadhafte PSA ausbessern bzw. austausch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7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8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0" name="Group 2"/>
          <p:cNvGrpSpPr/>
          <p:nvPr/>
        </p:nvGrpSpPr>
        <p:grpSpPr>
          <a:xfrm>
            <a:off x="1620720" y="2587680"/>
            <a:ext cx="6407280" cy="2422440"/>
            <a:chOff x="1620720" y="2587680"/>
            <a:chExt cx="6407280" cy="2422440"/>
          </a:xfrm>
        </p:grpSpPr>
        <p:sp>
          <p:nvSpPr>
            <p:cNvPr id="171" name="Text Box 3"/>
            <p:cNvSpPr/>
            <p:nvPr/>
          </p:nvSpPr>
          <p:spPr>
            <a:xfrm>
              <a:off x="2412720" y="3414600"/>
              <a:ext cx="4824360" cy="39888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235080"/>
                  <a:tab algn="l" pos="469800"/>
                  <a:tab algn="l" pos="704880"/>
                  <a:tab algn="l" pos="939960"/>
                  <a:tab algn="l" pos="1174680"/>
                  <a:tab algn="l" pos="1409760"/>
                  <a:tab algn="l" pos="1644480"/>
                  <a:tab algn="l" pos="1879560"/>
                  <a:tab algn="l" pos="2114640"/>
                  <a:tab algn="l" pos="2349360"/>
                  <a:tab algn="l" pos="2584440"/>
                  <a:tab algn="l" pos="2819520"/>
                  <a:tab algn="l" pos="3054240"/>
                  <a:tab algn="l" pos="3289320"/>
                  <a:tab algn="l" pos="3524400"/>
                  <a:tab algn="l" pos="3759120"/>
                  <a:tab algn="l" pos="3994200"/>
                  <a:tab algn="l" pos="4229280"/>
                  <a:tab algn="l" pos="4464000"/>
                  <a:tab algn="l" pos="4699080"/>
                </a:tabLst>
              </a:pPr>
              <a:r>
                <a:rPr b="1" lang="de-DE" sz="2000" spc="-1" strike="noStrike">
                  <a:solidFill>
                    <a:srgbClr val="ffffff"/>
                  </a:solidFill>
                  <a:latin typeface="Arial"/>
                </a:rPr>
                <a:t>Technische Schutzmaßnahme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AutoShape 4"/>
            <p:cNvSpPr/>
            <p:nvPr/>
          </p:nvSpPr>
          <p:spPr>
            <a:xfrm>
              <a:off x="1620720" y="3570480"/>
              <a:ext cx="718920" cy="1439640"/>
            </a:xfrm>
            <a:custGeom>
              <a:avLst/>
              <a:gdLst>
                <a:gd name="textAreaLeft" fmla="*/ 96120 w 718920"/>
                <a:gd name="textAreaRight" fmla="*/ 622800 w 718920"/>
                <a:gd name="textAreaTop" fmla="*/ 252000 h 1439640"/>
                <a:gd name="textAreaBottom" fmla="*/ 1044000 h 1439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AutoShape 5"/>
            <p:cNvSpPr/>
            <p:nvPr/>
          </p:nvSpPr>
          <p:spPr>
            <a:xfrm>
              <a:off x="7308720" y="3570480"/>
              <a:ext cx="719280" cy="1439640"/>
            </a:xfrm>
            <a:custGeom>
              <a:avLst/>
              <a:gdLst>
                <a:gd name="textAreaLeft" fmla="*/ 96120 w 719280"/>
                <a:gd name="textAreaRight" fmla="*/ 623160 w 719280"/>
                <a:gd name="textAreaTop" fmla="*/ 252000 h 1439640"/>
                <a:gd name="textAreaBottom" fmla="*/ 1044000 h 1439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Text Box 6"/>
            <p:cNvSpPr/>
            <p:nvPr/>
          </p:nvSpPr>
          <p:spPr>
            <a:xfrm>
              <a:off x="4498920" y="2587680"/>
              <a:ext cx="6476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5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de-DE" sz="6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Group 7"/>
          <p:cNvGrpSpPr/>
          <p:nvPr/>
        </p:nvGrpSpPr>
        <p:grpSpPr>
          <a:xfrm>
            <a:off x="1620720" y="4027320"/>
            <a:ext cx="6407280" cy="2566800"/>
            <a:chOff x="1620720" y="4027320"/>
            <a:chExt cx="6407280" cy="2566800"/>
          </a:xfrm>
        </p:grpSpPr>
        <p:sp>
          <p:nvSpPr>
            <p:cNvPr id="176" name="Text Box 8"/>
            <p:cNvSpPr/>
            <p:nvPr/>
          </p:nvSpPr>
          <p:spPr>
            <a:xfrm>
              <a:off x="2412720" y="4854240"/>
              <a:ext cx="4824360" cy="39888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235080"/>
                  <a:tab algn="l" pos="469800"/>
                  <a:tab algn="l" pos="704880"/>
                  <a:tab algn="l" pos="939960"/>
                  <a:tab algn="l" pos="1174680"/>
                  <a:tab algn="l" pos="1409760"/>
                  <a:tab algn="l" pos="1644480"/>
                  <a:tab algn="l" pos="1879560"/>
                  <a:tab algn="l" pos="2114640"/>
                  <a:tab algn="l" pos="2349360"/>
                  <a:tab algn="l" pos="2584440"/>
                  <a:tab algn="l" pos="2819520"/>
                  <a:tab algn="l" pos="3054240"/>
                  <a:tab algn="l" pos="3289320"/>
                  <a:tab algn="l" pos="3524400"/>
                  <a:tab algn="l" pos="3759120"/>
                  <a:tab algn="l" pos="3994200"/>
                  <a:tab algn="l" pos="4229280"/>
                  <a:tab algn="l" pos="4464000"/>
                  <a:tab algn="l" pos="4699080"/>
                </a:tabLst>
              </a:pPr>
              <a:r>
                <a:rPr b="1" lang="de-DE" sz="2000" spc="-1" strike="noStrike">
                  <a:solidFill>
                    <a:srgbClr val="ffffff"/>
                  </a:solidFill>
                  <a:latin typeface="Arial"/>
                </a:rPr>
                <a:t>Organisatorische Schutzmaßnahme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AutoShape 9"/>
            <p:cNvSpPr/>
            <p:nvPr/>
          </p:nvSpPr>
          <p:spPr>
            <a:xfrm>
              <a:off x="1620720" y="5154120"/>
              <a:ext cx="718920" cy="1440000"/>
            </a:xfrm>
            <a:custGeom>
              <a:avLst/>
              <a:gdLst>
                <a:gd name="textAreaLeft" fmla="*/ 96120 w 718920"/>
                <a:gd name="textAreaRight" fmla="*/ 622800 w 718920"/>
                <a:gd name="textAreaTop" fmla="*/ 252000 h 1440000"/>
                <a:gd name="textAreaBottom" fmla="*/ 1044000 h 1440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AutoShape 10"/>
            <p:cNvSpPr/>
            <p:nvPr/>
          </p:nvSpPr>
          <p:spPr>
            <a:xfrm>
              <a:off x="7308720" y="5152680"/>
              <a:ext cx="719280" cy="1440000"/>
            </a:xfrm>
            <a:custGeom>
              <a:avLst/>
              <a:gdLst>
                <a:gd name="textAreaLeft" fmla="*/ 96120 w 719280"/>
                <a:gd name="textAreaRight" fmla="*/ 623160 w 719280"/>
                <a:gd name="textAreaTop" fmla="*/ 252000 h 1440000"/>
                <a:gd name="textAreaBottom" fmla="*/ 1044000 h 1440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11"/>
            <p:cNvSpPr/>
            <p:nvPr/>
          </p:nvSpPr>
          <p:spPr>
            <a:xfrm>
              <a:off x="4429080" y="4027320"/>
              <a:ext cx="7207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5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de-DE" sz="6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Group 12"/>
          <p:cNvGrpSpPr/>
          <p:nvPr/>
        </p:nvGrpSpPr>
        <p:grpSpPr>
          <a:xfrm>
            <a:off x="2413080" y="5467320"/>
            <a:ext cx="4824360" cy="1226160"/>
            <a:chOff x="2413080" y="5467320"/>
            <a:chExt cx="4824360" cy="1226160"/>
          </a:xfrm>
        </p:grpSpPr>
        <p:sp>
          <p:nvSpPr>
            <p:cNvPr id="181" name="Text Box 13"/>
            <p:cNvSpPr/>
            <p:nvPr/>
          </p:nvSpPr>
          <p:spPr>
            <a:xfrm>
              <a:off x="2413080" y="6294600"/>
              <a:ext cx="4824360" cy="39888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235080"/>
                  <a:tab algn="l" pos="469800"/>
                  <a:tab algn="l" pos="704880"/>
                  <a:tab algn="l" pos="939960"/>
                  <a:tab algn="l" pos="1174680"/>
                  <a:tab algn="l" pos="1409760"/>
                  <a:tab algn="l" pos="1644480"/>
                  <a:tab algn="l" pos="1879560"/>
                  <a:tab algn="l" pos="2114640"/>
                  <a:tab algn="l" pos="2349360"/>
                  <a:tab algn="l" pos="2584440"/>
                  <a:tab algn="l" pos="2819520"/>
                  <a:tab algn="l" pos="3054240"/>
                  <a:tab algn="l" pos="3289320"/>
                  <a:tab algn="l" pos="3524400"/>
                  <a:tab algn="l" pos="3759120"/>
                  <a:tab algn="l" pos="3994200"/>
                  <a:tab algn="l" pos="4229280"/>
                  <a:tab algn="l" pos="4464000"/>
                  <a:tab algn="l" pos="4699080"/>
                </a:tabLst>
              </a:pPr>
              <a:r>
                <a:rPr b="1" lang="de-DE" sz="2000" spc="-1" strike="noStrike">
                  <a:solidFill>
                    <a:srgbClr val="ffffff"/>
                  </a:solidFill>
                  <a:latin typeface="Arial"/>
                </a:rPr>
                <a:t>Persönliche Schutzmaßnahme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 Box 14"/>
            <p:cNvSpPr/>
            <p:nvPr/>
          </p:nvSpPr>
          <p:spPr>
            <a:xfrm>
              <a:off x="4500720" y="5467320"/>
              <a:ext cx="6476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5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de-DE" sz="6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Rectangle 17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PSA - Was ist zu tu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18"/>
          <p:cNvSpPr/>
          <p:nvPr/>
        </p:nvSpPr>
        <p:spPr>
          <a:xfrm>
            <a:off x="684360" y="1630440"/>
            <a:ext cx="8351640" cy="1008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35080"/>
                <a:tab algn="l" pos="469800"/>
                <a:tab algn="l" pos="704880"/>
                <a:tab algn="l" pos="939960"/>
                <a:tab algn="l" pos="1174680"/>
                <a:tab algn="l" pos="1409760"/>
                <a:tab algn="l" pos="1644480"/>
                <a:tab algn="l" pos="1879560"/>
                <a:tab algn="l" pos="2114640"/>
                <a:tab algn="l" pos="2349360"/>
                <a:tab algn="l" pos="2584440"/>
                <a:tab algn="l" pos="2819520"/>
                <a:tab algn="l" pos="3054240"/>
                <a:tab algn="l" pos="3289320"/>
                <a:tab algn="l" pos="3524400"/>
                <a:tab algn="l" pos="3759120"/>
                <a:tab algn="l" pos="3994200"/>
                <a:tab algn="l" pos="4229280"/>
                <a:tab algn="l" pos="4464000"/>
                <a:tab algn="l" pos="469908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S – T – O – P – Prinzip: Bevor Schutzmaßnahmen ergriffen werden, sollte geprüft werden: Gibt es für diese Tätigkeit einen weniger gefährlichen Stoff (S steht für Substitution)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6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 Box 3"/>
          <p:cNvSpPr/>
          <p:nvPr/>
        </p:nvSpPr>
        <p:spPr>
          <a:xfrm>
            <a:off x="684360" y="1978200"/>
            <a:ext cx="84596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nutzung von </a:t>
            </a:r>
            <a:r>
              <a:rPr b="1" lang="de-DE" sz="2400" spc="-1" strike="noStrike" u="sng">
                <a:solidFill>
                  <a:srgbClr val="0070c0"/>
                </a:solidFill>
                <a:uFillTx/>
                <a:latin typeface="Arial"/>
              </a:rPr>
              <a:t>Persönlicher Schutzausrüstung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urch die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schäftigten, solange eine Gefährdung besteht 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(Tragepflicht)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684360" y="3141720"/>
            <a:ext cx="8459640" cy="156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400" spc="-1" strike="noStrike" u="sng">
                <a:solidFill>
                  <a:srgbClr val="000000"/>
                </a:solidFill>
                <a:uFillTx/>
                <a:latin typeface="Arial"/>
              </a:rPr>
              <a:t>Sorgfaltsverpflichtung bei Benutzung von PS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- Sachgerechte Aufbewahrung der PS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- Prüfung vor Gebrauch und Reinigung nach Gebrauc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- Schadhafte PSA ausbessern bzw. austausch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6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PSA - Was ist zu tu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4-07-08T09:16:11Z</dcterms:created>
  <dc:creator>Aylin Klein</dc:creator>
  <dc:description/>
  <dc:language>en-US</dc:language>
  <cp:lastModifiedBy>Marco Wagner</cp:lastModifiedBy>
  <dcterms:modified xsi:type="dcterms:W3CDTF">2025-03-05T13:41:03Z</dcterms:modified>
  <cp:revision>15</cp:revision>
  <dc:subject/>
  <dc:title/>
</cp:coreProperties>
</file>