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64960" y="1240920"/>
            <a:ext cx="446724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6835D8-9BFB-4B2D-8F47-4C442BE61EB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65320" y="1241280"/>
            <a:ext cx="4467240" cy="33498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E74FF-DFCD-4747-BE6B-0744E31B529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07D72-8674-4E3C-A388-CA08725DD1D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image" Target="../media/image20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4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"/>
          <p:cNvPicPr/>
          <p:nvPr/>
        </p:nvPicPr>
        <p:blipFill>
          <a:blip r:embed="rId2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7" name="Rechteck 11" descr=""/>
          <p:cNvPicPr/>
          <p:nvPr/>
        </p:nvPicPr>
        <p:blipFill>
          <a:blip r:embed="rId3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8" name="Textfeld 13"/>
          <p:cNvSpPr/>
          <p:nvPr/>
        </p:nvSpPr>
        <p:spPr>
          <a:xfrm>
            <a:off x="1841400" y="279900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afik 12" descr=""/>
          <p:cNvPicPr/>
          <p:nvPr/>
        </p:nvPicPr>
        <p:blipFill>
          <a:blip r:embed="rId4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" descr=""/>
          <p:cNvPicPr/>
          <p:nvPr/>
        </p:nvPicPr>
        <p:blipFill>
          <a:blip r:embed="rId5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6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8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9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33" name="Grafik 4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Medizinproduk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0" name="Grafik 2" descr=""/>
          <p:cNvPicPr/>
          <p:nvPr/>
        </p:nvPicPr>
        <p:blipFill>
          <a:blip r:embed="rId2"/>
          <a:stretch/>
        </p:blipFill>
        <p:spPr>
          <a:xfrm>
            <a:off x="4890960" y="4221000"/>
            <a:ext cx="3996000" cy="244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1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2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3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8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9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83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5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0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11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feld 13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rafik 14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6" name="Rechteck 18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19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Grafik 20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00" name="Textfeld 24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cp:lastPrinted>2024-08-07T06:48:23Z</cp:lastPrinted>
  <dcterms:modified xsi:type="dcterms:W3CDTF">2025-03-05T13:37:08Z</dcterms:modified>
  <cp:revision>20</cp:revision>
  <dc:subject/>
  <dc:title/>
</cp:coreProperties>
</file>