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png" ContentType="image/png"/>
  <Override PartName="/ppt/media/image28.png" ContentType="image/png"/>
  <Override PartName="/ppt/media/image8.jpeg" ContentType="image/jpeg"/>
  <Override PartName="/ppt/media/image5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2.png" ContentType="image/png"/>
  <Override PartName="/ppt/media/image2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8D40B-0218-4135-AED4-7DAE3D7026A1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4360" y="197820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</a:t>
            </a:r>
            <a:r>
              <a:rPr b="1" lang="de-DE" sz="2400" spc="-1" strike="noStrike" u="sng">
                <a:solidFill>
                  <a:srgbClr val="0070c0"/>
                </a:solidFill>
                <a:uFillTx/>
                <a:latin typeface="Arial"/>
              </a:rPr>
              <a:t>Blut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tragene Erreger und ihr Ansteckungspotenzi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01840" y="2925720"/>
            <a:ext cx="38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B-Viren (HBV)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401840" y="418140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patitis-C-Viren (HCV)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401840" y="5391000"/>
            <a:ext cx="371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-Viren (HIV/AIDS) 0,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3"/>
          <p:cNvGrpSpPr/>
          <p:nvPr/>
        </p:nvGrpSpPr>
        <p:grpSpPr>
          <a:xfrm>
            <a:off x="5262480" y="2997360"/>
            <a:ext cx="3630600" cy="1439640"/>
            <a:chOff x="5262480" y="2997360"/>
            <a:chExt cx="3630600" cy="1439640"/>
          </a:xfrm>
        </p:grpSpPr>
        <p:sp>
          <p:nvSpPr>
            <p:cNvPr id="184" name="Text Box 7"/>
            <p:cNvSpPr/>
            <p:nvPr/>
          </p:nvSpPr>
          <p:spPr>
            <a:xfrm>
              <a:off x="5726160" y="3514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1"/>
            <p:cNvSpPr/>
            <p:nvPr/>
          </p:nvSpPr>
          <p:spPr>
            <a:xfrm>
              <a:off x="5262480" y="2997360"/>
              <a:ext cx="457200" cy="143964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39640"/>
                <a:gd name="textAreaBottom" fmla="*/ 10440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5259240" y="4437000"/>
            <a:ext cx="3633480" cy="1440000"/>
            <a:chOff x="5259240" y="4437000"/>
            <a:chExt cx="3633480" cy="1440000"/>
          </a:xfrm>
        </p:grpSpPr>
        <p:sp>
          <p:nvSpPr>
            <p:cNvPr id="187" name="Text Box 8"/>
            <p:cNvSpPr/>
            <p:nvPr/>
          </p:nvSpPr>
          <p:spPr>
            <a:xfrm>
              <a:off x="5725800" y="4900680"/>
              <a:ext cx="31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10 x ansteckender 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2"/>
            <p:cNvSpPr/>
            <p:nvPr/>
          </p:nvSpPr>
          <p:spPr>
            <a:xfrm>
              <a:off x="5259240" y="4437000"/>
              <a:ext cx="457200" cy="14400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980891"/>
                  <a:lnTo>
                    <a:pt x="6150" y="21287"/>
                  </a:lnTo>
                  <a:lnTo>
                    <a:pt x="0" y="17280"/>
                  </a:lnTo>
                  <a:lnTo>
                    <a:pt x="6150" y="12647"/>
                  </a:lnTo>
                  <a:lnTo>
                    <a:pt x="6150" y="14807"/>
                  </a:lnTo>
                  <a:arcTo wR="21600" hR="7560" stAng="2980891" swAng="-2623457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682560" y="3122640"/>
            <a:ext cx="8461440" cy="27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Direkter Konta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it Blut, Speichel oder ander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tenziel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ösen Sekr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pritze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von Blut, Speichel, Sekreten aus Nase und Rachen auf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akte oder verletz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ut oder Schleimha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uppieren 1"/>
          <p:cNvGrpSpPr/>
          <p:nvPr/>
        </p:nvGrpSpPr>
        <p:grpSpPr>
          <a:xfrm>
            <a:off x="1571760" y="3672000"/>
            <a:ext cx="6683040" cy="1439640"/>
            <a:chOff x="1571760" y="3672000"/>
            <a:chExt cx="6683040" cy="1439640"/>
          </a:xfrm>
        </p:grpSpPr>
        <p:pic>
          <p:nvPicPr>
            <p:cNvPr id="191" name="Grafik 1" descr="Hager &amp; Werken online :: Miramatic® Spritzen - Windows Internet Explorer"/>
            <p:cNvPicPr/>
            <p:nvPr/>
          </p:nvPicPr>
          <p:blipFill>
            <a:blip r:embed="rId1"/>
            <a:srcRect l="32994" t="41633" r="36143" b="42502"/>
            <a:stretch/>
          </p:blipFill>
          <p:spPr>
            <a:xfrm>
              <a:off x="1571760" y="3917160"/>
              <a:ext cx="2553840" cy="968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92" name="Group 9"/>
            <p:cNvGrpSpPr/>
            <p:nvPr/>
          </p:nvGrpSpPr>
          <p:grpSpPr>
            <a:xfrm>
              <a:off x="4408200" y="3672000"/>
              <a:ext cx="3846600" cy="1439640"/>
              <a:chOff x="4408200" y="3672000"/>
              <a:chExt cx="3846600" cy="1439640"/>
            </a:xfrm>
          </p:grpSpPr>
          <p:pic>
            <p:nvPicPr>
              <p:cNvPr id="193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442920" y="4393080"/>
                <a:ext cx="1810080" cy="71820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  <p:pic>
            <p:nvPicPr>
              <p:cNvPr id="194" name="Picture 10" descr="Healozone/Mund"/>
              <p:cNvPicPr/>
              <p:nvPr/>
            </p:nvPicPr>
            <p:blipFill>
              <a:blip r:embed="rId3"/>
              <a:stretch/>
            </p:blipFill>
            <p:spPr>
              <a:xfrm>
                <a:off x="6459480" y="3672000"/>
                <a:ext cx="1795320" cy="72108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  <p:pic>
            <p:nvPicPr>
              <p:cNvPr id="195" name="Pictur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4408200" y="3672000"/>
                <a:ext cx="2044440" cy="1439640"/>
              </a:xfrm>
              <a:prstGeom prst="rect">
                <a:avLst/>
              </a:prstGeom>
              <a:ln w="9360">
                <a:solidFill>
                  <a:srgbClr val="bfbfbf"/>
                </a:solidFill>
                <a:miter/>
              </a:ln>
            </p:spPr>
          </p:pic>
        </p:grpSp>
      </p:grpSp>
      <p:sp>
        <p:nvSpPr>
          <p:cNvPr id="196" name="Text Box 6"/>
          <p:cNvSpPr/>
          <p:nvPr/>
        </p:nvSpPr>
        <p:spPr>
          <a:xfrm>
            <a:off x="682560" y="5975280"/>
            <a:ext cx="846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Indirekte Übertrag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z. B. über kontaminierte Instrumente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ahntechnische Materialien, Werkstücke oder Hä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de-DE" sz="3200" spc="-1" strike="noStrike">
                <a:solidFill>
                  <a:srgbClr val="0070c0"/>
                </a:solidFill>
                <a:latin typeface="Arial"/>
                <a:ea typeface="Arial"/>
              </a:rPr>
              <a:t>Übertragungsweg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 in der Zahnarztpr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84360" y="1979640"/>
            <a:ext cx="84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Aerosolbildu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mit kontaminiertem Wasser aus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handlungseinheiten bzw. aus dem Mundraum de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</a:t>
            </a:r>
            <a:r>
              <a:rPr b="1" lang="de-DE" sz="20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Dentaler Spraynebel-Rückp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Grafik 2" descr=""/>
          <p:cNvPicPr/>
          <p:nvPr/>
        </p:nvPicPr>
        <p:blipFill>
          <a:blip r:embed="rId5"/>
          <a:stretch/>
        </p:blipFill>
        <p:spPr>
          <a:xfrm>
            <a:off x="7559640" y="1682640"/>
            <a:ext cx="1015920" cy="14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Grafik 1" descr="Biologische_Arbeitsstoffe.doc [Kompatibilitätsmodus] - Microsoft Word"/>
          <p:cNvPicPr/>
          <p:nvPr/>
        </p:nvPicPr>
        <p:blipFill>
          <a:blip r:embed="rId1"/>
          <a:srcRect l="15283" t="6757" r="51890" b="3279"/>
          <a:stretch/>
        </p:blipFill>
        <p:spPr>
          <a:xfrm>
            <a:off x="1139760" y="1987560"/>
            <a:ext cx="3149640" cy="46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1" name="Rectangle 2"/>
          <p:cNvSpPr/>
          <p:nvPr/>
        </p:nvSpPr>
        <p:spPr>
          <a:xfrm>
            <a:off x="684360" y="971640"/>
            <a:ext cx="845964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Betriebsan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33760" y="1979640"/>
            <a:ext cx="4140360" cy="21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bereich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offbez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ektion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halten bei Unfä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433760" y="511812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Unterweisung (Doku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207120" y="425448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Grafik 6" descr=""/>
          <p:cNvPicPr/>
          <p:nvPr/>
        </p:nvPicPr>
        <p:blipFill>
          <a:blip r:embed="rId2"/>
          <a:stretch/>
        </p:blipFill>
        <p:spPr>
          <a:xfrm>
            <a:off x="7547040" y="587700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1" descr=""/>
          <p:cNvPicPr/>
          <p:nvPr/>
        </p:nvPicPr>
        <p:blipFill>
          <a:blip r:embed="rId3"/>
          <a:stretch/>
        </p:blipFill>
        <p:spPr>
          <a:xfrm>
            <a:off x="4433760" y="6307200"/>
            <a:ext cx="25416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Behandlungs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rcRect l="13449" t="4140" r="50998" b="7573"/>
          <a:stretch/>
        </p:blipFill>
        <p:spPr>
          <a:xfrm>
            <a:off x="5661000" y="2160720"/>
            <a:ext cx="3092400" cy="43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Grafik 6" descr=""/>
          <p:cNvPicPr/>
          <p:nvPr/>
        </p:nvPicPr>
        <p:blipFill>
          <a:blip r:embed="rId2"/>
          <a:stretch/>
        </p:blipFill>
        <p:spPr>
          <a:xfrm>
            <a:off x="4572000" y="2160720"/>
            <a:ext cx="758880" cy="75852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3"/>
          <p:cNvSpPr/>
          <p:nvPr/>
        </p:nvSpPr>
        <p:spPr>
          <a:xfrm>
            <a:off x="684360" y="2160720"/>
            <a:ext cx="43624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AXIS-Handbuc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 Qualitätssicherung in der Zahnarztpraxis &gt;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2.15 Leitfaden "Hygiene und Medizinprodukte-Aufbereitu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formationen auf der LZK-Webse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uppieren 2"/>
          <p:cNvGrpSpPr/>
          <p:nvPr/>
        </p:nvGrpSpPr>
        <p:grpSpPr>
          <a:xfrm>
            <a:off x="655560" y="1689120"/>
            <a:ext cx="8388360" cy="4967280"/>
            <a:chOff x="655560" y="1689120"/>
            <a:chExt cx="8388360" cy="4967280"/>
          </a:xfrm>
        </p:grpSpPr>
        <p:pic>
          <p:nvPicPr>
            <p:cNvPr id="213" name="Rechteck 3" descr=""/>
            <p:cNvPicPr/>
            <p:nvPr/>
          </p:nvPicPr>
          <p:blipFill>
            <a:blip r:embed="rId1"/>
            <a:stretch/>
          </p:blipFill>
          <p:spPr>
            <a:xfrm>
              <a:off x="1115640" y="1689120"/>
              <a:ext cx="7473240" cy="7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4" name="Gruppieren 4"/>
            <p:cNvGrpSpPr/>
            <p:nvPr/>
          </p:nvGrpSpPr>
          <p:grpSpPr>
            <a:xfrm>
              <a:off x="655560" y="2516040"/>
              <a:ext cx="8388360" cy="4140360"/>
              <a:chOff x="655560" y="2516040"/>
              <a:chExt cx="8388360" cy="4140360"/>
            </a:xfrm>
          </p:grpSpPr>
          <p:pic>
            <p:nvPicPr>
              <p:cNvPr id="215" name="Grafik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130800" y="2516040"/>
                <a:ext cx="2913120" cy="41403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grpSp>
            <p:nvGrpSpPr>
              <p:cNvPr id="216" name="Gruppieren 6"/>
              <p:cNvGrpSpPr/>
              <p:nvPr/>
            </p:nvGrpSpPr>
            <p:grpSpPr>
              <a:xfrm>
                <a:off x="655560" y="3250440"/>
                <a:ext cx="5399640" cy="2441160"/>
                <a:chOff x="655560" y="3250440"/>
                <a:chExt cx="5399640" cy="2441160"/>
              </a:xfrm>
            </p:grpSpPr>
            <p:pic>
              <p:nvPicPr>
                <p:cNvPr id="217" name="Grafik 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55560" y="3250440"/>
                  <a:ext cx="5399640" cy="4586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pic>
              <p:nvPicPr>
                <p:cNvPr id="218" name="Grafik 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5560" y="3701880"/>
                  <a:ext cx="5399640" cy="198972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</p:grpSp>
        </p:grpSp>
      </p:grp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684360" y="1127160"/>
            <a:ext cx="8459640" cy="1008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Biostoffe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bearbeiten Sie mit der Checkliste und der Gefährdungsbeurteilung (Dokumentation und Aktualisier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826920" y="2259000"/>
            <a:ext cx="3024360" cy="4392720"/>
            <a:chOff x="826920" y="2259000"/>
            <a:chExt cx="3024360" cy="4392720"/>
          </a:xfrm>
        </p:grpSpPr>
        <p:pic>
          <p:nvPicPr>
            <p:cNvPr id="221" name="Picture 4" descr=""/>
            <p:cNvPicPr/>
            <p:nvPr/>
          </p:nvPicPr>
          <p:blipFill>
            <a:blip r:embed="rId1"/>
            <a:stretch/>
          </p:blipFill>
          <p:spPr>
            <a:xfrm>
              <a:off x="900000" y="2333880"/>
              <a:ext cx="2940120" cy="43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Rectangle 5"/>
            <p:cNvSpPr/>
            <p:nvPr/>
          </p:nvSpPr>
          <p:spPr>
            <a:xfrm>
              <a:off x="826920" y="2259000"/>
              <a:ext cx="3024360" cy="4392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Picture 7" descr=""/>
          <p:cNvPicPr/>
          <p:nvPr/>
        </p:nvPicPr>
        <p:blipFill>
          <a:blip r:embed="rId2"/>
          <a:stretch/>
        </p:blipFill>
        <p:spPr>
          <a:xfrm>
            <a:off x="4106880" y="3970440"/>
            <a:ext cx="4519440" cy="26701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8"/>
          <p:cNvSpPr/>
          <p:nvPr/>
        </p:nvSpPr>
        <p:spPr>
          <a:xfrm>
            <a:off x="4086360" y="3914640"/>
            <a:ext cx="4606920" cy="2735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3" descr=""/>
          <p:cNvPicPr/>
          <p:nvPr/>
        </p:nvPicPr>
        <p:blipFill>
          <a:blip r:embed="rId3"/>
          <a:stretch/>
        </p:blipFill>
        <p:spPr>
          <a:xfrm>
            <a:off x="4084560" y="2179800"/>
            <a:ext cx="4264200" cy="165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6" name="Rechteck 2"/>
          <p:cNvSpPr/>
          <p:nvPr/>
        </p:nvSpPr>
        <p:spPr>
          <a:xfrm>
            <a:off x="4084560" y="337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70352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8288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84360" y="1978200"/>
            <a:ext cx="8459640" cy="32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Risikogrup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Tätigkei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tragungsw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- Betriebsan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ektionspräventive Maßnahmen am Patienten und des  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Behandlungs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440320" y="627840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Quelle: BG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uppieren 1"/>
          <p:cNvGrpSpPr/>
          <p:nvPr/>
        </p:nvGrpSpPr>
        <p:grpSpPr>
          <a:xfrm>
            <a:off x="1100160" y="1800360"/>
            <a:ext cx="5040360" cy="2528640"/>
            <a:chOff x="1100160" y="1800360"/>
            <a:chExt cx="5040360" cy="2528640"/>
          </a:xfrm>
        </p:grpSpPr>
        <p:pic>
          <p:nvPicPr>
            <p:cNvPr id="144" name="Picture 2" descr="LIA.nrw - Biostoffe"/>
            <p:cNvPicPr/>
            <p:nvPr/>
          </p:nvPicPr>
          <p:blipFill>
            <a:blip r:embed="rId1"/>
            <a:stretch/>
          </p:blipFill>
          <p:spPr>
            <a:xfrm>
              <a:off x="1100160" y="1800360"/>
              <a:ext cx="5040360" cy="2528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5" name="Grafik 3" descr=""/>
            <p:cNvPicPr/>
            <p:nvPr/>
          </p:nvPicPr>
          <p:blipFill>
            <a:blip r:embed="rId2"/>
            <a:srcRect l="73190" t="90031" r="0" b="1776"/>
            <a:stretch/>
          </p:blipFill>
          <p:spPr>
            <a:xfrm>
              <a:off x="4699080" y="4088880"/>
              <a:ext cx="131616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9"/>
          <p:cNvGrpSpPr/>
          <p:nvPr/>
        </p:nvGrpSpPr>
        <p:grpSpPr>
          <a:xfrm>
            <a:off x="3511440" y="4535640"/>
            <a:ext cx="5038560" cy="1942560"/>
            <a:chOff x="3511440" y="4535640"/>
            <a:chExt cx="5038560" cy="1942560"/>
          </a:xfrm>
        </p:grpSpPr>
        <p:pic>
          <p:nvPicPr>
            <p:cNvPr id="147" name="Picture 12" descr=""/>
            <p:cNvPicPr/>
            <p:nvPr/>
          </p:nvPicPr>
          <p:blipFill>
            <a:blip r:embed="rId3"/>
            <a:stretch/>
          </p:blipFill>
          <p:spPr>
            <a:xfrm>
              <a:off x="6176880" y="5507280"/>
              <a:ext cx="2370960" cy="970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8" name="Picture 10" descr="Healozone/Mund"/>
            <p:cNvPicPr/>
            <p:nvPr/>
          </p:nvPicPr>
          <p:blipFill>
            <a:blip r:embed="rId4"/>
            <a:stretch/>
          </p:blipFill>
          <p:spPr>
            <a:xfrm>
              <a:off x="6198120" y="4535640"/>
              <a:ext cx="2351880" cy="971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49" name="Picture 11" descr=""/>
            <p:cNvPicPr/>
            <p:nvPr/>
          </p:nvPicPr>
          <p:blipFill>
            <a:blip r:embed="rId5"/>
            <a:stretch/>
          </p:blipFill>
          <p:spPr>
            <a:xfrm>
              <a:off x="3511440" y="4535640"/>
              <a:ext cx="2678040" cy="1942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150" name="Picture 4" descr="Warnschild Warnung vor Biogefährdung, ASR/ISO, Folie | kroschke.com"/>
          <p:cNvPicPr/>
          <p:nvPr/>
        </p:nvPicPr>
        <p:blipFill>
          <a:blip r:embed="rId6"/>
          <a:stretch/>
        </p:blipFill>
        <p:spPr>
          <a:xfrm>
            <a:off x="1273320" y="4857840"/>
            <a:ext cx="1800000" cy="1620720"/>
          </a:xfrm>
          <a:prstGeom prst="rect">
            <a:avLst/>
          </a:prstGeom>
          <a:ln w="0">
            <a:noFill/>
          </a:ln>
        </p:spPr>
      </p:pic>
      <p:pic>
        <p:nvPicPr>
          <p:cNvPr id="151" name="Grafik 1" descr="Biologische_Arbeitsstoffe.doc [Kompatibilitätsmodus] - Microsoft Word"/>
          <p:cNvPicPr/>
          <p:nvPr/>
        </p:nvPicPr>
        <p:blipFill>
          <a:blip r:embed="rId7"/>
          <a:srcRect l="15283" t="6757" r="51890" b="3279"/>
          <a:stretch/>
        </p:blipFill>
        <p:spPr>
          <a:xfrm>
            <a:off x="6521400" y="1449360"/>
            <a:ext cx="1938240" cy="28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Grafik 6" descr=""/>
          <p:cNvPicPr/>
          <p:nvPr/>
        </p:nvPicPr>
        <p:blipFill>
          <a:blip r:embed="rId8"/>
          <a:stretch/>
        </p:blipFill>
        <p:spPr>
          <a:xfrm>
            <a:off x="8528040" y="3790800"/>
            <a:ext cx="541440" cy="5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684360" y="179856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verordnung (BioStoff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67200" y="2351160"/>
            <a:ext cx="5003640" cy="29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gruppen für 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zielte und nicht geziel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Tätigk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efährdungsbeurtei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Schutzmaßna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weis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rbeitsmedizinische Vors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Grafik 1" descr="BioStoffV.pdf - Adobe Reader"/>
          <p:cNvPicPr/>
          <p:nvPr/>
        </p:nvPicPr>
        <p:blipFill>
          <a:blip r:embed="rId1"/>
          <a:srcRect l="33959" t="8943" r="32292" b="2258"/>
          <a:stretch/>
        </p:blipFill>
        <p:spPr>
          <a:xfrm>
            <a:off x="795240" y="2205000"/>
            <a:ext cx="3009960" cy="43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Biostoffe -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84360" y="1978200"/>
            <a:ext cx="845964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ikroorganismen, Zellkulturen und Endoparasiten, die bei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nschen Infektionen oder sensibilisierende bzw. toxisc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 Wirkungen hervorrufen 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ögliche Infektionserreger in der Zahnheilku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Bakter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il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Vi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Einzeller / Paras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- Pr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iostoffe werden entsprechend dem von ihnen ausgehende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  Infektionsrisiko in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  <a:ea typeface="Arial"/>
              </a:rPr>
              <a:t>4 Risikogrupp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eingetei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Risikogrup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4360" y="1978200"/>
            <a:ext cx="845964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urch Blut übertragbare Erreger in der Zahnheilkund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B-Viren (HB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**: Keine Luftweg-Übertragung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epatitis-C-Viren (HCV)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HIV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direkten oder indirekte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takt übertragene 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Herpes-simplex-Vir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br>
              <a:rPr sz="1800"/>
            </a:b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- Staphylokokken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Überwiegend durch Tröpfchen übertragen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reger wie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- 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Mycobakterium tuberculosis </a:t>
            </a:r>
            <a:r>
              <a:rPr b="1" lang="de-DE" sz="18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1800" spc="-1" strike="noStrike">
                <a:solidFill>
                  <a:srgbClr val="0070c0"/>
                </a:solidFill>
                <a:latin typeface="Arial"/>
              </a:rPr>
              <a:t> R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afik 1" descr="Schutzmassnahmen_MRSA-Patienten.pdf - Adobe Acrobat Reader DC"/>
          <p:cNvPicPr/>
          <p:nvPr/>
        </p:nvPicPr>
        <p:blipFill>
          <a:blip r:embed="rId1"/>
          <a:srcRect l="25567" t="12475" r="41605" b="1657"/>
          <a:stretch/>
        </p:blipFill>
        <p:spPr>
          <a:xfrm>
            <a:off x="6391440" y="2768760"/>
            <a:ext cx="2700000" cy="38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Grafik 6" descr=""/>
          <p:cNvPicPr/>
          <p:nvPr/>
        </p:nvPicPr>
        <p:blipFill>
          <a:blip r:embed="rId2"/>
          <a:stretch/>
        </p:blipFill>
        <p:spPr>
          <a:xfrm>
            <a:off x="5400720" y="5721480"/>
            <a:ext cx="898560" cy="898560"/>
          </a:xfrm>
          <a:prstGeom prst="rect">
            <a:avLst/>
          </a:prstGeom>
          <a:ln w="0">
            <a:noFill/>
          </a:ln>
        </p:spPr>
      </p:pic>
      <p:pic>
        <p:nvPicPr>
          <p:cNvPr id="163" name="Rechteck 4" descr=""/>
          <p:cNvPicPr/>
          <p:nvPr/>
        </p:nvPicPr>
        <p:blipFill>
          <a:blip r:embed="rId3"/>
          <a:stretch/>
        </p:blipFill>
        <p:spPr>
          <a:xfrm>
            <a:off x="5400720" y="3962520"/>
            <a:ext cx="3597120" cy="70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iostoffe - Tätigke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84360" y="1978200"/>
            <a:ext cx="845964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Tätigkeiten in einer Zahnarztpraxis sind grundsätzlich als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nicht gezielte Tätigkeiten der Risikogruppe 2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gestu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erzu gehört auch die Behandlung von HIV- oder HBV-infiziert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tienten. Es sei denn, es wird mit starkem Verspritzen gerech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us der Risikogruppe leitet sich die 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Schutzstufe mit den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entsprechenden Schutzmaßnahme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Labor"/>
          <p:cNvPicPr/>
          <p:nvPr/>
        </p:nvPicPr>
        <p:blipFill>
          <a:blip r:embed="rId1"/>
          <a:stretch/>
        </p:blipFill>
        <p:spPr>
          <a:xfrm>
            <a:off x="6500880" y="4579920"/>
            <a:ext cx="2122560" cy="156672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sp>
        <p:nvSpPr>
          <p:cNvPr id="167" name="Text Box 6"/>
          <p:cNvSpPr/>
          <p:nvPr/>
        </p:nvSpPr>
        <p:spPr>
          <a:xfrm>
            <a:off x="6173640" y="6164280"/>
            <a:ext cx="27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zielte Tät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154560" y="4157640"/>
            <a:ext cx="29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70c0"/>
                </a:solidFill>
                <a:latin typeface="Arial"/>
              </a:rPr>
              <a:t>Krankenhausla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1332000" y="4102200"/>
            <a:ext cx="3355920" cy="2568960"/>
            <a:chOff x="1332000" y="4102200"/>
            <a:chExt cx="3355920" cy="2568960"/>
          </a:xfrm>
        </p:grpSpPr>
        <p:sp>
          <p:nvSpPr>
            <p:cNvPr id="170" name="Text Box 13"/>
            <p:cNvSpPr/>
            <p:nvPr/>
          </p:nvSpPr>
          <p:spPr>
            <a:xfrm>
              <a:off x="1332000" y="6272280"/>
              <a:ext cx="3355920" cy="3988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Arial"/>
                </a:rPr>
                <a:t>Nicht gezielte Tätigkei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1908000" y="410220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270000"/>
                  <a:tab algn="l" pos="539640"/>
                  <a:tab algn="l" pos="809640"/>
                  <a:tab algn="l" pos="1079640"/>
                  <a:tab algn="l" pos="1349280"/>
                  <a:tab algn="l" pos="1619280"/>
                  <a:tab algn="l" pos="1889280"/>
                  <a:tab algn="l" pos="2158920"/>
                  <a:tab algn="l" pos="2428920"/>
                  <a:tab algn="l" pos="2698920"/>
                  <a:tab algn="l" pos="2968560"/>
                  <a:tab algn="l" pos="3238560"/>
                  <a:tab algn="l" pos="3508200"/>
                  <a:tab algn="l" pos="3778200"/>
                  <a:tab algn="l" pos="4048200"/>
                  <a:tab algn="l" pos="4317840"/>
                  <a:tab algn="l" pos="4587840"/>
                  <a:tab algn="l" pos="4857840"/>
                  <a:tab algn="l" pos="5127480"/>
                  <a:tab algn="l" pos="5397480"/>
                  <a:tab algn="l" pos="5667480"/>
                </a:tabLst>
              </a:pPr>
              <a:r>
                <a:rPr b="1" lang="de-DE" sz="2000" spc="-1" strike="noStrike">
                  <a:solidFill>
                    <a:srgbClr val="0070c0"/>
                  </a:solidFill>
                  <a:latin typeface="Arial"/>
                </a:rPr>
                <a:t>Zahnarztprax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5"/>
          <p:cNvSpPr/>
          <p:nvPr/>
        </p:nvSpPr>
        <p:spPr>
          <a:xfrm>
            <a:off x="826920" y="4105440"/>
            <a:ext cx="4392720" cy="2665080"/>
          </a:xfrm>
          <a:prstGeom prst="rect">
            <a:avLst/>
          </a:prstGeom>
          <a:noFill/>
          <a:ln w="63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5357880" y="5091120"/>
            <a:ext cx="1008000" cy="539640"/>
          </a:xfrm>
          <a:prstGeom prst="leftRightArrow">
            <a:avLst>
              <a:gd name="adj1" fmla="val 50000"/>
              <a:gd name="adj2" fmla="val 40073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"/>
          <p:cNvPicPr/>
          <p:nvPr/>
        </p:nvPicPr>
        <p:blipFill>
          <a:blip r:embed="rId2"/>
          <a:stretch/>
        </p:blipFill>
        <p:spPr>
          <a:xfrm>
            <a:off x="3139920" y="5361120"/>
            <a:ext cx="1944720" cy="80964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5" name="Picture 10" descr="Healozone/Mund"/>
          <p:cNvPicPr/>
          <p:nvPr/>
        </p:nvPicPr>
        <p:blipFill>
          <a:blip r:embed="rId3"/>
          <a:stretch/>
        </p:blipFill>
        <p:spPr>
          <a:xfrm>
            <a:off x="3157560" y="4551480"/>
            <a:ext cx="1928880" cy="80964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6" name="Picture 11" descr=""/>
          <p:cNvPicPr/>
          <p:nvPr/>
        </p:nvPicPr>
        <p:blipFill>
          <a:blip r:embed="rId4"/>
          <a:stretch/>
        </p:blipFill>
        <p:spPr>
          <a:xfrm>
            <a:off x="955800" y="4551480"/>
            <a:ext cx="2195280" cy="1619280"/>
          </a:xfrm>
          <a:prstGeom prst="rect">
            <a:avLst/>
          </a:prstGeom>
          <a:ln w="9360">
            <a:solidFill>
              <a:srgbClr val="bfbfbf"/>
            </a:solidFill>
            <a:miter/>
          </a:ln>
        </p:spPr>
      </p:pic>
      <p:pic>
        <p:nvPicPr>
          <p:cNvPr id="177" name="Grafik 1" descr=""/>
          <p:cNvPicPr/>
          <p:nvPr/>
        </p:nvPicPr>
        <p:blipFill>
          <a:blip r:embed="rId5"/>
          <a:stretch/>
        </p:blipFill>
        <p:spPr>
          <a:xfrm>
            <a:off x="5743440" y="674640"/>
            <a:ext cx="2880000" cy="128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10:01:48Z</dcterms:modified>
  <cp:revision>13</cp:revision>
  <dc:subject/>
  <dc:title/>
</cp:coreProperties>
</file>