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3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-252360" y="2565360"/>
            <a:ext cx="8064360" cy="3240000"/>
          </a:xfrm>
          <a:prstGeom prst="rect">
            <a:avLst/>
          </a:prstGeom>
          <a:noFill/>
          <a:ln w="15840">
            <a:solidFill>
              <a:srgbClr val="fe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468360" y="1303200"/>
            <a:ext cx="539640" cy="5581800"/>
          </a:xfrm>
          <a:prstGeom prst="rect">
            <a:avLst/>
          </a:prstGeom>
          <a:gradFill rotWithShape="0">
            <a:gsLst>
              <a:gs pos="0">
                <a:srgbClr val="003b79"/>
              </a:gs>
              <a:gs pos="100000">
                <a:srgbClr val="fe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250920" y="620640"/>
            <a:ext cx="3816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1403280" y="4869000"/>
            <a:ext cx="40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468360" y="0"/>
            <a:ext cx="539640" cy="568440"/>
          </a:xfrm>
          <a:prstGeom prst="rect">
            <a:avLst/>
          </a:prstGeom>
          <a:solidFill>
            <a:srgbClr val="003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1403280" y="2924280"/>
            <a:ext cx="604836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5" descr="Kammer-Ihr-Partner-blau"/>
          <p:cNvPicPr/>
          <p:nvPr/>
        </p:nvPicPr>
        <p:blipFill>
          <a:blip r:embed="rId2"/>
          <a:stretch/>
        </p:blipFill>
        <p:spPr>
          <a:xfrm>
            <a:off x="7297560" y="604800"/>
            <a:ext cx="1656000" cy="405000"/>
          </a:xfrm>
          <a:prstGeom prst="rect">
            <a:avLst/>
          </a:prstGeom>
          <a:ln w="0">
            <a:noFill/>
          </a:ln>
        </p:spPr>
      </p:pic>
      <p:pic>
        <p:nvPicPr>
          <p:cNvPr id="47" name="Grafik 10" descr=""/>
          <p:cNvPicPr/>
          <p:nvPr/>
        </p:nvPicPr>
        <p:blipFill>
          <a:blip r:embed="rId3"/>
          <a:stretch/>
        </p:blipFill>
        <p:spPr>
          <a:xfrm>
            <a:off x="360360" y="601560"/>
            <a:ext cx="336564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68360" y="836640"/>
            <a:ext cx="108000" cy="6067440"/>
          </a:xfrm>
          <a:prstGeom prst="rect">
            <a:avLst/>
          </a:prstGeom>
          <a:gradFill rotWithShape="0">
            <a:gsLst>
              <a:gs pos="0">
                <a:srgbClr val="fecc00"/>
              </a:gs>
              <a:gs pos="100000">
                <a:srgbClr val="003b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042920" y="1341360"/>
            <a:ext cx="756144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Kammer-Ihr-Partner-blau"/>
          <p:cNvPicPr/>
          <p:nvPr/>
        </p:nvPicPr>
        <p:blipFill>
          <a:blip r:embed="rId2"/>
          <a:stretch/>
        </p:blipFill>
        <p:spPr>
          <a:xfrm>
            <a:off x="7440480" y="204840"/>
            <a:ext cx="1656000" cy="40464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"/>
          <p:cNvPicPr/>
          <p:nvPr/>
        </p:nvPicPr>
        <p:blipFill>
          <a:blip r:embed="rId3"/>
          <a:stretch/>
        </p:blipFill>
        <p:spPr>
          <a:xfrm>
            <a:off x="468360" y="190440"/>
            <a:ext cx="677880" cy="579600"/>
          </a:xfrm>
          <a:prstGeom prst="rect">
            <a:avLst/>
          </a:prstGeom>
          <a:ln w="0">
            <a:noFill/>
          </a:ln>
        </p:spPr>
      </p:pic>
      <p:sp>
        <p:nvSpPr>
          <p:cNvPr id="88" name="Rechteck 1"/>
          <p:cNvSpPr/>
          <p:nvPr/>
        </p:nvSpPr>
        <p:spPr>
          <a:xfrm>
            <a:off x="8537040" y="66135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35500C-D83B-4A16-9C18-3CBA8859600A}" type="slidenum">
              <a:rPr b="0" lang="de-DE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5"/>
          <p:cNvSpPr/>
          <p:nvPr/>
        </p:nvSpPr>
        <p:spPr>
          <a:xfrm>
            <a:off x="1800360" y="2952720"/>
            <a:ext cx="5022720" cy="13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mod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rbeitsschutz &amp; Unfallverhü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Grafik 4" descr=""/>
          <p:cNvPicPr/>
          <p:nvPr/>
        </p:nvPicPr>
        <p:blipFill>
          <a:blip r:embed="rId1"/>
          <a:stretch/>
        </p:blipFill>
        <p:spPr>
          <a:xfrm>
            <a:off x="4643280" y="1619280"/>
            <a:ext cx="4380120" cy="32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8" name="Grafik 1" descr="Unterweisungserklaerung [Kompatibilitätsmodus] - Microsoft Word"/>
          <p:cNvPicPr/>
          <p:nvPr/>
        </p:nvPicPr>
        <p:blipFill>
          <a:blip r:embed="rId2"/>
          <a:srcRect l="8303" t="4842" r="59528" b="3725"/>
          <a:stretch/>
        </p:blipFill>
        <p:spPr>
          <a:xfrm>
            <a:off x="809640" y="1535040"/>
            <a:ext cx="342108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9" name="Rectangle 4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Dok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809640" y="4894200"/>
            <a:ext cx="3419640" cy="112716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633920" y="5021280"/>
            <a:ext cx="440208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Unterweisungsmodule: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ateien im *.pdf und *.ppt-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Grafik 11" descr=""/>
          <p:cNvPicPr/>
          <p:nvPr/>
        </p:nvPicPr>
        <p:blipFill>
          <a:blip r:embed="rId3"/>
          <a:stretch/>
        </p:blipFill>
        <p:spPr>
          <a:xfrm>
            <a:off x="8408880" y="585000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684360" y="971640"/>
            <a:ext cx="845964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Personenbezogene Festleg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092480" y="3265200"/>
            <a:ext cx="1295640" cy="1531800"/>
          </a:xfrm>
          <a:prstGeom prst="line">
            <a:avLst/>
          </a:prstGeom>
          <a:ln w="633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Grafik 1" descr="Unterweisungserklaerung [Kompatibilitätsmodus] - Microsoft Word"/>
          <p:cNvPicPr/>
          <p:nvPr/>
        </p:nvPicPr>
        <p:blipFill>
          <a:blip r:embed="rId1"/>
          <a:srcRect l="14433" t="19128" r="13869" b="4008"/>
          <a:stretch/>
        </p:blipFill>
        <p:spPr>
          <a:xfrm>
            <a:off x="973080" y="2224080"/>
            <a:ext cx="719784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Grafik 11" descr=""/>
          <p:cNvPicPr/>
          <p:nvPr/>
        </p:nvPicPr>
        <p:blipFill>
          <a:blip r:embed="rId2"/>
          <a:stretch/>
        </p:blipFill>
        <p:spPr>
          <a:xfrm>
            <a:off x="8427960" y="5807160"/>
            <a:ext cx="627120" cy="6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3"/>
          <p:cNvSpPr/>
          <p:nvPr/>
        </p:nvSpPr>
        <p:spPr>
          <a:xfrm>
            <a:off x="684360" y="1127160"/>
            <a:ext cx="8459640" cy="703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chtung: Bitte nicht vergessen, für das Thema </a:t>
            </a:r>
            <a:r>
              <a:rPr b="1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„Unterweisungen“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in der Zahnarztpraxis steht die folgende Checkliste zur Verfüg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4729320" y="3073320"/>
            <a:ext cx="4379760" cy="3570480"/>
            <a:chOff x="4729320" y="3073320"/>
            <a:chExt cx="4379760" cy="3570480"/>
          </a:xfrm>
        </p:grpSpPr>
        <p:pic>
          <p:nvPicPr>
            <p:cNvPr id="190" name="Picture 2" descr=""/>
            <p:cNvPicPr/>
            <p:nvPr/>
          </p:nvPicPr>
          <p:blipFill>
            <a:blip r:embed="rId1"/>
            <a:stretch/>
          </p:blipFill>
          <p:spPr>
            <a:xfrm>
              <a:off x="4754520" y="3130200"/>
              <a:ext cx="4354200" cy="345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Rectangle 4"/>
            <p:cNvSpPr/>
            <p:nvPr/>
          </p:nvSpPr>
          <p:spPr>
            <a:xfrm>
              <a:off x="4729320" y="3073320"/>
              <a:ext cx="4379760" cy="3570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13" descr=""/>
          <p:cNvPicPr/>
          <p:nvPr/>
        </p:nvPicPr>
        <p:blipFill>
          <a:blip r:embed="rId2"/>
          <a:stretch/>
        </p:blipFill>
        <p:spPr>
          <a:xfrm>
            <a:off x="685800" y="1924200"/>
            <a:ext cx="4211640" cy="1636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3" name="Rechteck 9"/>
          <p:cNvSpPr/>
          <p:nvPr/>
        </p:nvSpPr>
        <p:spPr>
          <a:xfrm>
            <a:off x="684360" y="3105000"/>
            <a:ext cx="2092320" cy="468360"/>
          </a:xfrm>
          <a:prstGeom prst="rect">
            <a:avLst/>
          </a:prstGeom>
          <a:noFill/>
          <a:ln w="316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84360" y="2158920"/>
            <a:ext cx="8459640" cy="32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einer Praxis haben alle der Arbeitssicherhei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nenden Maßnahmen zu unterstützen und sind verpflichtet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der Praxisinhaberin/des Praxisinhabers zum Zweck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Unfallverhütung zu befolgen, es sei denn, es handelt sich um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, die offensichtlich unbegründet si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zur Verfügung gestellte persönliche Schutzausrüstung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st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haben Einrichtungen, Arbeitsmittel und Arbeitsstoff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ie Schutzvorrichtungen bestimmungsgemäß und im Rahm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r ihnen übertragenen Arbeitsaufgaben zu benut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684360" y="2158920"/>
            <a:ext cx="8459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Beschäftigten haben der Praxisinhaberin/dem Praxisinhaber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ede von ihnen festgestellte unmittelbare erhebliche Gefahr für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icherheit und Gesundheit sowie jeden an den Schutzvor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ichtungen und Schutzsystemen festgestellten Defek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verzüglich zu 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Versicherten haben die Maßnahmen zur Verhütung vo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sowie für eine wirksame Erste Hilfe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stützen. Versicherte haben die entsprechen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nweisungen des Unternehmers zu befolgen. Die Versicher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ürfen erkennbar gegen Sicherheit und Gesundheit gerichtet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eisungen nicht befol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684360" y="2158920"/>
            <a:ext cx="845964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icherte dürfen sich durch den Konsum von Alkohol, Drog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der anderen berauschenden Mitteln (inkl. Medikamente) nicht 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n Zusta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ersetzen, durch den sie sich selbst oder ander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önn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Verhalten bei Arbeitsunfällen und Notfallsituationen ist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ulen und die Erste-Hilfe-Organisation in der Praxis ist d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ten bekannt zu mac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n Beschäftigten ist die Bedeutung von Sicherheits- un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schutzkennzeichnung in der Praxis zu erläu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684360" y="2158920"/>
            <a:ext cx="8459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tellt ein Beschäftigter fest, dass im Hinblick auf die Verhütung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on Arbeitsunfällen, Berufskrankheiten und arbeitsbedingt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sundheitsgefahren ein Arbeitsmittel oder eine sonstig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richtung einen Mangel aufweist, Arbeitsstoffe nicht einwand-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rei verpackt, gekennzeichnet oder beschaffen sind oder ei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verfahren oder Arbeitsabläufe Mängel aufweisen hat er,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weit dies zu seiner Arbeitsaufgabe gehört und er über di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otwendige Befähigung verfügt, den festgestellten Mangel ohne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fährdungspotenzial unverzüglich zu beseitigen. Andernfalls ha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 den Mangel dem Praxisinhaber unverzüglich zu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l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684360" y="971640"/>
            <a:ext cx="84596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Grundsätze des Arbeitsschutzes und der Unfallverhüt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84360" y="215892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in den einzelnen Unfallverhütungsvorschriften enthalten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ßnahmen sind zu beachten und einzuhal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46200" y="3238560"/>
            <a:ext cx="8459640" cy="1313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Die Unfallverhütungsvorschriften sind im Kapitel „1.6 Unfall-verhütungsvorschriften und Technische Regeln“ über die Schaltfläche „1. Gesetze und Rechtliche Grundlagen“ im </a:t>
            </a:r>
            <a:br>
              <a:rPr sz="2000"/>
            </a:b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AXIS-Handbuch in ihrem Wortlaut nachzule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Grafik 1" descr="Landeszahnärztekammer BW: Startseite - Internet Explorer"/>
          <p:cNvPicPr/>
          <p:nvPr/>
        </p:nvPicPr>
        <p:blipFill>
          <a:blip r:embed="rId1"/>
          <a:srcRect l="30730" t="13714" r="15313" b="21737"/>
          <a:stretch/>
        </p:blipFill>
        <p:spPr>
          <a:xfrm>
            <a:off x="3681360" y="2997360"/>
            <a:ext cx="5327640" cy="34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 Box 5"/>
          <p:cNvSpPr/>
          <p:nvPr/>
        </p:nvSpPr>
        <p:spPr>
          <a:xfrm>
            <a:off x="684360" y="197964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268200"/>
                <a:tab algn="l" pos="447840"/>
                <a:tab algn="l" pos="527040"/>
                <a:tab algn="l" pos="790560"/>
                <a:tab algn="l" pos="1054080"/>
                <a:tab algn="l" pos="1317600"/>
                <a:tab algn="l" pos="1581120"/>
                <a:tab algn="l" pos="1844640"/>
                <a:tab algn="l" pos="2108160"/>
                <a:tab algn="l" pos="2371680"/>
                <a:tab algn="l" pos="2635200"/>
                <a:tab algn="l" pos="2898720"/>
                <a:tab algn="l" pos="3162240"/>
                <a:tab algn="l" pos="3425760"/>
                <a:tab algn="l" pos="3689280"/>
                <a:tab algn="l" pos="3952800"/>
                <a:tab algn="l" pos="4216320"/>
                <a:tab algn="l" pos="4479840"/>
                <a:tab algn="l" pos="4743360"/>
                <a:tab algn="l" pos="5006880"/>
                <a:tab algn="l" pos="5270400"/>
                <a:tab algn="l" pos="5533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ktuelle Online-Variante über die Homepage der LZK BW unter 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https://lzk-bw.de/ </a:t>
            </a:r>
            <a:r>
              <a:rPr b="1" lang="de-DE" sz="2400" spc="-1" strike="noStrike">
                <a:solidFill>
                  <a:srgbClr val="0070c0"/>
                </a:solidFill>
                <a:latin typeface="Wingdings"/>
                <a:ea typeface="Wingdings"/>
              </a:rPr>
              <a:t></a:t>
            </a:r>
            <a:r>
              <a:rPr b="1" lang="de-DE" sz="2400" spc="-1" strike="noStrike">
                <a:solidFill>
                  <a:srgbClr val="0070c0"/>
                </a:solidFill>
                <a:latin typeface="Arial"/>
                <a:ea typeface="Arial"/>
              </a:rPr>
              <a:t> PRAXIS-Handb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hteck 3"/>
          <p:cNvSpPr/>
          <p:nvPr/>
        </p:nvSpPr>
        <p:spPr>
          <a:xfrm>
            <a:off x="3686040" y="5281560"/>
            <a:ext cx="2524320" cy="1203480"/>
          </a:xfrm>
          <a:prstGeom prst="rect">
            <a:avLst/>
          </a:prstGeom>
          <a:noFill/>
          <a:ln w="507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82560" y="97164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20720" y="654840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© LZK BW 03/20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Grafik 2" descr=""/>
          <p:cNvPicPr/>
          <p:nvPr/>
        </p:nvPicPr>
        <p:blipFill>
          <a:blip r:embed="rId2"/>
          <a:stretch/>
        </p:blipFill>
        <p:spPr>
          <a:xfrm>
            <a:off x="720720" y="2997360"/>
            <a:ext cx="1136520" cy="11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5"/>
          <p:cNvSpPr/>
          <p:nvPr/>
        </p:nvSpPr>
        <p:spPr>
          <a:xfrm>
            <a:off x="684360" y="971640"/>
            <a:ext cx="84596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Online-PRAXIS-Handbuch der LZK B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68320" y="1684440"/>
            <a:ext cx="5921640" cy="47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Rectangle 5"/>
          <p:cNvSpPr/>
          <p:nvPr/>
        </p:nvSpPr>
        <p:spPr>
          <a:xfrm>
            <a:off x="1768320" y="3592440"/>
            <a:ext cx="5921640" cy="285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648480" y="2874960"/>
            <a:ext cx="1041480" cy="24444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afik 10" descr=""/>
          <p:cNvPicPr/>
          <p:nvPr/>
        </p:nvPicPr>
        <p:blipFill>
          <a:blip r:embed="rId2"/>
          <a:stretch/>
        </p:blipFill>
        <p:spPr>
          <a:xfrm>
            <a:off x="7929720" y="5398920"/>
            <a:ext cx="900000" cy="9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sinhalte - Beispi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4360" y="1978200"/>
            <a:ext cx="84596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Inha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Dok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terweisung - Personenbezogene Festleg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sätze des Arbeitsschutzes und der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rbeitsschutz und Unfallverhüt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"/>
          <p:cNvPicPr/>
          <p:nvPr/>
        </p:nvPicPr>
        <p:blipFill>
          <a:blip r:embed="rId1"/>
          <a:stretch/>
        </p:blipFill>
        <p:spPr>
          <a:xfrm>
            <a:off x="1981080" y="1897200"/>
            <a:ext cx="5399280" cy="491652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3" descr=""/>
          <p:cNvPicPr/>
          <p:nvPr/>
        </p:nvPicPr>
        <p:blipFill>
          <a:blip r:embed="rId2"/>
          <a:srcRect l="5221" t="5582" r="288" b="0"/>
          <a:stretch/>
        </p:blipFill>
        <p:spPr>
          <a:xfrm>
            <a:off x="4370400" y="5261040"/>
            <a:ext cx="3774960" cy="145404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chtliche Gru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684360" y="1798560"/>
            <a:ext cx="84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gesetz (ArbSchG) und Unfallverhütungsvorschrift DGUV V1 „Grundsätze der Präven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600360" y="2692440"/>
            <a:ext cx="50040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s Unterneh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rundpflichten der Versicher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rganisation des betrieblichen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Grafik 1" descr="https://www.bgw-online.de/SharedDocs/Downloads/DE/Medientypen/DGUV_vorschrift-regel/DGUV-Vorsch - Internet Explorer"/>
          <p:cNvPicPr/>
          <p:nvPr/>
        </p:nvPicPr>
        <p:blipFill>
          <a:blip r:embed="rId1"/>
          <a:srcRect l="50002" t="15052" r="18124" b="2638"/>
          <a:stretch/>
        </p:blipFill>
        <p:spPr>
          <a:xfrm>
            <a:off x="789120" y="2549520"/>
            <a:ext cx="281124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der Mitarbeiter*in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3060720" y="2540160"/>
            <a:ext cx="3598920" cy="234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6819840" y="1511280"/>
            <a:ext cx="2158920" cy="20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6" descr="und noch mal Hände"/>
          <p:cNvPicPr/>
          <p:nvPr/>
        </p:nvPicPr>
        <p:blipFill>
          <a:blip r:embed="rId3"/>
          <a:stretch/>
        </p:blipFill>
        <p:spPr>
          <a:xfrm>
            <a:off x="716040" y="4017960"/>
            <a:ext cx="215892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Grafik 3" descr=""/>
          <p:cNvPicPr/>
          <p:nvPr/>
        </p:nvPicPr>
        <p:blipFill>
          <a:blip r:embed="rId4"/>
          <a:stretch/>
        </p:blipFill>
        <p:spPr>
          <a:xfrm>
            <a:off x="3002040" y="1584360"/>
            <a:ext cx="3693960" cy="521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4360" y="971640"/>
            <a:ext cx="82771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feld 1"/>
          <p:cNvSpPr/>
          <p:nvPr/>
        </p:nvSpPr>
        <p:spPr>
          <a:xfrm>
            <a:off x="684360" y="1573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Unterweisung der Mitarbeiter*i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feld 3"/>
          <p:cNvSpPr/>
          <p:nvPr/>
        </p:nvSpPr>
        <p:spPr>
          <a:xfrm>
            <a:off x="708120" y="4652640"/>
            <a:ext cx="2492280" cy="33732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Vor Arbeitsaufnah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feil: nach rechts 4"/>
          <p:cNvSpPr/>
          <p:nvPr/>
        </p:nvSpPr>
        <p:spPr>
          <a:xfrm rot="5400000">
            <a:off x="1740600" y="4112280"/>
            <a:ext cx="431640" cy="2808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feld 5"/>
          <p:cNvSpPr/>
          <p:nvPr/>
        </p:nvSpPr>
        <p:spPr>
          <a:xfrm>
            <a:off x="3568680" y="4532400"/>
            <a:ext cx="259236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ei wesentlichen Änder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feld 6"/>
          <p:cNvSpPr/>
          <p:nvPr/>
        </p:nvSpPr>
        <p:spPr>
          <a:xfrm>
            <a:off x="6377040" y="4532400"/>
            <a:ext cx="2492280" cy="580680"/>
          </a:xfrm>
          <a:prstGeom prst="rect">
            <a:avLst/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Regelmäßig einma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pro Ja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feil: nach rechts 11"/>
          <p:cNvSpPr/>
          <p:nvPr/>
        </p:nvSpPr>
        <p:spPr>
          <a:xfrm rot="5400000">
            <a:off x="4557240" y="5746320"/>
            <a:ext cx="612720" cy="39708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feld 14"/>
          <p:cNvSpPr/>
          <p:nvPr/>
        </p:nvSpPr>
        <p:spPr>
          <a:xfrm>
            <a:off x="870120" y="5227560"/>
            <a:ext cx="216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rstunterweis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20"/>
          <p:cNvSpPr/>
          <p:nvPr/>
        </p:nvSpPr>
        <p:spPr>
          <a:xfrm>
            <a:off x="3565440" y="511956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eues Arbeitsverfahren, neue Geräte, neue Regelwerke, …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feld 26"/>
          <p:cNvSpPr/>
          <p:nvPr/>
        </p:nvSpPr>
        <p:spPr>
          <a:xfrm>
            <a:off x="6367320" y="5113440"/>
            <a:ext cx="251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sicht: Jugendliche zwischen 15-17 Jahren: halbjährl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feld 27"/>
          <p:cNvSpPr/>
          <p:nvPr/>
        </p:nvSpPr>
        <p:spPr>
          <a:xfrm>
            <a:off x="684360" y="2608560"/>
            <a:ext cx="8184960" cy="3988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  <a:ea typeface="Arial"/>
              </a:rPr>
              <a:t>Wer darf die Unterweisungen durchfüh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feil: nach rechts 29"/>
          <p:cNvSpPr/>
          <p:nvPr/>
        </p:nvSpPr>
        <p:spPr>
          <a:xfrm rot="5400000">
            <a:off x="4600080" y="2125440"/>
            <a:ext cx="503280" cy="328680"/>
          </a:xfrm>
          <a:prstGeom prst="rightArrow">
            <a:avLst>
              <a:gd name="adj1" fmla="val 50000"/>
              <a:gd name="adj2" fmla="val 49764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feld 30"/>
          <p:cNvSpPr/>
          <p:nvPr/>
        </p:nvSpPr>
        <p:spPr>
          <a:xfrm>
            <a:off x="708120" y="6310800"/>
            <a:ext cx="8161200" cy="337320"/>
          </a:xfrm>
          <a:prstGeom prst="rect">
            <a:avLst/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okumentation der Mitarbeiter-Unterweis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feil: nach rechts 32"/>
          <p:cNvSpPr/>
          <p:nvPr/>
        </p:nvSpPr>
        <p:spPr>
          <a:xfrm rot="5400000">
            <a:off x="1642680" y="5740200"/>
            <a:ext cx="622440" cy="39708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feil: nach rechts 33"/>
          <p:cNvSpPr/>
          <p:nvPr/>
        </p:nvSpPr>
        <p:spPr>
          <a:xfrm rot="5400000">
            <a:off x="7315560" y="5729760"/>
            <a:ext cx="612720" cy="39852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fddf3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Grafik 12" descr=""/>
          <p:cNvPicPr/>
          <p:nvPr/>
        </p:nvPicPr>
        <p:blipFill>
          <a:blip r:embed="rId1"/>
          <a:stretch/>
        </p:blipFill>
        <p:spPr>
          <a:xfrm>
            <a:off x="8572680" y="596268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69" name="Textfeld 35"/>
          <p:cNvSpPr/>
          <p:nvPr/>
        </p:nvSpPr>
        <p:spPr>
          <a:xfrm>
            <a:off x="682560" y="3646800"/>
            <a:ext cx="8186760" cy="337320"/>
          </a:xfrm>
          <a:prstGeom prst="rect">
            <a:avLst/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Praxisinhaber*in + fachkundige und zuverlässige Praxismitarbeiter*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feil: nach rechts 36"/>
          <p:cNvSpPr/>
          <p:nvPr/>
        </p:nvSpPr>
        <p:spPr>
          <a:xfrm rot="5400000">
            <a:off x="4641840" y="4106880"/>
            <a:ext cx="432000" cy="279360"/>
          </a:xfrm>
          <a:prstGeom prst="rightArrow">
            <a:avLst>
              <a:gd name="adj1" fmla="val 50000"/>
              <a:gd name="adj2" fmla="val 50258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feil: nach rechts 37"/>
          <p:cNvSpPr/>
          <p:nvPr/>
        </p:nvSpPr>
        <p:spPr>
          <a:xfrm rot="5400000">
            <a:off x="7410600" y="4105800"/>
            <a:ext cx="432000" cy="28116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feil: nach rechts 38"/>
          <p:cNvSpPr/>
          <p:nvPr/>
        </p:nvSpPr>
        <p:spPr>
          <a:xfrm rot="5400000">
            <a:off x="4599720" y="3161520"/>
            <a:ext cx="503280" cy="3268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7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feld 39"/>
          <p:cNvSpPr/>
          <p:nvPr/>
        </p:nvSpPr>
        <p:spPr>
          <a:xfrm>
            <a:off x="2139840" y="5635800"/>
            <a:ext cx="245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ufbewahrung: 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5 Jahre; nach dem Ausscheiden des Mitarbeiters noch weitere 5 Jah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Grafik 3" descr=""/>
          <p:cNvPicPr/>
          <p:nvPr/>
        </p:nvPicPr>
        <p:blipFill>
          <a:blip r:embed="rId1"/>
          <a:stretch/>
        </p:blipFill>
        <p:spPr>
          <a:xfrm>
            <a:off x="5734080" y="3676680"/>
            <a:ext cx="3375000" cy="29527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684360" y="971640"/>
            <a:ext cx="84596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Unterweisung - </a:t>
            </a:r>
            <a:r>
              <a:rPr b="1" lang="de-DE" sz="3200" spc="-1" strike="noStrike">
                <a:solidFill>
                  <a:srgbClr val="0070c0"/>
                </a:solidFill>
                <a:latin typeface="Arial"/>
              </a:rPr>
              <a:t>Inha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684360" y="1800360"/>
            <a:ext cx="84596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schutz + Allgemeine Unfallverhü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rbeitsmedizinische Vorsorge und Immun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schäftigungsbeschränkungen- und -verb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ostof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randschu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ruckgerä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gebnisse der Gefährdungsbeurteil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rste Hil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yg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edizinproduk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önt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0000"/>
                <a:tab algn="l" pos="539640"/>
                <a:tab algn="l" pos="809640"/>
                <a:tab algn="l" pos="1079640"/>
                <a:tab algn="l" pos="1349280"/>
                <a:tab algn="l" pos="1619280"/>
                <a:tab algn="l" pos="1889280"/>
                <a:tab algn="l" pos="2158920"/>
                <a:tab algn="l" pos="2428920"/>
                <a:tab algn="l" pos="2698920"/>
                <a:tab algn="l" pos="2968560"/>
                <a:tab algn="l" pos="3238560"/>
                <a:tab algn="l" pos="3508200"/>
                <a:tab algn="l" pos="3778200"/>
                <a:tab algn="l" pos="4048200"/>
                <a:tab algn="l" pos="4317840"/>
                <a:tab algn="l" pos="4587840"/>
                <a:tab algn="l" pos="4857840"/>
                <a:tab algn="l" pos="5127480"/>
                <a:tab algn="l" pos="5397480"/>
                <a:tab algn="l" pos="56674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7-08T09:16:11Z</dcterms:created>
  <dc:creator>Aylin Klein</dc:creator>
  <dc:description/>
  <dc:language>en-US</dc:language>
  <cp:lastModifiedBy>Marco Wagner</cp:lastModifiedBy>
  <dcterms:modified xsi:type="dcterms:W3CDTF">2025-03-05T08:21:46Z</dcterms:modified>
  <cp:revision>9</cp:revision>
  <dc:subject/>
  <dc:title/>
</cp:coreProperties>
</file>