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4FE5B-5F5F-4376-B51D-2F8B220AB4B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 - Prüfpfli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fik 4" descr=""/>
          <p:cNvPicPr/>
          <p:nvPr/>
        </p:nvPicPr>
        <p:blipFill>
          <a:blip r:embed="rId1"/>
          <a:srcRect l="0" t="0" r="-491" b="40081"/>
          <a:stretch/>
        </p:blipFill>
        <p:spPr>
          <a:xfrm>
            <a:off x="1892160" y="2681280"/>
            <a:ext cx="5743800" cy="32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4360" y="19782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triebssicherheitsverordnung (BetrSich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Grafik 3" descr=""/>
          <p:cNvPicPr/>
          <p:nvPr/>
        </p:nvPicPr>
        <p:blipFill>
          <a:blip r:embed="rId2"/>
          <a:stretch/>
        </p:blipFill>
        <p:spPr>
          <a:xfrm>
            <a:off x="7939080" y="4986360"/>
            <a:ext cx="900000" cy="9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4360" y="971640"/>
            <a:ext cx="84596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ruckgeräte - Was ist in der Praxis wicht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Grafik 6" descr=""/>
          <p:cNvPicPr/>
          <p:nvPr/>
        </p:nvPicPr>
        <p:blipFill>
          <a:blip r:embed="rId1"/>
          <a:stretch/>
        </p:blipFill>
        <p:spPr>
          <a:xfrm>
            <a:off x="8566200" y="3879720"/>
            <a:ext cx="539640" cy="540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684360" y="2158920"/>
            <a:ext cx="845964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dienungs-/Betriebsanleitung bzw. Gebrauch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fortige Meldung von festgestellten Schäden (wenn gefahrlo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möglich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ußer Betrieb setzen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Gerät als „defekt“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 kennzeichnen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Fachgerechte Instandsetzung bzw. Entsor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Druckgerät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: z. B. Kompressor (BetrSichV) </a:t>
            </a:r>
            <a:r>
              <a:rPr b="1" lang="de-D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Prüf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undsätzlich alle 5 Jahre (Dokument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Prüfpflichten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ruckgerät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</a:rPr>
              <a:t>Kompressoren: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üfung gemäß §§ 14-15 BetrSich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72" descr=""/>
          <p:cNvPicPr/>
          <p:nvPr/>
        </p:nvPicPr>
        <p:blipFill>
          <a:blip r:embed="rId1"/>
          <a:stretch/>
        </p:blipFill>
        <p:spPr>
          <a:xfrm>
            <a:off x="900000" y="2435400"/>
            <a:ext cx="7917120" cy="3298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684360" y="5985000"/>
            <a:ext cx="8459640" cy="398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tipp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achweis in Form von Prüfbuch und Prüfsie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8:44:56Z</dcterms:created>
  <dc:creator>Aylin Klein</dc:creator>
  <dc:description/>
  <dc:language>en-US</dc:language>
  <cp:lastModifiedBy>Marco Wagner</cp:lastModifiedBy>
  <dcterms:modified xsi:type="dcterms:W3CDTF">2025-03-06T15:37:47Z</dcterms:modified>
  <cp:revision>12</cp:revision>
  <dc:subject/>
  <dc:title/>
</cp:coreProperties>
</file>