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31.png" ContentType="image/png"/>
  <Override PartName="/ppt/media/image33.png" ContentType="image/png"/>
  <Override PartName="/ppt/media/image14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E223A-E03A-459B-9CEF-B79A76B9490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F393C-D433-49B9-8AE1-7C01BADEEF4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C165C-3C74-4A37-B789-587BF3637E1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http://cgi.ebay.de/ws/eBayISAPI.dll?ViewItem&amp;item=180103142092&amp;ih=008&amp;category=57478&amp;rd=1&amp;ssPageName=mem_guide:2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jpeg"/><Relationship Id="rId3" Type="http://schemas.openxmlformats.org/officeDocument/2006/relationships/image" Target="../media/image2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16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1800360" y="2952720"/>
            <a:ext cx="576396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84360" y="1979640"/>
            <a:ext cx="845964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 Einmalhandschuhe (DIN EN 4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in der Patientenbehand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üssigkeitsdichte, ausreichend widerstandsfähi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schuhe (DIN EN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bei Tätigkeiten mit Gefahrstoff-Konzentrate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- und ggf. Gesichtsschutz (DIN EN 1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bei der Tätigkeit mit Verspritzen  oder Versprühen zu rech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(Angaben des Produktherstellers im Sicherheitsdatenbl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Rechteck 14" descr=""/>
          <p:cNvPicPr/>
          <p:nvPr/>
        </p:nvPicPr>
        <p:blipFill>
          <a:blip r:embed="rId1"/>
          <a:stretch/>
        </p:blipFill>
        <p:spPr>
          <a:xfrm>
            <a:off x="914400" y="2736720"/>
            <a:ext cx="6765840" cy="366840"/>
          </a:xfrm>
          <a:prstGeom prst="rect">
            <a:avLst/>
          </a:prstGeom>
          <a:ln w="0">
            <a:noFill/>
          </a:ln>
        </p:spPr>
      </p:pic>
      <p:pic>
        <p:nvPicPr>
          <p:cNvPr id="190" name="Grafik 1" descr=""/>
          <p:cNvPicPr/>
          <p:nvPr/>
        </p:nvPicPr>
        <p:blipFill>
          <a:blip r:embed="rId2"/>
          <a:srcRect l="8520" t="0" r="0" b="0"/>
          <a:stretch/>
        </p:blipFill>
        <p:spPr>
          <a:xfrm>
            <a:off x="7991640" y="3348000"/>
            <a:ext cx="1081080" cy="115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3"/>
          <a:stretch/>
        </p:blipFill>
        <p:spPr>
          <a:xfrm>
            <a:off x="1419120" y="5940360"/>
            <a:ext cx="949320" cy="649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180103142092_1">
            <a:hlinkClick r:id="rId4"/>
          </p:cNvPr>
          <p:cNvPicPr/>
          <p:nvPr/>
        </p:nvPicPr>
        <p:blipFill>
          <a:blip r:embed="rId5"/>
          <a:srcRect l="-5392" t="0" r="0" b="25906"/>
          <a:stretch/>
        </p:blipFill>
        <p:spPr>
          <a:xfrm>
            <a:off x="3052800" y="5940360"/>
            <a:ext cx="784080" cy="649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6"/>
          <a:stretch/>
        </p:blipFill>
        <p:spPr>
          <a:xfrm>
            <a:off x="4599000" y="5940360"/>
            <a:ext cx="731880" cy="6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Picture 8" descr=""/>
          <p:cNvPicPr/>
          <p:nvPr/>
        </p:nvPicPr>
        <p:blipFill>
          <a:blip r:embed="rId7"/>
          <a:stretch/>
        </p:blipFill>
        <p:spPr>
          <a:xfrm>
            <a:off x="7889760" y="5940360"/>
            <a:ext cx="844560" cy="6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6" descr="Schutzbrille G 30 Gold"/>
          <p:cNvPicPr/>
          <p:nvPr/>
        </p:nvPicPr>
        <p:blipFill>
          <a:blip r:embed="rId8"/>
          <a:stretch/>
        </p:blipFill>
        <p:spPr>
          <a:xfrm>
            <a:off x="6110280" y="5940360"/>
            <a:ext cx="966960" cy="6494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Grafik 4" descr=""/>
          <p:cNvPicPr/>
          <p:nvPr/>
        </p:nvPicPr>
        <p:blipFill>
          <a:blip r:embed="rId9"/>
          <a:srcRect l="1166" t="0" r="0" b="0"/>
          <a:stretch/>
        </p:blipFill>
        <p:spPr>
          <a:xfrm>
            <a:off x="7778880" y="1979640"/>
            <a:ext cx="1225440" cy="12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684360" y="1979640"/>
            <a:ext cx="8459640" cy="22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kleidung, wenn bei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ätigkeit mit Verspritzen oder Versprühe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Bio-/Gefahrstoffe) zu rechnen i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formation: Angaben des Produkthersteller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m Sicherheitsdatenbla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flüssigkeitsdichte (langärmelige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weg-Schutzschü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684360" y="4751280"/>
            <a:ext cx="8459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nd-Nasen-Schutzmask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(Medizinprodu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atientenschutz!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NS schützt auch den Träger vor größer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öpfchen und ist „Berührungsschutz“ für Mund und N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N EN 14683 (Empfehlung: Typ II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Grafik 1" descr="MD520_A_0214.pdf - Adobe Acrobat Reader DC"/>
          <p:cNvPicPr/>
          <p:nvPr/>
        </p:nvPicPr>
        <p:blipFill>
          <a:blip r:embed="rId1"/>
          <a:srcRect l="10625" t="23837" r="31101" b="7851"/>
          <a:stretch/>
        </p:blipFill>
        <p:spPr>
          <a:xfrm>
            <a:off x="6191280" y="1979640"/>
            <a:ext cx="2833560" cy="18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1" name="Grafik 6" descr=""/>
          <p:cNvPicPr/>
          <p:nvPr/>
        </p:nvPicPr>
        <p:blipFill>
          <a:blip r:embed="rId2"/>
          <a:srcRect l="36888" t="4511" r="42819" b="56746"/>
          <a:stretch/>
        </p:blipFill>
        <p:spPr>
          <a:xfrm>
            <a:off x="8175600" y="5543640"/>
            <a:ext cx="84924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Grafik 4" descr=""/>
          <p:cNvPicPr/>
          <p:nvPr/>
        </p:nvPicPr>
        <p:blipFill>
          <a:blip r:embed="rId3"/>
          <a:stretch/>
        </p:blipFill>
        <p:spPr>
          <a:xfrm>
            <a:off x="8175600" y="3979800"/>
            <a:ext cx="849240" cy="120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4" name="Picture 2" descr="Einwegschürzen ca. 35 my aus LDPE in blau in der Frontansicht"/>
          <p:cNvPicPr/>
          <p:nvPr/>
        </p:nvPicPr>
        <p:blipFill>
          <a:blip r:embed="rId4"/>
          <a:srcRect l="35411" t="15723" r="35645" b="1508"/>
          <a:stretch/>
        </p:blipFill>
        <p:spPr>
          <a:xfrm>
            <a:off x="6267600" y="2952720"/>
            <a:ext cx="63000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Grafik 2" descr=""/>
          <p:cNvPicPr/>
          <p:nvPr/>
        </p:nvPicPr>
        <p:blipFill>
          <a:blip r:embed="rId1"/>
          <a:srcRect l="50002" t="8406" r="17320" b="5808"/>
          <a:stretch/>
        </p:blipFill>
        <p:spPr>
          <a:xfrm>
            <a:off x="7974000" y="2735280"/>
            <a:ext cx="1008000" cy="14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Text Box 5"/>
          <p:cNvSpPr/>
          <p:nvPr/>
        </p:nvSpPr>
        <p:spPr>
          <a:xfrm>
            <a:off x="684360" y="197964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Atemschutz (partikelfiltrierende Halbmaske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satemventil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igen- und/oder Fremdschu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FP2 / FFP3 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ltering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e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e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2"/>
          <a:stretch/>
        </p:blipFill>
        <p:spPr>
          <a:xfrm>
            <a:off x="1042920" y="5148360"/>
            <a:ext cx="2160720" cy="1530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3"/>
          <a:stretch/>
        </p:blipFill>
        <p:spPr>
          <a:xfrm>
            <a:off x="3780000" y="4429080"/>
            <a:ext cx="1439640" cy="97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Text Box 14"/>
          <p:cNvSpPr/>
          <p:nvPr/>
        </p:nvSpPr>
        <p:spPr>
          <a:xfrm>
            <a:off x="684360" y="435600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Gehör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 B. im Praxi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7"/>
          <p:cNvGrpSpPr/>
          <p:nvPr/>
        </p:nvGrpSpPr>
        <p:grpSpPr>
          <a:xfrm>
            <a:off x="6105960" y="4023000"/>
            <a:ext cx="1542240" cy="1515960"/>
            <a:chOff x="6105960" y="4023000"/>
            <a:chExt cx="1542240" cy="1515960"/>
          </a:xfrm>
        </p:grpSpPr>
        <p:pic>
          <p:nvPicPr>
            <p:cNvPr id="211" name="Picture 5" descr="Vorsorgekartei"/>
            <p:cNvPicPr/>
            <p:nvPr/>
          </p:nvPicPr>
          <p:blipFill>
            <a:blip r:embed="rId4"/>
            <a:stretch/>
          </p:blipFill>
          <p:spPr>
            <a:xfrm rot="21300000">
              <a:off x="6156360" y="4060800"/>
              <a:ext cx="922320" cy="11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6" descr="Ärztliche Bescheinigung"/>
            <p:cNvPicPr/>
            <p:nvPr/>
          </p:nvPicPr>
          <p:blipFill>
            <a:blip r:embed="rId5"/>
            <a:stretch/>
          </p:blipFill>
          <p:spPr>
            <a:xfrm rot="300000">
              <a:off x="6652800" y="4272120"/>
              <a:ext cx="943560" cy="122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Gruppieren 8"/>
          <p:cNvGrpSpPr/>
          <p:nvPr/>
        </p:nvGrpSpPr>
        <p:grpSpPr>
          <a:xfrm>
            <a:off x="1371600" y="3132000"/>
            <a:ext cx="4200480" cy="979560"/>
            <a:chOff x="1371600" y="3132000"/>
            <a:chExt cx="4200480" cy="979560"/>
          </a:xfrm>
        </p:grpSpPr>
        <p:pic>
          <p:nvPicPr>
            <p:cNvPr id="214" name="Grafik 5" descr=""/>
            <p:cNvPicPr/>
            <p:nvPr/>
          </p:nvPicPr>
          <p:blipFill>
            <a:blip r:embed="rId6"/>
            <a:stretch/>
          </p:blipFill>
          <p:spPr>
            <a:xfrm>
              <a:off x="1371600" y="3132000"/>
              <a:ext cx="4200480" cy="6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Grafik 7" descr=""/>
            <p:cNvPicPr/>
            <p:nvPr/>
          </p:nvPicPr>
          <p:blipFill>
            <a:blip r:embed="rId7"/>
            <a:stretch/>
          </p:blipFill>
          <p:spPr>
            <a:xfrm>
              <a:off x="1371600" y="3735000"/>
              <a:ext cx="4200480" cy="3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Grafik 3" descr=""/>
          <p:cNvPicPr/>
          <p:nvPr/>
        </p:nvPicPr>
        <p:blipFill>
          <a:blip r:embed="rId8"/>
          <a:stretch/>
        </p:blipFill>
        <p:spPr>
          <a:xfrm>
            <a:off x="5904000" y="2735280"/>
            <a:ext cx="147168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Rechteck 13" descr=""/>
          <p:cNvPicPr/>
          <p:nvPr/>
        </p:nvPicPr>
        <p:blipFill>
          <a:blip r:embed="rId9"/>
          <a:stretch/>
        </p:blipFill>
        <p:spPr>
          <a:xfrm>
            <a:off x="5499000" y="5327640"/>
            <a:ext cx="277992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Nicht vergessen, das Thema „PSA“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682560" y="2421000"/>
            <a:ext cx="3960720" cy="3522240"/>
            <a:chOff x="682560" y="2421000"/>
            <a:chExt cx="3960720" cy="352224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tretch/>
          </p:blipFill>
          <p:spPr>
            <a:xfrm>
              <a:off x="682560" y="2521440"/>
              <a:ext cx="3959280" cy="331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5"/>
            <p:cNvSpPr/>
            <p:nvPr/>
          </p:nvSpPr>
          <p:spPr>
            <a:xfrm>
              <a:off x="684360" y="2421000"/>
              <a:ext cx="3958920" cy="3522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6"/>
          <p:cNvGrpSpPr/>
          <p:nvPr/>
        </p:nvGrpSpPr>
        <p:grpSpPr>
          <a:xfrm>
            <a:off x="4888080" y="4230720"/>
            <a:ext cx="4106520" cy="2158920"/>
            <a:chOff x="4888080" y="4230720"/>
            <a:chExt cx="4106520" cy="2158920"/>
          </a:xfrm>
        </p:grpSpPr>
        <p:pic>
          <p:nvPicPr>
            <p:cNvPr id="224" name="Picture 7" descr=""/>
            <p:cNvPicPr/>
            <p:nvPr/>
          </p:nvPicPr>
          <p:blipFill>
            <a:blip r:embed="rId2"/>
            <a:stretch/>
          </p:blipFill>
          <p:spPr>
            <a:xfrm>
              <a:off x="4888080" y="4287960"/>
              <a:ext cx="410652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8"/>
            <p:cNvSpPr/>
            <p:nvPr/>
          </p:nvSpPr>
          <p:spPr>
            <a:xfrm>
              <a:off x="4892400" y="4230720"/>
              <a:ext cx="4101840" cy="215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13" descr=""/>
          <p:cNvPicPr/>
          <p:nvPr/>
        </p:nvPicPr>
        <p:blipFill>
          <a:blip r:embed="rId3"/>
          <a:stretch/>
        </p:blipFill>
        <p:spPr>
          <a:xfrm>
            <a:off x="4889520" y="24210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7" name="Rechteck 3"/>
          <p:cNvSpPr/>
          <p:nvPr/>
        </p:nvSpPr>
        <p:spPr>
          <a:xfrm>
            <a:off x="4886280" y="360036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68320" y="361152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84360" y="1978200"/>
            <a:ext cx="84596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önliche Schutzausrüstung (P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SA - Was ist zu t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SA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 der Zahnarztpr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800360" y="1979640"/>
            <a:ext cx="6110280" cy="43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gesetz (ArbSchG) und Unfallverhütungsvorschrift DGUV V1 „Grundsätze der Präven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600360" y="2692440"/>
            <a:ext cx="500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s Unterneh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r Versich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des betrieb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54952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feld 3"/>
          <p:cNvSpPr/>
          <p:nvPr/>
        </p:nvSpPr>
        <p:spPr>
          <a:xfrm>
            <a:off x="682560" y="1843560"/>
            <a:ext cx="83170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(Gefährdungen ermitteln und beurtei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feil: nach rechts 4"/>
          <p:cNvSpPr/>
          <p:nvPr/>
        </p:nvSpPr>
        <p:spPr>
          <a:xfrm rot="5400000">
            <a:off x="4553280" y="27309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feld 9"/>
          <p:cNvSpPr/>
          <p:nvPr/>
        </p:nvSpPr>
        <p:spPr>
          <a:xfrm>
            <a:off x="682560" y="619812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Fortschreibung der 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12"/>
          <p:cNvSpPr/>
          <p:nvPr/>
        </p:nvSpPr>
        <p:spPr>
          <a:xfrm>
            <a:off x="682560" y="330228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festlegen und durchfü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feld 17"/>
          <p:cNvSpPr/>
          <p:nvPr/>
        </p:nvSpPr>
        <p:spPr>
          <a:xfrm>
            <a:off x="682560" y="489636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auf Wirksamkeit überprü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feil: nach rechts 21"/>
          <p:cNvSpPr/>
          <p:nvPr/>
        </p:nvSpPr>
        <p:spPr>
          <a:xfrm rot="5400000">
            <a:off x="4320000" y="4109040"/>
            <a:ext cx="1079280" cy="3985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feil: nach rechts 22"/>
          <p:cNvSpPr/>
          <p:nvPr/>
        </p:nvSpPr>
        <p:spPr>
          <a:xfrm rot="5400000">
            <a:off x="4463640" y="5551200"/>
            <a:ext cx="792000" cy="39852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Inhaltsplatzhalter 3" descr=""/>
          <p:cNvPicPr/>
          <p:nvPr/>
        </p:nvPicPr>
        <p:blipFill>
          <a:blip r:embed="rId1"/>
          <a:srcRect l="0" t="1561" r="0" b="2585"/>
          <a:stretch/>
        </p:blipFill>
        <p:spPr>
          <a:xfrm>
            <a:off x="7378560" y="1646280"/>
            <a:ext cx="1411560" cy="88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Grafik 1" descr=""/>
          <p:cNvPicPr/>
          <p:nvPr/>
        </p:nvPicPr>
        <p:blipFill>
          <a:blip r:embed="rId2"/>
          <a:srcRect l="8520" t="0" r="0" b="0"/>
          <a:stretch/>
        </p:blipFill>
        <p:spPr>
          <a:xfrm>
            <a:off x="682560" y="2595600"/>
            <a:ext cx="84132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682560" y="3554280"/>
            <a:ext cx="951120" cy="6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Grafik 6" descr=""/>
          <p:cNvPicPr/>
          <p:nvPr/>
        </p:nvPicPr>
        <p:blipFill>
          <a:blip r:embed="rId4"/>
          <a:srcRect l="36888" t="4511" r="42819" b="56746"/>
          <a:stretch/>
        </p:blipFill>
        <p:spPr>
          <a:xfrm>
            <a:off x="6993000" y="3768840"/>
            <a:ext cx="79380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6" name="Picture 2" descr="Einwegschürzen ca. 35 my aus LDPE in blau in der Frontansicht"/>
          <p:cNvPicPr/>
          <p:nvPr/>
        </p:nvPicPr>
        <p:blipFill>
          <a:blip r:embed="rId5"/>
          <a:srcRect l="35411" t="15723" r="35645" b="1508"/>
          <a:stretch/>
        </p:blipFill>
        <p:spPr>
          <a:xfrm>
            <a:off x="8221680" y="2795760"/>
            <a:ext cx="568440" cy="162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7" name="Grafik 20" descr=""/>
          <p:cNvPicPr/>
          <p:nvPr/>
        </p:nvPicPr>
        <p:blipFill>
          <a:blip r:embed="rId6"/>
          <a:stretch/>
        </p:blipFill>
        <p:spPr>
          <a:xfrm>
            <a:off x="5275440" y="3800520"/>
            <a:ext cx="128736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Textfeld 23"/>
          <p:cNvSpPr/>
          <p:nvPr/>
        </p:nvSpPr>
        <p:spPr>
          <a:xfrm>
            <a:off x="1528920" y="3930480"/>
            <a:ext cx="30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nutzung von PSA durch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schäftigten, solange ein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fährdung besteht (Tragepflicht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feld 24"/>
          <p:cNvSpPr/>
          <p:nvPr/>
        </p:nvSpPr>
        <p:spPr>
          <a:xfrm>
            <a:off x="5184720" y="532764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der Benutzung von P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620720" y="2587680"/>
            <a:ext cx="6407280" cy="2422440"/>
            <a:chOff x="1620720" y="2587680"/>
            <a:chExt cx="6407280" cy="2422440"/>
          </a:xfrm>
        </p:grpSpPr>
        <p:sp>
          <p:nvSpPr>
            <p:cNvPr id="171" name="Text Box 3"/>
            <p:cNvSpPr/>
            <p:nvPr/>
          </p:nvSpPr>
          <p:spPr>
            <a:xfrm>
              <a:off x="2412720" y="341460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Technis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4"/>
            <p:cNvSpPr/>
            <p:nvPr/>
          </p:nvSpPr>
          <p:spPr>
            <a:xfrm>
              <a:off x="1620720" y="3570480"/>
              <a:ext cx="718920" cy="1439640"/>
            </a:xfrm>
            <a:custGeom>
              <a:avLst/>
              <a:gdLst>
                <a:gd name="textAreaLeft" fmla="*/ 96120 w 718920"/>
                <a:gd name="textAreaRight" fmla="*/ 622800 w 71892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5"/>
            <p:cNvSpPr/>
            <p:nvPr/>
          </p:nvSpPr>
          <p:spPr>
            <a:xfrm>
              <a:off x="7308720" y="3570480"/>
              <a:ext cx="719280" cy="1439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6"/>
            <p:cNvSpPr/>
            <p:nvPr/>
          </p:nvSpPr>
          <p:spPr>
            <a:xfrm>
              <a:off x="4498920" y="2587680"/>
              <a:ext cx="64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7"/>
          <p:cNvGrpSpPr/>
          <p:nvPr/>
        </p:nvGrpSpPr>
        <p:grpSpPr>
          <a:xfrm>
            <a:off x="1620720" y="4027320"/>
            <a:ext cx="6407280" cy="2566800"/>
            <a:chOff x="1620720" y="4027320"/>
            <a:chExt cx="6407280" cy="2566800"/>
          </a:xfrm>
        </p:grpSpPr>
        <p:sp>
          <p:nvSpPr>
            <p:cNvPr id="176" name="Text Box 8"/>
            <p:cNvSpPr/>
            <p:nvPr/>
          </p:nvSpPr>
          <p:spPr>
            <a:xfrm>
              <a:off x="2412720" y="485424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Organisatoris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9"/>
            <p:cNvSpPr/>
            <p:nvPr/>
          </p:nvSpPr>
          <p:spPr>
            <a:xfrm>
              <a:off x="1620720" y="5154120"/>
              <a:ext cx="718920" cy="1440000"/>
            </a:xfrm>
            <a:custGeom>
              <a:avLst/>
              <a:gdLst>
                <a:gd name="textAreaLeft" fmla="*/ 96120 w 718920"/>
                <a:gd name="textAreaRight" fmla="*/ 622800 w 71892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10"/>
            <p:cNvSpPr/>
            <p:nvPr/>
          </p:nvSpPr>
          <p:spPr>
            <a:xfrm>
              <a:off x="7308720" y="5152680"/>
              <a:ext cx="719280" cy="144000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4429080" y="4027320"/>
              <a:ext cx="72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2413080" y="5467320"/>
            <a:ext cx="4824360" cy="1226160"/>
            <a:chOff x="2413080" y="5467320"/>
            <a:chExt cx="4824360" cy="1226160"/>
          </a:xfrm>
        </p:grpSpPr>
        <p:sp>
          <p:nvSpPr>
            <p:cNvPr id="181" name="Text Box 13"/>
            <p:cNvSpPr/>
            <p:nvPr/>
          </p:nvSpPr>
          <p:spPr>
            <a:xfrm>
              <a:off x="2413080" y="629460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Persönli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4500720" y="5467320"/>
              <a:ext cx="64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7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SA - Was ist zu t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684360" y="1630440"/>
            <a:ext cx="8351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 – T – O – P – Prinzip: Bevor Schutzmaßnahmen ergriffen werden, sollte geprüft werden: Gibt es für diese Tätigkeit einen weniger gefährlichen Stoff (S steht für Substitutio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684360" y="1978200"/>
            <a:ext cx="845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ung von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Persönlicher Schutzausrüstung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ten, solange eine Gefährdung besteht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(Tragepflicht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4360" y="3141720"/>
            <a:ext cx="84596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Benutzung von P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SA - Was ist zu t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3-05T13:41:03Z</dcterms:modified>
  <cp:revision>15</cp:revision>
  <dc:subject/>
  <dc:title/>
</cp:coreProperties>
</file>