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E18A3-5292-4A94-B770-C96C1A65E16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58DC0-A77C-47F7-8E91-A56421A517E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3861A-8B06-42FA-9347-8A2E7A26306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Hygiene und Medizinprodukte-Aufbe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3"/>
          <p:cNvGrpSpPr/>
          <p:nvPr/>
        </p:nvGrpSpPr>
        <p:grpSpPr>
          <a:xfrm>
            <a:off x="719280" y="2421000"/>
            <a:ext cx="4033800" cy="3240000"/>
            <a:chOff x="719280" y="2421000"/>
            <a:chExt cx="4033800" cy="324000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757080" y="2517840"/>
              <a:ext cx="39592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5"/>
            <p:cNvSpPr/>
            <p:nvPr/>
          </p:nvSpPr>
          <p:spPr>
            <a:xfrm>
              <a:off x="719280" y="2421000"/>
              <a:ext cx="4033800" cy="324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"/>
          <p:cNvGrpSpPr/>
          <p:nvPr/>
        </p:nvGrpSpPr>
        <p:grpSpPr>
          <a:xfrm>
            <a:off x="4894200" y="4227480"/>
            <a:ext cx="4033800" cy="2232000"/>
            <a:chOff x="4894200" y="4227480"/>
            <a:chExt cx="4033800" cy="2232000"/>
          </a:xfrm>
        </p:grpSpPr>
        <p:pic>
          <p:nvPicPr>
            <p:cNvPr id="165" name="Picture 7" descr=""/>
            <p:cNvPicPr/>
            <p:nvPr/>
          </p:nvPicPr>
          <p:blipFill>
            <a:blip r:embed="rId2"/>
            <a:stretch/>
          </p:blipFill>
          <p:spPr>
            <a:xfrm>
              <a:off x="4929120" y="4287600"/>
              <a:ext cx="3959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8"/>
            <p:cNvSpPr/>
            <p:nvPr/>
          </p:nvSpPr>
          <p:spPr>
            <a:xfrm>
              <a:off x="4894200" y="4227480"/>
              <a:ext cx="403380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"/>
          <p:cNvPicPr/>
          <p:nvPr/>
        </p:nvPicPr>
        <p:blipFill>
          <a:blip r:embed="rId3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6T15:39:21Z</dcterms:modified>
  <cp:revision>17</cp:revision>
  <dc:subject/>
  <dc:title/>
</cp:coreProperties>
</file>