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5BAFA-B375-4911-922E-7CBCE527C4B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fik 4" descr=""/>
          <p:cNvPicPr/>
          <p:nvPr/>
        </p:nvPicPr>
        <p:blipFill>
          <a:blip r:embed="rId1"/>
          <a:srcRect l="0" t="0" r="-491" b="40081"/>
          <a:stretch/>
        </p:blipFill>
        <p:spPr>
          <a:xfrm>
            <a:off x="1892160" y="2681280"/>
            <a:ext cx="574380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icherheitsverordnung (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2"/>
          <a:stretch/>
        </p:blipFill>
        <p:spPr>
          <a:xfrm>
            <a:off x="7939080" y="4986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rafik 6" descr=""/>
          <p:cNvPicPr/>
          <p:nvPr/>
        </p:nvPicPr>
        <p:blipFill>
          <a:blip r:embed="rId1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4360" y="215892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Druckgerä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: z. B. Kompressor (BetrSich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Prüf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undsätzlich alle 5 Jahre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ruckgerä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Kompressor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gemäß §§ 14-15 BetrSich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72" descr=""/>
          <p:cNvPicPr/>
          <p:nvPr/>
        </p:nvPicPr>
        <p:blipFill>
          <a:blip r:embed="rId1"/>
          <a:stretch/>
        </p:blipFill>
        <p:spPr>
          <a:xfrm>
            <a:off x="900000" y="2435400"/>
            <a:ext cx="7917120" cy="329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4360" y="5985000"/>
            <a:ext cx="845964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tipp: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achweis in Form von Prüfbuch und Prüfsie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3-06T15:37:47Z</dcterms:modified>
  <cp:revision>12</cp:revision>
  <dc:subject/>
  <dc:title/>
</cp:coreProperties>
</file>