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39B7B-D80C-41EA-9016-4A4C6AB8F7A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09640" y="4894200"/>
            <a:ext cx="3419640" cy="112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4729320" y="3073320"/>
            <a:ext cx="4379760" cy="3570480"/>
            <a:chOff x="4729320" y="3073320"/>
            <a:chExt cx="4379760" cy="357048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tretch/>
          </p:blipFill>
          <p:spPr>
            <a:xfrm>
              <a:off x="4754520" y="3130200"/>
              <a:ext cx="43542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4729320" y="3073320"/>
              <a:ext cx="4379760" cy="3570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060720" y="2540160"/>
            <a:ext cx="359892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19840" y="1511280"/>
            <a:ext cx="2158920" cy="20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6" descr="und noch mal Hände"/>
          <p:cNvPicPr/>
          <p:nvPr/>
        </p:nvPicPr>
        <p:blipFill>
          <a:blip r:embed="rId3"/>
          <a:stretch/>
        </p:blipFill>
        <p:spPr>
          <a:xfrm>
            <a:off x="716040" y="4017960"/>
            <a:ext cx="2158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3" descr=""/>
          <p:cNvPicPr/>
          <p:nvPr/>
        </p:nvPicPr>
        <p:blipFill>
          <a:blip r:embed="rId4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76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2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Grafik 3" descr=""/>
          <p:cNvPicPr/>
          <p:nvPr/>
        </p:nvPicPr>
        <p:blipFill>
          <a:blip r:embed="rId1"/>
          <a:stretch/>
        </p:blipFill>
        <p:spPr>
          <a:xfrm>
            <a:off x="5734080" y="3676680"/>
            <a:ext cx="337500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08:21:46Z</dcterms:modified>
  <cp:revision>9</cp:revision>
  <dc:subject/>
  <dc:title/>
</cp:coreProperties>
</file>