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A11B4-4FFC-422F-8930-D158AB45D16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6T15:37:47Z</dcterms:modified>
  <cp:revision>12</cp:revision>
  <dc:subject/>
  <dc:title/>
</cp:coreProperties>
</file>