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6.png" ContentType="image/png"/>
  <Override PartName="/ppt/media/image14.png" ContentType="image/png"/>
  <Override PartName="/ppt/media/image9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.jpeg" ContentType="image/jpe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47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8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125F96-465F-4C83-BB99-DBDFE5CF4140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5"/>
          <p:cNvSpPr/>
          <p:nvPr/>
        </p:nvSpPr>
        <p:spPr>
          <a:xfrm>
            <a:off x="1800360" y="2952720"/>
            <a:ext cx="5022720" cy="13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Jugendli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3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Rectangle 5"/>
          <p:cNvSpPr/>
          <p:nvPr/>
        </p:nvSpPr>
        <p:spPr>
          <a:xfrm>
            <a:off x="1768320" y="3611520"/>
            <a:ext cx="5921640" cy="285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684360" y="1978200"/>
            <a:ext cx="8459640" cy="15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Unterweisungspun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Untersuchung von Jugendlichen (15-17 Jah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uppieren 6"/>
          <p:cNvGrpSpPr/>
          <p:nvPr/>
        </p:nvGrpSpPr>
        <p:grpSpPr>
          <a:xfrm>
            <a:off x="754200" y="2276640"/>
            <a:ext cx="3238200" cy="4109760"/>
            <a:chOff x="754200" y="2276640"/>
            <a:chExt cx="3238200" cy="4109760"/>
          </a:xfrm>
        </p:grpSpPr>
        <p:pic>
          <p:nvPicPr>
            <p:cNvPr id="142" name="Grafik 2" descr=""/>
            <p:cNvPicPr/>
            <p:nvPr/>
          </p:nvPicPr>
          <p:blipFill>
            <a:blip r:embed="rId1"/>
            <a:srcRect l="0" t="0" r="0" b="73686"/>
            <a:stretch/>
          </p:blipFill>
          <p:spPr>
            <a:xfrm>
              <a:off x="754200" y="2276640"/>
              <a:ext cx="3238200" cy="120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Grafik 4" descr=""/>
            <p:cNvPicPr/>
            <p:nvPr/>
          </p:nvPicPr>
          <p:blipFill>
            <a:blip r:embed="rId2"/>
            <a:srcRect l="0" t="38743" r="4881" b="0"/>
            <a:stretch/>
          </p:blipFill>
          <p:spPr>
            <a:xfrm>
              <a:off x="754200" y="3429000"/>
              <a:ext cx="3238200" cy="2957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4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684360" y="1690560"/>
            <a:ext cx="84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Jugendarbeitsschutzgesetz (JArbSch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4064040" y="2421000"/>
            <a:ext cx="5079960" cy="29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zeit und Freiz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chäftigungsverbote- und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chränk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nstige Pflichten des Arbeitge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sundheitliche Betreu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hänge und Verzeichnis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si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hteck 5"/>
          <p:cNvSpPr/>
          <p:nvPr/>
        </p:nvSpPr>
        <p:spPr>
          <a:xfrm>
            <a:off x="754200" y="2276640"/>
            <a:ext cx="3309840" cy="4109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Jugendliche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684360" y="1798560"/>
            <a:ext cx="845964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§ 29 JArbSchG hat folgenden Wortla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Arbeitgeber hat die Jugendlichen vor Beginn d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chäftigung über die Unfall- und Gesundheitsgefahren,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nen sie bei der Beschäftigung ausgesetzt sind sowie über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richtungen und Maßnahmen zur Abwendung dies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fahren zu unterweisen. Er hat die Jugendlichen vor d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stmaligen Beschäftigung an Maschinen oder gefährlich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stellen oder mit Arbeiten, bei denen sie mit gesund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eitsgefährdenden Stoffen in Berührung kommen, über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onderen Gefahren dieser Arbeiten sowie über das bei ihr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richtung erforderliche Verhalten zu unterweis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Unterweisungen sind in angemessenen Zeitabständen,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indestens aber 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halbjährlich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, zu wiederhol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Jugendliche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684360" y="1798560"/>
            <a:ext cx="8459640" cy="32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erner wird mit der Unterschrift bestätigt, dass gemäß § 47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JArbSchG darauf hingewiesen wurde, an welcher Stelle im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trieb das Jugendarbeitsschutzgesetz (siehe im „PRAXIS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andbuch Qualitätssicherung: Anhang“ unter "Aushang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sichtnahme" im Kapitel „Personal“) und die Adresse d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ständigen Arbeitsschutzbehörde – Landratsamt - (siehe im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„PRAXIS-Handbuch Qualitätssicherung: Anhang“ im Kapitel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"Adressenverzeichnis") auslieg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/Dem Jugendlichen wurde eine Kopie der Unterweisung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ehändig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suchung von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Jugendlichen (15-17 J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Rechteck 1" descr=""/>
          <p:cNvPicPr/>
          <p:nvPr/>
        </p:nvPicPr>
        <p:blipFill>
          <a:blip r:embed="rId1"/>
          <a:stretch/>
        </p:blipFill>
        <p:spPr>
          <a:xfrm>
            <a:off x="822240" y="6175440"/>
            <a:ext cx="7718400" cy="646200"/>
          </a:xfrm>
          <a:prstGeom prst="rect">
            <a:avLst/>
          </a:prstGeom>
          <a:ln w="0">
            <a:noFill/>
          </a:ln>
        </p:spPr>
      </p:pic>
      <p:pic>
        <p:nvPicPr>
          <p:cNvPr id="154" name="Grafik 2" descr=""/>
          <p:cNvPicPr/>
          <p:nvPr/>
        </p:nvPicPr>
        <p:blipFill>
          <a:blip r:embed="rId2"/>
          <a:stretch/>
        </p:blipFill>
        <p:spPr>
          <a:xfrm>
            <a:off x="620640" y="1652760"/>
            <a:ext cx="8460000" cy="4298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5" name="Grafik 6" descr=""/>
          <p:cNvPicPr/>
          <p:nvPr/>
        </p:nvPicPr>
        <p:blipFill>
          <a:blip r:embed="rId3"/>
          <a:stretch/>
        </p:blipFill>
        <p:spPr>
          <a:xfrm>
            <a:off x="8540640" y="6021360"/>
            <a:ext cx="540000" cy="539640"/>
          </a:xfrm>
          <a:prstGeom prst="rect">
            <a:avLst/>
          </a:prstGeom>
          <a:ln w="0">
            <a:noFill/>
          </a:ln>
        </p:spPr>
      </p:pic>
      <p:pic>
        <p:nvPicPr>
          <p:cNvPr id="156" name="Grafik 4" descr=""/>
          <p:cNvPicPr/>
          <p:nvPr/>
        </p:nvPicPr>
        <p:blipFill>
          <a:blip r:embed="rId4"/>
          <a:stretch/>
        </p:blipFill>
        <p:spPr>
          <a:xfrm>
            <a:off x="2925720" y="5756400"/>
            <a:ext cx="3849840" cy="36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684360" y="1127160"/>
            <a:ext cx="8459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das Thema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Jugendliche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bearbeiten Sie mit der Checkliste und der Gefährdungsbeurteilung (Dokumentation und Aktualisier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13"/>
          <p:cNvGrpSpPr/>
          <p:nvPr/>
        </p:nvGrpSpPr>
        <p:grpSpPr>
          <a:xfrm>
            <a:off x="684360" y="2440080"/>
            <a:ext cx="4174920" cy="1584360"/>
            <a:chOff x="684360" y="2440080"/>
            <a:chExt cx="4174920" cy="1584360"/>
          </a:xfrm>
        </p:grpSpPr>
        <p:sp>
          <p:nvSpPr>
            <p:cNvPr id="159" name="Rectangle 8"/>
            <p:cNvSpPr/>
            <p:nvPr/>
          </p:nvSpPr>
          <p:spPr>
            <a:xfrm>
              <a:off x="684360" y="2440080"/>
              <a:ext cx="4174920" cy="15843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0" name="Picture 12" descr=""/>
            <p:cNvPicPr/>
            <p:nvPr/>
          </p:nvPicPr>
          <p:blipFill>
            <a:blip r:embed="rId1"/>
            <a:stretch/>
          </p:blipFill>
          <p:spPr>
            <a:xfrm>
              <a:off x="784080" y="2584800"/>
              <a:ext cx="3959280" cy="1393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1" name="Group 15"/>
          <p:cNvGrpSpPr/>
          <p:nvPr/>
        </p:nvGrpSpPr>
        <p:grpSpPr>
          <a:xfrm>
            <a:off x="4913280" y="4208400"/>
            <a:ext cx="4138560" cy="2303640"/>
            <a:chOff x="4913280" y="4208400"/>
            <a:chExt cx="4138560" cy="2303640"/>
          </a:xfrm>
        </p:grpSpPr>
        <p:sp>
          <p:nvSpPr>
            <p:cNvPr id="162" name="Rectangle 11"/>
            <p:cNvSpPr/>
            <p:nvPr/>
          </p:nvSpPr>
          <p:spPr>
            <a:xfrm>
              <a:off x="4913280" y="4208400"/>
              <a:ext cx="4138560" cy="2303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3" name="Picture 14" descr=""/>
            <p:cNvPicPr/>
            <p:nvPr/>
          </p:nvPicPr>
          <p:blipFill>
            <a:blip r:embed="rId2"/>
            <a:stretch/>
          </p:blipFill>
          <p:spPr>
            <a:xfrm>
              <a:off x="4981680" y="4300560"/>
              <a:ext cx="3958920" cy="2136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4" name="Picture 13" descr=""/>
          <p:cNvPicPr/>
          <p:nvPr/>
        </p:nvPicPr>
        <p:blipFill>
          <a:blip r:embed="rId3"/>
          <a:stretch/>
        </p:blipFill>
        <p:spPr>
          <a:xfrm>
            <a:off x="4889520" y="2435400"/>
            <a:ext cx="4210200" cy="163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5" name="Rechteck 3"/>
          <p:cNvSpPr/>
          <p:nvPr/>
        </p:nvSpPr>
        <p:spPr>
          <a:xfrm>
            <a:off x="4886280" y="3621240"/>
            <a:ext cx="2092320" cy="46656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9:16:11Z</dcterms:created>
  <dc:creator>Aylin Klein</dc:creator>
  <dc:description/>
  <dc:language>en-US</dc:language>
  <cp:lastModifiedBy>Marco Wagner</cp:lastModifiedBy>
  <dcterms:modified xsi:type="dcterms:W3CDTF">2025-03-05T13:29:24Z</dcterms:modified>
  <cp:revision>17</cp:revision>
  <dc:subject/>
  <dc:title/>
</cp:coreProperties>
</file>