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FB454-EE1C-4209-AE85-F13E4DD8CA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DBB41-99AD-4AD6-96AC-E97840DEE10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28E5F-B0C3-4D8D-A7E8-E04072AC1E2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cgi.ebay.de/ws/eBayISAPI.dll?ViewItem&amp;item=180103142092&amp;ih=008&amp;category=57478&amp;rd=1&amp;ssPageName=mem_guide:2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image" Target="../media/image2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6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1979640"/>
            <a:ext cx="845964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 oder Versprühen zu rech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(Angaben des Produktherstellers im 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pic>
        <p:nvPicPr>
          <p:cNvPr id="190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7991640" y="3348000"/>
            <a:ext cx="1081080" cy="115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1419120" y="5940360"/>
            <a:ext cx="949320" cy="6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80103142092_1">
            <a:hlinkClick r:id="rId4"/>
          </p:cNvPr>
          <p:cNvPicPr/>
          <p:nvPr/>
        </p:nvPicPr>
        <p:blipFill>
          <a:blip r:embed="rId5"/>
          <a:srcRect l="-5392" t="0" r="0" b="25906"/>
          <a:stretch/>
        </p:blipFill>
        <p:spPr>
          <a:xfrm>
            <a:off x="3052800" y="5940360"/>
            <a:ext cx="784080" cy="64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4599000" y="5940360"/>
            <a:ext cx="73188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8" descr=""/>
          <p:cNvPicPr/>
          <p:nvPr/>
        </p:nvPicPr>
        <p:blipFill>
          <a:blip r:embed="rId7"/>
          <a:stretch/>
        </p:blipFill>
        <p:spPr>
          <a:xfrm>
            <a:off x="7889760" y="5940360"/>
            <a:ext cx="84456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6" descr="Schutzbrille G 30 Gold"/>
          <p:cNvPicPr/>
          <p:nvPr/>
        </p:nvPicPr>
        <p:blipFill>
          <a:blip r:embed="rId8"/>
          <a:stretch/>
        </p:blipFill>
        <p:spPr>
          <a:xfrm>
            <a:off x="6110280" y="5940360"/>
            <a:ext cx="966960" cy="6494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4" descr=""/>
          <p:cNvPicPr/>
          <p:nvPr/>
        </p:nvPicPr>
        <p:blipFill>
          <a:blip r:embed="rId9"/>
          <a:srcRect l="1166" t="0" r="0" b="0"/>
          <a:stretch/>
        </p:blipFill>
        <p:spPr>
          <a:xfrm>
            <a:off x="7778880" y="1979640"/>
            <a:ext cx="12254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4360" y="197964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 mit Verspritzen oder Versprüh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84360" y="475128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1" descr="MD520_A_0214.pdf - Adobe Acrobat Reader DC"/>
          <p:cNvPicPr/>
          <p:nvPr/>
        </p:nvPicPr>
        <p:blipFill>
          <a:blip r:embed="rId1"/>
          <a:srcRect l="10625" t="23837" r="31101" b="7851"/>
          <a:stretch/>
        </p:blipFill>
        <p:spPr>
          <a:xfrm>
            <a:off x="6191280" y="1979640"/>
            <a:ext cx="283356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1" name="Grafik 6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8175600" y="554364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4" descr=""/>
          <p:cNvPicPr/>
          <p:nvPr/>
        </p:nvPicPr>
        <p:blipFill>
          <a:blip r:embed="rId3"/>
          <a:stretch/>
        </p:blipFill>
        <p:spPr>
          <a:xfrm>
            <a:off x="8175600" y="3979800"/>
            <a:ext cx="849240" cy="12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2" descr="Einwegschürzen ca. 35 my aus LDPE in blau in der Frontansicht"/>
          <p:cNvPicPr/>
          <p:nvPr/>
        </p:nvPicPr>
        <p:blipFill>
          <a:blip r:embed="rId4"/>
          <a:srcRect l="35411" t="15723" r="35645" b="1508"/>
          <a:stretch/>
        </p:blipFill>
        <p:spPr>
          <a:xfrm>
            <a:off x="6267600" y="2952720"/>
            <a:ext cx="630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42920" y="5148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3780000" y="4429080"/>
            <a:ext cx="1439640" cy="9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05960" y="4023000"/>
            <a:ext cx="1542240" cy="1515960"/>
            <a:chOff x="6105960" y="4023000"/>
            <a:chExt cx="1542240" cy="1515960"/>
          </a:xfrm>
        </p:grpSpPr>
        <p:pic>
          <p:nvPicPr>
            <p:cNvPr id="211" name="Picture 5" descr="Vorsorgekartei"/>
            <p:cNvPicPr/>
            <p:nvPr/>
          </p:nvPicPr>
          <p:blipFill>
            <a:blip r:embed="rId4"/>
            <a:stretch/>
          </p:blipFill>
          <p:spPr>
            <a:xfrm rot="21300000">
              <a:off x="6156360" y="4060800"/>
              <a:ext cx="9223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Ärztliche Bescheinigung"/>
            <p:cNvPicPr/>
            <p:nvPr/>
          </p:nvPicPr>
          <p:blipFill>
            <a:blip r:embed="rId5"/>
            <a:stretch/>
          </p:blipFill>
          <p:spPr>
            <a:xfrm rot="300000">
              <a:off x="6652800" y="4272120"/>
              <a:ext cx="943560" cy="122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14" name="Grafik 5" descr=""/>
            <p:cNvPicPr/>
            <p:nvPr/>
          </p:nvPicPr>
          <p:blipFill>
            <a:blip r:embed="rId6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Grafik 7" descr=""/>
            <p:cNvPicPr/>
            <p:nvPr/>
          </p:nvPicPr>
          <p:blipFill>
            <a:blip r:embed="rId7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3" descr=""/>
          <p:cNvPicPr/>
          <p:nvPr/>
        </p:nvPicPr>
        <p:blipFill>
          <a:blip r:embed="rId8"/>
          <a:stretch/>
        </p:blipFill>
        <p:spPr>
          <a:xfrm>
            <a:off x="5904000" y="2735280"/>
            <a:ext cx="14716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Rechteck 13" descr=""/>
          <p:cNvPicPr/>
          <p:nvPr/>
        </p:nvPicPr>
        <p:blipFill>
          <a:blip r:embed="rId9"/>
          <a:stretch/>
        </p:blipFill>
        <p:spPr>
          <a:xfrm>
            <a:off x="5499000" y="5327640"/>
            <a:ext cx="277992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Nicht vergessen, das Thema „PSA“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3960720" cy="3522240"/>
            <a:chOff x="682560" y="2421000"/>
            <a:chExt cx="3960720" cy="352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21440"/>
              <a:ext cx="395928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3958920" cy="352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888080" y="4230720"/>
            <a:ext cx="4106520" cy="2158920"/>
            <a:chOff x="4888080" y="4230720"/>
            <a:chExt cx="4106520" cy="215892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888080" y="4287960"/>
              <a:ext cx="410652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2400" y="4230720"/>
              <a:ext cx="410184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3"/>
          <p:cNvSpPr/>
          <p:nvPr/>
        </p:nvSpPr>
        <p:spPr>
          <a:xfrm>
            <a:off x="4886280" y="360036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1102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378560" y="1646280"/>
            <a:ext cx="141156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682560" y="2595600"/>
            <a:ext cx="8413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82560" y="3554280"/>
            <a:ext cx="951120" cy="6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6" descr=""/>
          <p:cNvPicPr/>
          <p:nvPr/>
        </p:nvPicPr>
        <p:blipFill>
          <a:blip r:embed="rId4"/>
          <a:srcRect l="36888" t="4511" r="42819" b="56746"/>
          <a:stretch/>
        </p:blipFill>
        <p:spPr>
          <a:xfrm>
            <a:off x="6993000" y="3768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" descr="Einwegschürzen ca. 35 my aus LDPE in blau in der Frontansicht"/>
          <p:cNvPicPr/>
          <p:nvPr/>
        </p:nvPicPr>
        <p:blipFill>
          <a:blip r:embed="rId5"/>
          <a:srcRect l="35411" t="15723" r="35645" b="1508"/>
          <a:stretch/>
        </p:blipFill>
        <p:spPr>
          <a:xfrm>
            <a:off x="8221680" y="2795760"/>
            <a:ext cx="568440" cy="162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20" descr=""/>
          <p:cNvPicPr/>
          <p:nvPr/>
        </p:nvPicPr>
        <p:blipFill>
          <a:blip r:embed="rId6"/>
          <a:stretch/>
        </p:blipFill>
        <p:spPr>
          <a:xfrm>
            <a:off x="5275440" y="3800520"/>
            <a:ext cx="1287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71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6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81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41:03Z</dcterms:modified>
  <cp:revision>15</cp:revision>
  <dc:subject/>
  <dc:title/>
</cp:coreProperties>
</file>