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BD7F0-FAC0-4C0A-BEDA-7C9D8FEE0FA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09640" y="4894200"/>
            <a:ext cx="3419640" cy="112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4729320" y="3073320"/>
            <a:ext cx="4379760" cy="3570480"/>
            <a:chOff x="4729320" y="3073320"/>
            <a:chExt cx="4379760" cy="3570480"/>
          </a:xfrm>
        </p:grpSpPr>
        <p:pic>
          <p:nvPicPr>
            <p:cNvPr id="190" name="Picture 2" descr=""/>
            <p:cNvPicPr/>
            <p:nvPr/>
          </p:nvPicPr>
          <p:blipFill>
            <a:blip r:embed="rId1"/>
            <a:stretch/>
          </p:blipFill>
          <p:spPr>
            <a:xfrm>
              <a:off x="4754520" y="3130200"/>
              <a:ext cx="435420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4"/>
            <p:cNvSpPr/>
            <p:nvPr/>
          </p:nvSpPr>
          <p:spPr>
            <a:xfrm>
              <a:off x="4729320" y="3073320"/>
              <a:ext cx="4379760" cy="3570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060720" y="2540160"/>
            <a:ext cx="359892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819840" y="1511280"/>
            <a:ext cx="2158920" cy="20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6" descr="und noch mal Hände"/>
          <p:cNvPicPr/>
          <p:nvPr/>
        </p:nvPicPr>
        <p:blipFill>
          <a:blip r:embed="rId3"/>
          <a:stretch/>
        </p:blipFill>
        <p:spPr>
          <a:xfrm>
            <a:off x="716040" y="4017960"/>
            <a:ext cx="2158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3" descr=""/>
          <p:cNvPicPr/>
          <p:nvPr/>
        </p:nvPicPr>
        <p:blipFill>
          <a:blip r:embed="rId4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76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25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Grafik 3" descr=""/>
          <p:cNvPicPr/>
          <p:nvPr/>
        </p:nvPicPr>
        <p:blipFill>
          <a:blip r:embed="rId1"/>
          <a:stretch/>
        </p:blipFill>
        <p:spPr>
          <a:xfrm>
            <a:off x="5734080" y="3676680"/>
            <a:ext cx="3375000" cy="2952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08:21:46Z</dcterms:modified>
  <cp:revision>9</cp:revision>
  <dc:subject/>
  <dc:title/>
</cp:coreProperties>
</file>