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3013F-13D6-41EE-9C12-D17CB977B51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 Blut 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401840" y="292572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epatitis-B-Viren (H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401840" y="418140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epatitis-C-Viren (HC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401840" y="539100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I-Viren (HIV/A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4468680" y="2997360"/>
            <a:ext cx="3630600" cy="1439640"/>
            <a:chOff x="4468680" y="2997360"/>
            <a:chExt cx="3630600" cy="1439640"/>
          </a:xfrm>
        </p:grpSpPr>
        <p:sp>
          <p:nvSpPr>
            <p:cNvPr id="178" name="Text Box 8"/>
            <p:cNvSpPr/>
            <p:nvPr/>
          </p:nvSpPr>
          <p:spPr>
            <a:xfrm>
              <a:off x="49323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44686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0"/>
          <p:cNvGrpSpPr/>
          <p:nvPr/>
        </p:nvGrpSpPr>
        <p:grpSpPr>
          <a:xfrm>
            <a:off x="4465800" y="4437000"/>
            <a:ext cx="3633480" cy="1440000"/>
            <a:chOff x="4465800" y="4437000"/>
            <a:chExt cx="3633480" cy="1440000"/>
          </a:xfrm>
        </p:grpSpPr>
        <p:sp>
          <p:nvSpPr>
            <p:cNvPr id="181" name="Text Box 11"/>
            <p:cNvSpPr/>
            <p:nvPr/>
          </p:nvSpPr>
          <p:spPr>
            <a:xfrm>
              <a:off x="493236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446580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682560" y="3122640"/>
            <a:ext cx="8461440" cy="27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rekter Konta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Blut, Speichel oder an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tenziel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ösen Sekr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pritz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Blut, Speichel, Sekreten aus Nase und Rachen auf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akte oder verletz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 oder Schleim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uppieren 1"/>
          <p:cNvGrpSpPr/>
          <p:nvPr/>
        </p:nvGrpSpPr>
        <p:grpSpPr>
          <a:xfrm>
            <a:off x="1571760" y="3672000"/>
            <a:ext cx="6683040" cy="1439640"/>
            <a:chOff x="1571760" y="3672000"/>
            <a:chExt cx="6683040" cy="1439640"/>
          </a:xfrm>
        </p:grpSpPr>
        <p:pic>
          <p:nvPicPr>
            <p:cNvPr id="185" name="Grafik 1" descr="Hager &amp; Werken online :: Miramatic® Spritzen - Windows Internet Explorer"/>
            <p:cNvPicPr/>
            <p:nvPr/>
          </p:nvPicPr>
          <p:blipFill>
            <a:blip r:embed="rId1"/>
            <a:srcRect l="32994" t="41633" r="36143" b="42502"/>
            <a:stretch/>
          </p:blipFill>
          <p:spPr>
            <a:xfrm>
              <a:off x="1571760" y="3917160"/>
              <a:ext cx="2553840" cy="968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86" name="Group 9"/>
            <p:cNvGrpSpPr/>
            <p:nvPr/>
          </p:nvGrpSpPr>
          <p:grpSpPr>
            <a:xfrm>
              <a:off x="4408200" y="3672000"/>
              <a:ext cx="3846600" cy="1439640"/>
              <a:chOff x="4408200" y="3672000"/>
              <a:chExt cx="3846600" cy="1439640"/>
            </a:xfrm>
          </p:grpSpPr>
          <p:pic>
            <p:nvPicPr>
              <p:cNvPr id="187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2920" y="4393080"/>
                <a:ext cx="1810080" cy="71820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  <p:pic>
            <p:nvPicPr>
              <p:cNvPr id="188" name="Picture 10" descr="Healozone/Mund"/>
              <p:cNvPicPr/>
              <p:nvPr/>
            </p:nvPicPr>
            <p:blipFill>
              <a:blip r:embed="rId3"/>
              <a:stretch/>
            </p:blipFill>
            <p:spPr>
              <a:xfrm>
                <a:off x="6459480" y="3672000"/>
                <a:ext cx="1795320" cy="72108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  <p:pic>
            <p:nvPicPr>
              <p:cNvPr id="189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4408200" y="3672000"/>
                <a:ext cx="2044440" cy="143964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</p:grpSp>
      </p:grpSp>
      <p:sp>
        <p:nvSpPr>
          <p:cNvPr id="190" name="Text Box 6"/>
          <p:cNvSpPr/>
          <p:nvPr/>
        </p:nvSpPr>
        <p:spPr>
          <a:xfrm>
            <a:off x="682560" y="5975280"/>
            <a:ext cx="84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Indirekte Übertrag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. B. über kontaminierte Instrumente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technische Materialien, Werkstücke oder Hä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  <a:ea typeface="Arial"/>
              </a:rPr>
              <a:t>Übertragungswe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in der Zahnarzt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84360" y="1979640"/>
            <a:ext cx="84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eroso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it kontaminiertem Wasser aus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andlungseinheiten bzw. aus dem Mundraum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</a:t>
            </a: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Dentaler Spraynebel-Rückp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2" descr=""/>
          <p:cNvPicPr/>
          <p:nvPr/>
        </p:nvPicPr>
        <p:blipFill>
          <a:blip r:embed="rId5"/>
          <a:stretch/>
        </p:blipFill>
        <p:spPr>
          <a:xfrm>
            <a:off x="7559640" y="1682640"/>
            <a:ext cx="101592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1139760" y="1987560"/>
            <a:ext cx="314964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Betriebsan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433760" y="1979640"/>
            <a:ext cx="4140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bereich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offb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halten bei 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433760" y="51181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 (Doku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6207120" y="425448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Grafik 6" descr=""/>
          <p:cNvPicPr/>
          <p:nvPr/>
        </p:nvPicPr>
        <p:blipFill>
          <a:blip r:embed="rId2"/>
          <a:stretch/>
        </p:blipFill>
        <p:spPr>
          <a:xfrm>
            <a:off x="7547040" y="5877000"/>
            <a:ext cx="89856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Behandlungs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661000" y="2160720"/>
            <a:ext cx="309240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3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uppieren 11"/>
          <p:cNvGrpSpPr/>
          <p:nvPr/>
        </p:nvGrpSpPr>
        <p:grpSpPr>
          <a:xfrm>
            <a:off x="684360" y="1747800"/>
            <a:ext cx="6967440" cy="1139760"/>
            <a:chOff x="684360" y="1747800"/>
            <a:chExt cx="6967440" cy="1139760"/>
          </a:xfrm>
        </p:grpSpPr>
        <p:pic>
          <p:nvPicPr>
            <p:cNvPr id="205" name="Rechteck 14" descr=""/>
            <p:cNvPicPr/>
            <p:nvPr/>
          </p:nvPicPr>
          <p:blipFill>
            <a:blip r:embed="rId1"/>
            <a:stretch/>
          </p:blipFill>
          <p:spPr>
            <a:xfrm>
              <a:off x="1493640" y="1747800"/>
              <a:ext cx="6158160" cy="5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Grafik 6" descr=""/>
            <p:cNvPicPr/>
            <p:nvPr/>
          </p:nvPicPr>
          <p:blipFill>
            <a:blip r:embed="rId2"/>
            <a:stretch/>
          </p:blipFill>
          <p:spPr>
            <a:xfrm>
              <a:off x="684360" y="2428200"/>
              <a:ext cx="5401080" cy="459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itere Informationen un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afik 5" descr=""/>
          <p:cNvPicPr/>
          <p:nvPr/>
        </p:nvPicPr>
        <p:blipFill>
          <a:blip r:embed="rId3"/>
          <a:stretch/>
        </p:blipFill>
        <p:spPr>
          <a:xfrm>
            <a:off x="684360" y="2952720"/>
            <a:ext cx="4679640" cy="38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Bio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826920" y="2259000"/>
            <a:ext cx="3024360" cy="4392720"/>
            <a:chOff x="826920" y="2259000"/>
            <a:chExt cx="3024360" cy="4392720"/>
          </a:xfrm>
        </p:grpSpPr>
        <p:pic>
          <p:nvPicPr>
            <p:cNvPr id="211" name="Picture 4" descr=""/>
            <p:cNvPicPr/>
            <p:nvPr/>
          </p:nvPicPr>
          <p:blipFill>
            <a:blip r:embed="rId1"/>
            <a:stretch/>
          </p:blipFill>
          <p:spPr>
            <a:xfrm>
              <a:off x="900000" y="2333880"/>
              <a:ext cx="2940120" cy="43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5"/>
            <p:cNvSpPr/>
            <p:nvPr/>
          </p:nvSpPr>
          <p:spPr>
            <a:xfrm>
              <a:off x="826920" y="2259000"/>
              <a:ext cx="3024360" cy="4392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6"/>
          <p:cNvGrpSpPr/>
          <p:nvPr/>
        </p:nvGrpSpPr>
        <p:grpSpPr>
          <a:xfrm>
            <a:off x="4067280" y="3699000"/>
            <a:ext cx="4967280" cy="2952720"/>
            <a:chOff x="4067280" y="3699000"/>
            <a:chExt cx="4967280" cy="2952720"/>
          </a:xfrm>
        </p:grpSpPr>
        <p:pic>
          <p:nvPicPr>
            <p:cNvPr id="214" name="Picture 7" descr=""/>
            <p:cNvPicPr/>
            <p:nvPr/>
          </p:nvPicPr>
          <p:blipFill>
            <a:blip r:embed="rId2"/>
            <a:stretch/>
          </p:blipFill>
          <p:spPr>
            <a:xfrm>
              <a:off x="4106880" y="3770280"/>
              <a:ext cx="485784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8"/>
            <p:cNvSpPr/>
            <p:nvPr/>
          </p:nvSpPr>
          <p:spPr>
            <a:xfrm>
              <a:off x="4067280" y="3699000"/>
              <a:ext cx="4967280" cy="2952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13" descr=""/>
          <p:cNvPicPr/>
          <p:nvPr/>
        </p:nvPicPr>
        <p:blipFill>
          <a:blip r:embed="rId3"/>
          <a:srcRect l="0" t="0" r="0" b="21766"/>
          <a:stretch/>
        </p:blipFill>
        <p:spPr>
          <a:xfrm>
            <a:off x="4078440" y="2259000"/>
            <a:ext cx="426384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7" name="Rechteck 12"/>
          <p:cNvSpPr/>
          <p:nvPr/>
        </p:nvSpPr>
        <p:spPr>
          <a:xfrm>
            <a:off x="4067280" y="3117960"/>
            <a:ext cx="2092320" cy="4363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8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o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Tätig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trag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Behandlungs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440320" y="62784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Quelle: BG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pieren 1"/>
          <p:cNvGrpSpPr/>
          <p:nvPr/>
        </p:nvGrpSpPr>
        <p:grpSpPr>
          <a:xfrm>
            <a:off x="1100160" y="1800360"/>
            <a:ext cx="5040360" cy="2528640"/>
            <a:chOff x="1100160" y="1800360"/>
            <a:chExt cx="5040360" cy="2528640"/>
          </a:xfrm>
        </p:grpSpPr>
        <p:pic>
          <p:nvPicPr>
            <p:cNvPr id="144" name="Picture 2" descr="LIA.nrw - Biostoffe"/>
            <p:cNvPicPr/>
            <p:nvPr/>
          </p:nvPicPr>
          <p:blipFill>
            <a:blip r:embed="rId1"/>
            <a:stretch/>
          </p:blipFill>
          <p:spPr>
            <a:xfrm>
              <a:off x="1100160" y="1800360"/>
              <a:ext cx="5040360" cy="252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5" name="Grafik 3" descr=""/>
            <p:cNvPicPr/>
            <p:nvPr/>
          </p:nvPicPr>
          <p:blipFill>
            <a:blip r:embed="rId2"/>
            <a:srcRect l="73190" t="90031" r="0" b="1776"/>
            <a:stretch/>
          </p:blipFill>
          <p:spPr>
            <a:xfrm>
              <a:off x="4699080" y="4088880"/>
              <a:ext cx="131616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9"/>
          <p:cNvGrpSpPr/>
          <p:nvPr/>
        </p:nvGrpSpPr>
        <p:grpSpPr>
          <a:xfrm>
            <a:off x="3511440" y="4535640"/>
            <a:ext cx="5038560" cy="1942560"/>
            <a:chOff x="3511440" y="4535640"/>
            <a:chExt cx="5038560" cy="1942560"/>
          </a:xfrm>
        </p:grpSpPr>
        <p:pic>
          <p:nvPicPr>
            <p:cNvPr id="147" name="Picture 12" descr=""/>
            <p:cNvPicPr/>
            <p:nvPr/>
          </p:nvPicPr>
          <p:blipFill>
            <a:blip r:embed="rId3"/>
            <a:stretch/>
          </p:blipFill>
          <p:spPr>
            <a:xfrm>
              <a:off x="6176880" y="5507280"/>
              <a:ext cx="2370960" cy="97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8" name="Picture 10" descr="Healozone/Mund"/>
            <p:cNvPicPr/>
            <p:nvPr/>
          </p:nvPicPr>
          <p:blipFill>
            <a:blip r:embed="rId4"/>
            <a:stretch/>
          </p:blipFill>
          <p:spPr>
            <a:xfrm>
              <a:off x="6198120" y="4535640"/>
              <a:ext cx="2351880" cy="9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9" name="Picture 11" descr=""/>
            <p:cNvPicPr/>
            <p:nvPr/>
          </p:nvPicPr>
          <p:blipFill>
            <a:blip r:embed="rId5"/>
            <a:stretch/>
          </p:blipFill>
          <p:spPr>
            <a:xfrm>
              <a:off x="3511440" y="4535640"/>
              <a:ext cx="2678040" cy="194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150" name="Picture 4" descr="Warnschild Warnung vor Biogefährdung, ASR/ISO, Folie | kroschke.com"/>
          <p:cNvPicPr/>
          <p:nvPr/>
        </p:nvPicPr>
        <p:blipFill>
          <a:blip r:embed="rId6"/>
          <a:stretch/>
        </p:blipFill>
        <p:spPr>
          <a:xfrm>
            <a:off x="1273320" y="4857840"/>
            <a:ext cx="1800000" cy="16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verordnung (BioStoff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967200" y="2351160"/>
            <a:ext cx="50036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gruppen für 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zielte und nicht geziel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medizinische Vors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" descr="BioStoffV.pdf - Adobe Reader"/>
          <p:cNvPicPr/>
          <p:nvPr/>
        </p:nvPicPr>
        <p:blipFill>
          <a:blip r:embed="rId1"/>
          <a:srcRect l="33959" t="8943" r="32292" b="2258"/>
          <a:stretch/>
        </p:blipFill>
        <p:spPr>
          <a:xfrm>
            <a:off x="795240" y="2205000"/>
            <a:ext cx="30099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4360" y="1978200"/>
            <a:ext cx="845964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kroorganismen, Zellkulturen und Endoparasiten, die be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nschen Infektionen oder sensibilisierende bzw. toxisc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Wirkungen hervorruf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ögliche Infektions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Bakte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i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Einzeller / Paras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r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werden entsprechend dem von ihnen ausgehend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Infektionsrisiko i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4 Risikogrupp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ngete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Risiko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978200"/>
            <a:ext cx="84596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Blut übertragbare 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B-Viren (HB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**: Keine Luftweg-Übertra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C-Viren (HC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IV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direkten oder indirekten Kontakt übertrage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reger w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Herpes-simplex-Vir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taphylokokk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Tröpfchen übertragene Erreger w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ycobakterium tuberculosis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4360" y="1978200"/>
            <a:ext cx="84596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ätigkeiten in einer Zahnarztpraxis sind grundsätzlich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gezielte Tätigkeiten der Risikogruppe 2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estu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zu gehört auch die Behandlung von HIV- oder HBV-infizier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Es sei denn, es wird mit starkem Verspritzen ge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der Risikogruppe leitet sich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stufe mit d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ntsprechenden 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Labor"/>
          <p:cNvPicPr/>
          <p:nvPr/>
        </p:nvPicPr>
        <p:blipFill>
          <a:blip r:embed="rId1"/>
          <a:stretch/>
        </p:blipFill>
        <p:spPr>
          <a:xfrm>
            <a:off x="6500880" y="4579920"/>
            <a:ext cx="2122560" cy="15667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6173640" y="6164280"/>
            <a:ext cx="27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zielte Tä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154560" y="4157640"/>
            <a:ext cx="29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rankenhau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1332000" y="4102200"/>
            <a:ext cx="3355920" cy="2568960"/>
            <a:chOff x="1332000" y="4102200"/>
            <a:chExt cx="3355920" cy="2568960"/>
          </a:xfrm>
        </p:grpSpPr>
        <p:sp>
          <p:nvSpPr>
            <p:cNvPr id="165" name="Text Box 13"/>
            <p:cNvSpPr/>
            <p:nvPr/>
          </p:nvSpPr>
          <p:spPr>
            <a:xfrm>
              <a:off x="1332000" y="6272280"/>
              <a:ext cx="335592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Nicht gezielte Tätigkei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1908000" y="410220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70c0"/>
                  </a:solidFill>
                  <a:latin typeface="Arial"/>
                </a:rPr>
                <a:t>Zahnarztprax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826920" y="4105440"/>
            <a:ext cx="4392720" cy="26650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7"/>
          <p:cNvSpPr/>
          <p:nvPr/>
        </p:nvSpPr>
        <p:spPr>
          <a:xfrm>
            <a:off x="5357880" y="5091120"/>
            <a:ext cx="1008000" cy="539640"/>
          </a:xfrm>
          <a:prstGeom prst="leftRightArrow">
            <a:avLst>
              <a:gd name="adj1" fmla="val 50000"/>
              <a:gd name="adj2" fmla="val 40073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2"/>
          <a:stretch/>
        </p:blipFill>
        <p:spPr>
          <a:xfrm>
            <a:off x="3139920" y="5361120"/>
            <a:ext cx="1944720" cy="80964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0" name="Picture 10" descr="Healozone/Mund"/>
          <p:cNvPicPr/>
          <p:nvPr/>
        </p:nvPicPr>
        <p:blipFill>
          <a:blip r:embed="rId3"/>
          <a:stretch/>
        </p:blipFill>
        <p:spPr>
          <a:xfrm>
            <a:off x="3157560" y="4551480"/>
            <a:ext cx="1928880" cy="80964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1" name="Picture 11" descr=""/>
          <p:cNvPicPr/>
          <p:nvPr/>
        </p:nvPicPr>
        <p:blipFill>
          <a:blip r:embed="rId4"/>
          <a:stretch/>
        </p:blipFill>
        <p:spPr>
          <a:xfrm>
            <a:off x="955800" y="4551480"/>
            <a:ext cx="2195280" cy="16192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4-08-07T05:38:41Z</dcterms:modified>
  <cp:revision>11</cp:revision>
  <dc:subject/>
  <dc:title/>
</cp:coreProperties>
</file>