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ABD62-E151-44DF-8CD4-DD280106BD1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chutz &amp; Unfallverhü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Grafik 4" descr=""/>
          <p:cNvPicPr/>
          <p:nvPr/>
        </p:nvPicPr>
        <p:blipFill>
          <a:blip r:embed="rId1"/>
          <a:stretch/>
        </p:blipFill>
        <p:spPr>
          <a:xfrm>
            <a:off x="4643280" y="1619280"/>
            <a:ext cx="4380120" cy="32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Grafik 1" descr="Unterweisungserklaerung [Kompatibilitätsmodus] - Microsoft Word"/>
          <p:cNvPicPr/>
          <p:nvPr/>
        </p:nvPicPr>
        <p:blipFill>
          <a:blip r:embed="rId2"/>
          <a:srcRect l="8303" t="4842" r="59528" b="3725"/>
          <a:stretch/>
        </p:blipFill>
        <p:spPr>
          <a:xfrm>
            <a:off x="809640" y="1535040"/>
            <a:ext cx="342108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809640" y="4894200"/>
            <a:ext cx="3419640" cy="112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633920" y="5021280"/>
            <a:ext cx="440208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weisungsmodule: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ateien im *.pdf und *.ppt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1" descr=""/>
          <p:cNvPicPr/>
          <p:nvPr/>
        </p:nvPicPr>
        <p:blipFill>
          <a:blip r:embed="rId3"/>
          <a:stretch/>
        </p:blipFill>
        <p:spPr>
          <a:xfrm>
            <a:off x="8408880" y="5850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684360" y="971640"/>
            <a:ext cx="84596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ersonenbezogene Festl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1" descr="Unterweisungserklaerung [Kompatibilitätsmodus] - Microsoft Word"/>
          <p:cNvPicPr/>
          <p:nvPr/>
        </p:nvPicPr>
        <p:blipFill>
          <a:blip r:embed="rId1"/>
          <a:srcRect l="14433" t="19128" r="13869" b="4008"/>
          <a:stretch/>
        </p:blipFill>
        <p:spPr>
          <a:xfrm>
            <a:off x="973080" y="2224080"/>
            <a:ext cx="719784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Grafik 11" descr=""/>
          <p:cNvPicPr/>
          <p:nvPr/>
        </p:nvPicPr>
        <p:blipFill>
          <a:blip r:embed="rId2"/>
          <a:stretch/>
        </p:blipFill>
        <p:spPr>
          <a:xfrm>
            <a:off x="8427960" y="5807160"/>
            <a:ext cx="62712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684360" y="1127160"/>
            <a:ext cx="84596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für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Unterweisun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steht die folgende Checkliste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5"/>
          <p:cNvGrpSpPr/>
          <p:nvPr/>
        </p:nvGrpSpPr>
        <p:grpSpPr>
          <a:xfrm>
            <a:off x="4729320" y="3073320"/>
            <a:ext cx="4379760" cy="3570480"/>
            <a:chOff x="4729320" y="3073320"/>
            <a:chExt cx="4379760" cy="357048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4754520" y="3130200"/>
              <a:ext cx="4354200" cy="345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4"/>
            <p:cNvSpPr/>
            <p:nvPr/>
          </p:nvSpPr>
          <p:spPr>
            <a:xfrm>
              <a:off x="4729320" y="3073320"/>
              <a:ext cx="4379760" cy="3570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13" descr=""/>
          <p:cNvPicPr/>
          <p:nvPr/>
        </p:nvPicPr>
        <p:blipFill>
          <a:blip r:embed="rId2"/>
          <a:stretch/>
        </p:blipFill>
        <p:spPr>
          <a:xfrm>
            <a:off x="685800" y="1924200"/>
            <a:ext cx="421164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Rechteck 9"/>
          <p:cNvSpPr/>
          <p:nvPr/>
        </p:nvSpPr>
        <p:spPr>
          <a:xfrm>
            <a:off x="684360" y="310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215892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einer Praxis haben alle der Arbeitssicherh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enden Maßnahmen zu unterstützen und sind verpflichtet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der Praxisinhaberin/des Praxisinhabers zum Zweck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Unfallverhütung zu befolgen, es sei denn, es handelt sich 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, die offensichtlich unbegründ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zur Verfügung gestellte persönliche Schutzausrüst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haben Einrichtungen, Arbeitsmittel und Arbeitsstoff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ie Schutzvorrichtungen bestimmungsgemäß und im Rah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hnen übertragenen Arbeitsaufgaben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84360" y="215892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haben der Praxisinhaberin/dem Praxisinha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 von ihnen festgestellte unmittelbare erhebliche Gefahr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cherheit und Gesundheit sowie jeden an den Schutzvo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chtungen und Schutzsystemen festgestellten Defe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verzüglich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sicherten haben die Maßnahmen zur Verhüt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sowie für eine wirksame Erste Hilf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en. Versicherte haben die entsprech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des Unternehmers zu befolgen. Die Versicher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ürfen erkennbar gegen Sicherheit und Gesundheit gerichte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nicht be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84360" y="2158920"/>
            <a:ext cx="84596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dürfen sich durch den Konsum von Alkohol, Dro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nderen berauschenden Mitteln (inkl. Medikamente) nich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n Zu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etzen, durch den sie sich selbst oder and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Verhalten bei Arbeitsunfällen und Notfallsituationen ist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en und die Erste-Hilfe-Organisation in der Praxis is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 bekannt zu m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Beschäftigten ist die Bedeutung von Sicherheit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schutzkennzeichnung in der Praxis zu erläu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684360" y="21589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ein Beschäftigter fest, dass im Hinblick auf die Verhü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ein Arbeitsmittel oder eine sonst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n Mangel aufweist, Arbeitsstoffe nicht einwa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 verpackt, gekennzeichnet oder beschaffen sind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erfahren oder Arbeitsabläufe Mängel aufweisen hat er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eit dies zu seiner Arbeitsaufgabe gehört und er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 Befähigung verfügt, den festgestellten Mangel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potenzial unverzüglich zu beseitigen. Andernfalls ha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 den Mangel dem Praxisinhaber unverzüglic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4360" y="2158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den einzelnen Unfallverhütungsvorschriften enthalte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nahmen sind zu beachten und einzu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46200" y="32385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Unfallverhütungsvorschriften sind im Kapitel „1.6 Unfall-verhütungsvorschriften und Technische Regeln“ über die Schaltfläche „1. Gesetze und Rechtliche Grundlagen“ im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-Handbuch in ihrem Wortlaut nachzu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8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68444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sätze des Arbeitsschutzes und der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schutz und Unfallverhü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981080" y="1897200"/>
            <a:ext cx="5399280" cy="491652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3" descr=""/>
          <p:cNvPicPr/>
          <p:nvPr/>
        </p:nvPicPr>
        <p:blipFill>
          <a:blip r:embed="rId2"/>
          <a:srcRect l="5221" t="5582" r="288" b="0"/>
          <a:stretch/>
        </p:blipFill>
        <p:spPr>
          <a:xfrm>
            <a:off x="4370400" y="5261040"/>
            <a:ext cx="3774960" cy="14540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3060720" y="2540160"/>
            <a:ext cx="3598920" cy="23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6819840" y="1511280"/>
            <a:ext cx="2158920" cy="20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Picture 6" descr="und noch mal Hände"/>
          <p:cNvPicPr/>
          <p:nvPr/>
        </p:nvPicPr>
        <p:blipFill>
          <a:blip r:embed="rId3"/>
          <a:stretch/>
        </p:blipFill>
        <p:spPr>
          <a:xfrm>
            <a:off x="716040" y="4017960"/>
            <a:ext cx="215892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Grafik 3" descr=""/>
          <p:cNvPicPr/>
          <p:nvPr/>
        </p:nvPicPr>
        <p:blipFill>
          <a:blip r:embed="rId4"/>
          <a:stretch/>
        </p:blipFill>
        <p:spPr>
          <a:xfrm>
            <a:off x="3002040" y="1584360"/>
            <a:ext cx="369396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8"/>
          <p:cNvSpPr/>
          <p:nvPr/>
        </p:nvSpPr>
        <p:spPr>
          <a:xfrm>
            <a:off x="747720" y="2415240"/>
            <a:ext cx="8186760" cy="4590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Die Unterweisung umfasst praxisinterne Anweisungen und Erläuterungen, die eigens auf den Arbeitsplatz oder den Aufgabenbereich der Beschäftigten ausgerichtet s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3"/>
          <p:cNvSpPr/>
          <p:nvPr/>
        </p:nvSpPr>
        <p:spPr>
          <a:xfrm>
            <a:off x="749160" y="1564920"/>
            <a:ext cx="81853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7"/>
          <p:cNvSpPr/>
          <p:nvPr/>
        </p:nvSpPr>
        <p:spPr>
          <a:xfrm>
            <a:off x="773280" y="4642920"/>
            <a:ext cx="249228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Arbeitsauf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feil: nach rechts 9"/>
          <p:cNvSpPr/>
          <p:nvPr/>
        </p:nvSpPr>
        <p:spPr>
          <a:xfrm rot="5400000">
            <a:off x="1940760" y="4043160"/>
            <a:ext cx="222480" cy="631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8"/>
          <p:cNvSpPr/>
          <p:nvPr/>
        </p:nvSpPr>
        <p:spPr>
          <a:xfrm>
            <a:off x="3633840" y="4523040"/>
            <a:ext cx="2592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i wesentlichen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19"/>
          <p:cNvSpPr/>
          <p:nvPr/>
        </p:nvSpPr>
        <p:spPr>
          <a:xfrm>
            <a:off x="6442200" y="4523040"/>
            <a:ext cx="249228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gelmäßig einma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5"/>
          <p:cNvSpPr/>
          <p:nvPr/>
        </p:nvSpPr>
        <p:spPr>
          <a:xfrm rot="5400000">
            <a:off x="4622760" y="5737320"/>
            <a:ext cx="612720" cy="3967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2"/>
          <p:cNvSpPr/>
          <p:nvPr/>
        </p:nvSpPr>
        <p:spPr>
          <a:xfrm>
            <a:off x="934920" y="52182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st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12"/>
          <p:cNvSpPr/>
          <p:nvPr/>
        </p:nvSpPr>
        <p:spPr>
          <a:xfrm>
            <a:off x="3630600" y="511020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ues Arbeitsverfahren, neue Geräte, neue Regelwerke, …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3"/>
          <p:cNvSpPr/>
          <p:nvPr/>
        </p:nvSpPr>
        <p:spPr>
          <a:xfrm>
            <a:off x="6432480" y="5103720"/>
            <a:ext cx="25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sicht: Jugendliche zwischen 15-17 Jahren: halbjähr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5"/>
          <p:cNvSpPr/>
          <p:nvPr/>
        </p:nvSpPr>
        <p:spPr>
          <a:xfrm>
            <a:off x="739800" y="3272400"/>
            <a:ext cx="81835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Wer darf die Unterweisungen durchfü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15"/>
          <p:cNvSpPr/>
          <p:nvPr/>
        </p:nvSpPr>
        <p:spPr>
          <a:xfrm rot="5400000">
            <a:off x="4562280" y="1808280"/>
            <a:ext cx="298440" cy="739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feld 16"/>
          <p:cNvSpPr/>
          <p:nvPr/>
        </p:nvSpPr>
        <p:spPr>
          <a:xfrm>
            <a:off x="773280" y="6301080"/>
            <a:ext cx="8161200" cy="3373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kumentation der Mitarbeiter-Unter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feil: nach rechts 17"/>
          <p:cNvSpPr/>
          <p:nvPr/>
        </p:nvSpPr>
        <p:spPr>
          <a:xfrm rot="5400000">
            <a:off x="1707840" y="5730840"/>
            <a:ext cx="622440" cy="396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feil: nach rechts 21"/>
          <p:cNvSpPr/>
          <p:nvPr/>
        </p:nvSpPr>
        <p:spPr>
          <a:xfrm rot="5400000">
            <a:off x="7380720" y="572040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afik 12" descr=""/>
          <p:cNvPicPr/>
          <p:nvPr/>
        </p:nvPicPr>
        <p:blipFill>
          <a:blip r:embed="rId1"/>
          <a:stretch/>
        </p:blipFill>
        <p:spPr>
          <a:xfrm>
            <a:off x="8637480" y="595296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70" name="Textfeld 23"/>
          <p:cNvSpPr/>
          <p:nvPr/>
        </p:nvSpPr>
        <p:spPr>
          <a:xfrm>
            <a:off x="749160" y="3756240"/>
            <a:ext cx="818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raxisinhaber*in + fachkundige und zuverlässige Praxismitarbeiter*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24"/>
          <p:cNvSpPr/>
          <p:nvPr/>
        </p:nvSpPr>
        <p:spPr>
          <a:xfrm rot="5400000">
            <a:off x="4619520" y="3979440"/>
            <a:ext cx="222120" cy="632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feil: nach rechts 28"/>
          <p:cNvSpPr/>
          <p:nvPr/>
        </p:nvSpPr>
        <p:spPr>
          <a:xfrm rot="5400000">
            <a:off x="7611120" y="4034520"/>
            <a:ext cx="222480" cy="633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1"/>
          <p:cNvSpPr/>
          <p:nvPr/>
        </p:nvSpPr>
        <p:spPr>
          <a:xfrm>
            <a:off x="2205000" y="562608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bewahrung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 Jahre; nach dem Ausscheiden des Mitarbeiters noch weitere 5 Jah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feil: nach rechts 10"/>
          <p:cNvSpPr/>
          <p:nvPr/>
        </p:nvSpPr>
        <p:spPr>
          <a:xfrm rot="5400000">
            <a:off x="4579920" y="2728800"/>
            <a:ext cx="299880" cy="73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Grafik 3" descr=""/>
          <p:cNvPicPr/>
          <p:nvPr/>
        </p:nvPicPr>
        <p:blipFill>
          <a:blip r:embed="rId1"/>
          <a:stretch/>
        </p:blipFill>
        <p:spPr>
          <a:xfrm>
            <a:off x="5734080" y="3676680"/>
            <a:ext cx="3375000" cy="29527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In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4360" y="180036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 + Allgemeine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medizinische Vorsorge und 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beschränkungen- und -ver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se der Gefährdungsbeurtei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4-08-07T05:31:37Z</dcterms:modified>
  <cp:revision>7</cp:revision>
  <dc:subject/>
  <dc:title/>
</cp:coreProperties>
</file>