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BEF52-0E4B-4960-A76C-1A8E9FC1B7C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08EF8-F483-4D70-88E3-FDDAC77AB5C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301C3-3032-4026-AA80-6C07A2420B8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Hygiene und Medizinprodukte-Aufbe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29160" y="5695920"/>
            <a:ext cx="9003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"/>
          <p:cNvGrpSpPr/>
          <p:nvPr/>
        </p:nvGrpSpPr>
        <p:grpSpPr>
          <a:xfrm>
            <a:off x="719280" y="2421000"/>
            <a:ext cx="4033800" cy="3240000"/>
            <a:chOff x="719280" y="2421000"/>
            <a:chExt cx="4033800" cy="324000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757080" y="2517840"/>
              <a:ext cx="39592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5"/>
            <p:cNvSpPr/>
            <p:nvPr/>
          </p:nvSpPr>
          <p:spPr>
            <a:xfrm>
              <a:off x="719280" y="2421000"/>
              <a:ext cx="4033800" cy="324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"/>
          <p:cNvGrpSpPr/>
          <p:nvPr/>
        </p:nvGrpSpPr>
        <p:grpSpPr>
          <a:xfrm>
            <a:off x="4894200" y="3978360"/>
            <a:ext cx="4033800" cy="2232000"/>
            <a:chOff x="4894200" y="3978360"/>
            <a:chExt cx="4033800" cy="2232000"/>
          </a:xfrm>
        </p:grpSpPr>
        <p:pic>
          <p:nvPicPr>
            <p:cNvPr id="165" name="Picture 7" descr=""/>
            <p:cNvPicPr/>
            <p:nvPr/>
          </p:nvPicPr>
          <p:blipFill>
            <a:blip r:embed="rId2"/>
            <a:stretch/>
          </p:blipFill>
          <p:spPr>
            <a:xfrm>
              <a:off x="4929120" y="4038480"/>
              <a:ext cx="3959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8"/>
            <p:cNvSpPr/>
            <p:nvPr/>
          </p:nvSpPr>
          <p:spPr>
            <a:xfrm>
              <a:off x="4894200" y="3978360"/>
              <a:ext cx="403380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1128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Rechteck 2"/>
          <p:cNvSpPr/>
          <p:nvPr/>
        </p:nvSpPr>
        <p:spPr>
          <a:xfrm>
            <a:off x="4894200" y="3224160"/>
            <a:ext cx="1406520" cy="40968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4-08-07T06:14:54Z</dcterms:modified>
  <cp:revision>15</cp:revision>
  <dc:subject/>
  <dc:title/>
</cp:coreProperties>
</file>