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FCC7C-D7A4-4977-8F84-19A260204C9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4-08-07T05:44:19Z</dcterms:modified>
  <cp:revision>11</cp:revision>
  <dc:subject/>
  <dc:title/>
</cp:coreProperties>
</file>