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31.png" ContentType="image/png"/>
  <Override PartName="/ppt/media/image12.png" ContentType="image/png"/>
  <Override PartName="/ppt/media/image20.jpeg" ContentType="image/jpeg"/>
  <Override PartName="/ppt/media/image36.png" ContentType="image/png"/>
  <Override PartName="/ppt/media/image40.png" ContentType="image/png"/>
  <Override PartName="/ppt/media/image42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6D49F-4DE9-4982-9C79-97891AE9877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1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medizinische Vors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Immun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12040" cy="4403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7248600" y="2068560"/>
            <a:ext cx="93348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741840" y="2068560"/>
            <a:ext cx="133020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feld 1"/>
          <p:cNvSpPr/>
          <p:nvPr/>
        </p:nvSpPr>
        <p:spPr>
          <a:xfrm>
            <a:off x="1028880" y="201024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feil: nach rechts 2"/>
          <p:cNvSpPr/>
          <p:nvPr/>
        </p:nvSpPr>
        <p:spPr>
          <a:xfrm rot="5400000">
            <a:off x="4496040" y="264204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feld 4"/>
          <p:cNvSpPr/>
          <p:nvPr/>
        </p:nvSpPr>
        <p:spPr>
          <a:xfrm>
            <a:off x="1028880" y="327564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feil: nach rechts 6"/>
          <p:cNvSpPr/>
          <p:nvPr/>
        </p:nvSpPr>
        <p:spPr>
          <a:xfrm rot="5400000">
            <a:off x="4527000" y="39049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feil: nach rechts 7"/>
          <p:cNvSpPr/>
          <p:nvPr/>
        </p:nvSpPr>
        <p:spPr>
          <a:xfrm rot="5400000">
            <a:off x="4496040" y="5177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9"/>
          <p:cNvSpPr/>
          <p:nvPr/>
        </p:nvSpPr>
        <p:spPr>
          <a:xfrm>
            <a:off x="1028880" y="45406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feld 10"/>
          <p:cNvSpPr/>
          <p:nvPr/>
        </p:nvSpPr>
        <p:spPr>
          <a:xfrm>
            <a:off x="1028880" y="58060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Grafik 20" descr=""/>
          <p:cNvPicPr/>
          <p:nvPr/>
        </p:nvPicPr>
        <p:blipFill>
          <a:blip r:embed="rId1"/>
          <a:stretch/>
        </p:blipFill>
        <p:spPr>
          <a:xfrm>
            <a:off x="6788160" y="4175280"/>
            <a:ext cx="180036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6" name="Grafik 22" descr=""/>
          <p:cNvPicPr/>
          <p:nvPr/>
        </p:nvPicPr>
        <p:blipFill>
          <a:blip r:embed="rId2"/>
          <a:stretch/>
        </p:blipFill>
        <p:spPr>
          <a:xfrm>
            <a:off x="1028880" y="5178600"/>
            <a:ext cx="104112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7" name="Gruppieren 11"/>
          <p:cNvGrpSpPr/>
          <p:nvPr/>
        </p:nvGrpSpPr>
        <p:grpSpPr>
          <a:xfrm>
            <a:off x="1028880" y="2489040"/>
            <a:ext cx="7559640" cy="720720"/>
            <a:chOff x="1028880" y="2489040"/>
            <a:chExt cx="7559640" cy="720720"/>
          </a:xfrm>
        </p:grpSpPr>
        <p:pic>
          <p:nvPicPr>
            <p:cNvPr id="198" name="Picture 12" descr=""/>
            <p:cNvPicPr/>
            <p:nvPr/>
          </p:nvPicPr>
          <p:blipFill>
            <a:blip r:embed="rId3"/>
            <a:stretch/>
          </p:blipFill>
          <p:spPr>
            <a:xfrm>
              <a:off x="6992280" y="2489040"/>
              <a:ext cx="1596240" cy="72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9" name="Grafik 3" descr=""/>
            <p:cNvPicPr/>
            <p:nvPr/>
          </p:nvPicPr>
          <p:blipFill>
            <a:blip r:embed="rId4"/>
            <a:stretch/>
          </p:blipFill>
          <p:spPr>
            <a:xfrm>
              <a:off x="1028880" y="2489040"/>
              <a:ext cx="885600" cy="72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0" name="Grafik 5" descr=""/>
            <p:cNvPicPr/>
            <p:nvPr/>
          </p:nvPicPr>
          <p:blipFill>
            <a:blip r:embed="rId5"/>
            <a:stretch/>
          </p:blipFill>
          <p:spPr>
            <a:xfrm>
              <a:off x="2033640" y="2489040"/>
              <a:ext cx="886680" cy="72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1" name="Grafik 1" descr=""/>
            <p:cNvPicPr/>
            <p:nvPr/>
          </p:nvPicPr>
          <p:blipFill>
            <a:blip r:embed="rId6"/>
            <a:stretch/>
          </p:blipFill>
          <p:spPr>
            <a:xfrm>
              <a:off x="3028320" y="2489040"/>
              <a:ext cx="885960" cy="72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Grafik 1" descr="Arbeitsmedizinische_Vorsorgeuntersuchungen - Microsoft Word"/>
          <p:cNvPicPr/>
          <p:nvPr/>
        </p:nvPicPr>
        <p:blipFill>
          <a:blip r:embed="rId1"/>
          <a:srcRect l="14718" t="23451" r="12171" b="8231"/>
          <a:stretch/>
        </p:blipFill>
        <p:spPr>
          <a:xfrm>
            <a:off x="631800" y="2152800"/>
            <a:ext cx="845964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Rectangle 4"/>
          <p:cNvSpPr/>
          <p:nvPr/>
        </p:nvSpPr>
        <p:spPr>
          <a:xfrm>
            <a:off x="7288200" y="2170080"/>
            <a:ext cx="900000" cy="3959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979800" y="2171880"/>
            <a:ext cx="1116000" cy="3958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42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Infektionsgefähr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feld 1"/>
          <p:cNvSpPr/>
          <p:nvPr/>
        </p:nvSpPr>
        <p:spPr>
          <a:xfrm>
            <a:off x="1028880" y="180072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feld 4"/>
          <p:cNvSpPr/>
          <p:nvPr/>
        </p:nvSpPr>
        <p:spPr>
          <a:xfrm>
            <a:off x="1028880" y="3053160"/>
            <a:ext cx="755964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„ununterbrochen“ (≥ 1 h/Arbeitstag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 einem Bildschirmarbeitspla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feil: nach rechts 6"/>
          <p:cNvSpPr/>
          <p:nvPr/>
        </p:nvSpPr>
        <p:spPr>
          <a:xfrm rot="5400000">
            <a:off x="4502880" y="3948840"/>
            <a:ext cx="610920" cy="396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feil: nach rechts 7"/>
          <p:cNvSpPr/>
          <p:nvPr/>
        </p:nvSpPr>
        <p:spPr>
          <a:xfrm rot="5400000">
            <a:off x="4487400" y="51955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feld 9"/>
          <p:cNvSpPr/>
          <p:nvPr/>
        </p:nvSpPr>
        <p:spPr>
          <a:xfrm>
            <a:off x="1028880" y="455832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0"/>
          <p:cNvSpPr/>
          <p:nvPr/>
        </p:nvSpPr>
        <p:spPr>
          <a:xfrm>
            <a:off x="1028880" y="580428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684360" y="97164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20" descr=""/>
          <p:cNvPicPr/>
          <p:nvPr/>
        </p:nvPicPr>
        <p:blipFill>
          <a:blip r:embed="rId1"/>
          <a:stretch/>
        </p:blipFill>
        <p:spPr>
          <a:xfrm>
            <a:off x="7139160" y="4208400"/>
            <a:ext cx="1800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5" descr=""/>
          <p:cNvPicPr/>
          <p:nvPr/>
        </p:nvPicPr>
        <p:blipFill>
          <a:blip r:embed="rId2"/>
          <a:stretch/>
        </p:blipFill>
        <p:spPr>
          <a:xfrm>
            <a:off x="1576440" y="5003640"/>
            <a:ext cx="109368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6" name="Gruppieren 3"/>
          <p:cNvGrpSpPr/>
          <p:nvPr/>
        </p:nvGrpSpPr>
        <p:grpSpPr>
          <a:xfrm>
            <a:off x="671400" y="2824200"/>
            <a:ext cx="8340840" cy="1079640"/>
            <a:chOff x="671400" y="2824200"/>
            <a:chExt cx="8340840" cy="1079640"/>
          </a:xfrm>
        </p:grpSpPr>
        <p:pic>
          <p:nvPicPr>
            <p:cNvPr id="217" name="Grafik 8" descr=""/>
            <p:cNvPicPr/>
            <p:nvPr/>
          </p:nvPicPr>
          <p:blipFill>
            <a:blip r:embed="rId3"/>
            <a:stretch/>
          </p:blipFill>
          <p:spPr>
            <a:xfrm>
              <a:off x="7820280" y="2824200"/>
              <a:ext cx="1191960" cy="107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8" name="Grafik 14" descr=""/>
            <p:cNvPicPr/>
            <p:nvPr/>
          </p:nvPicPr>
          <p:blipFill>
            <a:blip r:embed="rId4"/>
            <a:stretch/>
          </p:blipFill>
          <p:spPr>
            <a:xfrm>
              <a:off x="671400" y="2824200"/>
              <a:ext cx="1099440" cy="107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Grafik 1" descr="Arbeitsmedizinische_Vorsorgeuntersuchungen - Microsoft Word"/>
          <p:cNvPicPr/>
          <p:nvPr/>
        </p:nvPicPr>
        <p:blipFill>
          <a:blip r:embed="rId1"/>
          <a:srcRect l="14812" t="22589" r="12075" b="6488"/>
          <a:stretch/>
        </p:blipFill>
        <p:spPr>
          <a:xfrm>
            <a:off x="628560" y="2060640"/>
            <a:ext cx="8460000" cy="44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Rectangle 4"/>
          <p:cNvSpPr/>
          <p:nvPr/>
        </p:nvSpPr>
        <p:spPr>
          <a:xfrm>
            <a:off x="2360520" y="2084400"/>
            <a:ext cx="1817640" cy="3995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233960" y="5380200"/>
            <a:ext cx="27082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≥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1 h ununterbrochene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        Bildschirm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7253280" y="2079720"/>
            <a:ext cx="900000" cy="4000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37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Bildschirm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Rechteck 6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8278920" cy="365040"/>
          </a:xfrm>
          <a:prstGeom prst="rect">
            <a:avLst/>
          </a:prstGeom>
          <a:ln w="0">
            <a:noFill/>
          </a:ln>
        </p:spPr>
      </p:pic>
      <p:pic>
        <p:nvPicPr>
          <p:cNvPr id="226" name="Grafik 2" descr=""/>
          <p:cNvPicPr/>
          <p:nvPr/>
        </p:nvPicPr>
        <p:blipFill>
          <a:blip r:embed="rId2"/>
          <a:stretch/>
        </p:blipFill>
        <p:spPr>
          <a:xfrm>
            <a:off x="620640" y="1709640"/>
            <a:ext cx="8460000" cy="429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Grafik 6" descr=""/>
          <p:cNvPicPr/>
          <p:nvPr/>
        </p:nvPicPr>
        <p:blipFill>
          <a:blip r:embed="rId3"/>
          <a:stretch/>
        </p:blipFill>
        <p:spPr>
          <a:xfrm>
            <a:off x="8540640" y="6110280"/>
            <a:ext cx="54000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zu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ier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684360" y="197820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Information und Aufklärung der Beschäftigt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Angebots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eranlas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Pflicht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ufbewahrung: 10 Jahre nach der letzten Vorsorge (Ausnahm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siehe AMR 6.1). Nach dem Ausscheiden erhält der Arbeitnehm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ine Ko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Grafik 2" descr=""/>
          <p:cNvPicPr/>
          <p:nvPr/>
        </p:nvPicPr>
        <p:blipFill>
          <a:blip r:embed="rId1"/>
          <a:stretch/>
        </p:blipFill>
        <p:spPr>
          <a:xfrm>
            <a:off x="2374920" y="4248000"/>
            <a:ext cx="157968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Grafik 4" descr=""/>
          <p:cNvPicPr/>
          <p:nvPr/>
        </p:nvPicPr>
        <p:blipFill>
          <a:blip r:embed="rId2"/>
          <a:stretch/>
        </p:blipFill>
        <p:spPr>
          <a:xfrm>
            <a:off x="4381560" y="4248000"/>
            <a:ext cx="33829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Grafik 6" descr=""/>
          <p:cNvPicPr/>
          <p:nvPr/>
        </p:nvPicPr>
        <p:blipFill>
          <a:blip r:embed="rId3"/>
          <a:stretch/>
        </p:blipFill>
        <p:spPr>
          <a:xfrm>
            <a:off x="3898800" y="6138720"/>
            <a:ext cx="54000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684360" y="1979640"/>
            <a:ext cx="84596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 Qualitätssicherung in der Zahnarztpraxis — Anhang &gt;&gt;&gt;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.8 Merkblätter &gt;&gt;&gt; 3.1.8.1 Arbeitsmedizinische Vorsorge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Grafik 6" descr=""/>
          <p:cNvPicPr/>
          <p:nvPr/>
        </p:nvPicPr>
        <p:blipFill>
          <a:blip r:embed="rId1"/>
          <a:stretch/>
        </p:blipFill>
        <p:spPr>
          <a:xfrm>
            <a:off x="6810480" y="6173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236" name="Grafik 5" descr=""/>
          <p:cNvPicPr/>
          <p:nvPr/>
        </p:nvPicPr>
        <p:blipFill>
          <a:blip r:embed="rId2"/>
          <a:stretch/>
        </p:blipFill>
        <p:spPr>
          <a:xfrm>
            <a:off x="3087720" y="4149720"/>
            <a:ext cx="365112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Impfbuch"/>
          <p:cNvPicPr/>
          <p:nvPr/>
        </p:nvPicPr>
        <p:blipFill>
          <a:blip r:embed="rId1"/>
          <a:stretch/>
        </p:blipFill>
        <p:spPr>
          <a:xfrm>
            <a:off x="3591000" y="2408400"/>
            <a:ext cx="234936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Rectangle 6"/>
          <p:cNvSpPr/>
          <p:nvPr/>
        </p:nvSpPr>
        <p:spPr>
          <a:xfrm>
            <a:off x="684360" y="971640"/>
            <a:ext cx="84596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munisierung des Praxisperson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pf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feld 1"/>
          <p:cNvSpPr/>
          <p:nvPr/>
        </p:nvSpPr>
        <p:spPr>
          <a:xfrm>
            <a:off x="878040" y="1802160"/>
            <a:ext cx="79200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4"/>
          <p:cNvSpPr/>
          <p:nvPr/>
        </p:nvSpPr>
        <p:spPr>
          <a:xfrm>
            <a:off x="878040" y="306756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feil: nach rechts 7"/>
          <p:cNvSpPr/>
          <p:nvPr/>
        </p:nvSpPr>
        <p:spPr>
          <a:xfrm rot="5400000">
            <a:off x="4649400" y="3603600"/>
            <a:ext cx="368280" cy="2379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0"/>
          <p:cNvSpPr/>
          <p:nvPr/>
        </p:nvSpPr>
        <p:spPr>
          <a:xfrm>
            <a:off x="878040" y="397080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„infektionsgefährdende Tätigkeiten“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uppieren 9"/>
          <p:cNvGrpSpPr/>
          <p:nvPr/>
        </p:nvGrpSpPr>
        <p:grpSpPr>
          <a:xfrm>
            <a:off x="878040" y="2282760"/>
            <a:ext cx="7905600" cy="719280"/>
            <a:chOff x="878040" y="2282760"/>
            <a:chExt cx="7905600" cy="719280"/>
          </a:xfrm>
        </p:grpSpPr>
        <p:pic>
          <p:nvPicPr>
            <p:cNvPr id="245" name="Picture 12" descr=""/>
            <p:cNvPicPr/>
            <p:nvPr/>
          </p:nvPicPr>
          <p:blipFill>
            <a:blip r:embed="rId1"/>
            <a:stretch/>
          </p:blipFill>
          <p:spPr>
            <a:xfrm>
              <a:off x="7098120" y="2282760"/>
              <a:ext cx="1685520" cy="719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6" name="Grafik 3" descr=""/>
            <p:cNvPicPr/>
            <p:nvPr/>
          </p:nvPicPr>
          <p:blipFill>
            <a:blip r:embed="rId2"/>
            <a:stretch/>
          </p:blipFill>
          <p:spPr>
            <a:xfrm>
              <a:off x="878040" y="2282760"/>
              <a:ext cx="934920" cy="719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7" name="Grafik 5" descr=""/>
            <p:cNvPicPr/>
            <p:nvPr/>
          </p:nvPicPr>
          <p:blipFill>
            <a:blip r:embed="rId3"/>
            <a:stretch/>
          </p:blipFill>
          <p:spPr>
            <a:xfrm>
              <a:off x="1938960" y="2282760"/>
              <a:ext cx="936000" cy="719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8" name="Grafik 1" descr=""/>
            <p:cNvPicPr/>
            <p:nvPr/>
          </p:nvPicPr>
          <p:blipFill>
            <a:blip r:embed="rId4"/>
            <a:stretch/>
          </p:blipFill>
          <p:spPr>
            <a:xfrm>
              <a:off x="2989080" y="2282760"/>
              <a:ext cx="935280" cy="719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49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munisier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Hepatitis-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feld 13"/>
          <p:cNvSpPr/>
          <p:nvPr/>
        </p:nvSpPr>
        <p:spPr>
          <a:xfrm>
            <a:off x="878040" y="4726440"/>
            <a:ext cx="7920000" cy="10087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für Hepatitis-B-Schutzimpf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stelltes Reinigungspersonal: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HAV + HBV-Imp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84360" y="5688000"/>
            <a:ext cx="845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okumentation des Impfangebots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ie Ablehnung eines Impfangebotes ist allein kein Grund, gesundheitliche Bedenken gegen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Ausübung einer Tätigkeit auszusprechen (Dokumentation)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Kosten: Beschluss des G-BA </a:t>
            </a:r>
            <a:r>
              <a:rPr b="1" lang="de-DE" sz="1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Kosten der Immunisierung trägt die GKV (Abklärung im Vorfeld </a:t>
            </a:r>
            <a:br>
              <a:rPr sz="1400"/>
            </a:b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 der Immunisieru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feil: nach rechts 15"/>
          <p:cNvSpPr/>
          <p:nvPr/>
        </p:nvSpPr>
        <p:spPr>
          <a:xfrm rot="5400000">
            <a:off x="4650120" y="4506120"/>
            <a:ext cx="366840" cy="237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Grafik 6" descr=""/>
          <p:cNvPicPr/>
          <p:nvPr/>
        </p:nvPicPr>
        <p:blipFill>
          <a:blip r:embed="rId5"/>
          <a:stretch/>
        </p:blipFill>
        <p:spPr>
          <a:xfrm>
            <a:off x="7537320" y="3259080"/>
            <a:ext cx="126072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11/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feld 1"/>
          <p:cNvSpPr/>
          <p:nvPr/>
        </p:nvSpPr>
        <p:spPr>
          <a:xfrm>
            <a:off x="684360" y="1802160"/>
            <a:ext cx="8270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Personen, die in einer Zahnarztpraxis tätig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4"/>
          <p:cNvSpPr/>
          <p:nvPr/>
        </p:nvSpPr>
        <p:spPr>
          <a:xfrm>
            <a:off x="684360" y="3067560"/>
            <a:ext cx="8270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 mit Geburtsjahrgang 1971 und jü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10"/>
          <p:cNvSpPr/>
          <p:nvPr/>
        </p:nvSpPr>
        <p:spPr>
          <a:xfrm>
            <a:off x="684360" y="4254840"/>
            <a:ext cx="405576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sern-Impfpflicht (Nachweis in Form z. B. Impfbuch-Vor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684360" y="5479920"/>
            <a:ext cx="845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usnahmen von der Masernimpfpflicht: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Ausgenommen sind Menschen, die einen ärztlichen Nachweis vorlegen können, dass bei ihn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eine Impfung aus gesundheitlichen Gründen nicht ratsam ist (medizinische Kontraindik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flicht zur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sern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hteck 12" descr=""/>
          <p:cNvPicPr/>
          <p:nvPr/>
        </p:nvPicPr>
        <p:blipFill>
          <a:blip r:embed="rId1"/>
          <a:stretch/>
        </p:blipFill>
        <p:spPr>
          <a:xfrm>
            <a:off x="2646360" y="6192720"/>
            <a:ext cx="5259240" cy="586080"/>
          </a:xfrm>
          <a:prstGeom prst="rect">
            <a:avLst/>
          </a:prstGeom>
          <a:ln w="0">
            <a:noFill/>
          </a:ln>
        </p:spPr>
      </p:pic>
      <p:sp>
        <p:nvSpPr>
          <p:cNvPr id="261" name="Textfeld 22"/>
          <p:cNvSpPr/>
          <p:nvPr/>
        </p:nvSpPr>
        <p:spPr>
          <a:xfrm>
            <a:off x="4962600" y="4416120"/>
            <a:ext cx="3992400" cy="398880"/>
          </a:xfrm>
          <a:prstGeom prst="rect">
            <a:avLst/>
          </a:prstGeom>
          <a:solidFill>
            <a:srgbClr val="ff000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Masern-Impf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uppieren 3"/>
          <p:cNvGrpSpPr/>
          <p:nvPr/>
        </p:nvGrpSpPr>
        <p:grpSpPr>
          <a:xfrm>
            <a:off x="2488680" y="3560760"/>
            <a:ext cx="743400" cy="612720"/>
            <a:chOff x="2488680" y="3560760"/>
            <a:chExt cx="743400" cy="612720"/>
          </a:xfrm>
        </p:grpSpPr>
        <p:sp>
          <p:nvSpPr>
            <p:cNvPr id="263" name="Pfeil: nach rechts 9"/>
            <p:cNvSpPr/>
            <p:nvPr/>
          </p:nvSpPr>
          <p:spPr>
            <a:xfrm rot="5400000">
              <a:off x="2381400" y="3667680"/>
              <a:ext cx="612720" cy="398520"/>
            </a:xfrm>
            <a:prstGeom prst="rightArrow">
              <a:avLst>
                <a:gd name="adj1" fmla="val 50000"/>
                <a:gd name="adj2" fmla="val 50061"/>
              </a:avLst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feld 24"/>
            <p:cNvSpPr/>
            <p:nvPr/>
          </p:nvSpPr>
          <p:spPr>
            <a:xfrm>
              <a:off x="2800080" y="3645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b05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uppieren 5"/>
          <p:cNvGrpSpPr/>
          <p:nvPr/>
        </p:nvGrpSpPr>
        <p:grpSpPr>
          <a:xfrm>
            <a:off x="6814800" y="3551400"/>
            <a:ext cx="1032120" cy="612720"/>
            <a:chOff x="6814800" y="3551400"/>
            <a:chExt cx="1032120" cy="612720"/>
          </a:xfrm>
        </p:grpSpPr>
        <p:sp>
          <p:nvSpPr>
            <p:cNvPr id="266" name="Pfeil: nach rechts 23"/>
            <p:cNvSpPr/>
            <p:nvPr/>
          </p:nvSpPr>
          <p:spPr>
            <a:xfrm rot="5400000">
              <a:off x="6707520" y="3658320"/>
              <a:ext cx="612720" cy="398520"/>
            </a:xfrm>
            <a:prstGeom prst="rightArrow">
              <a:avLst>
                <a:gd name="adj1" fmla="val 50000"/>
                <a:gd name="adj2" fmla="val 50032"/>
              </a:avLst>
            </a:prstGeom>
            <a:solidFill>
              <a:srgbClr val="ff0000">
                <a:alpha val="7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feld 25"/>
            <p:cNvSpPr/>
            <p:nvPr/>
          </p:nvSpPr>
          <p:spPr>
            <a:xfrm>
              <a:off x="7126560" y="3645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uppieren 7"/>
          <p:cNvGrpSpPr/>
          <p:nvPr/>
        </p:nvGrpSpPr>
        <p:grpSpPr>
          <a:xfrm>
            <a:off x="4643280" y="4653000"/>
            <a:ext cx="1208160" cy="1008000"/>
            <a:chOff x="4643280" y="4653000"/>
            <a:chExt cx="1208160" cy="1008000"/>
          </a:xfrm>
        </p:grpSpPr>
        <p:pic>
          <p:nvPicPr>
            <p:cNvPr id="269" name="Grafik 6" descr=""/>
            <p:cNvPicPr/>
            <p:nvPr/>
          </p:nvPicPr>
          <p:blipFill>
            <a:blip r:embed="rId2"/>
            <a:stretch/>
          </p:blipFill>
          <p:spPr>
            <a:xfrm>
              <a:off x="5310720" y="5121000"/>
              <a:ext cx="5407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Grafik 19" descr=""/>
            <p:cNvPicPr/>
            <p:nvPr/>
          </p:nvPicPr>
          <p:blipFill>
            <a:blip r:embed="rId3"/>
            <a:stretch/>
          </p:blipFill>
          <p:spPr>
            <a:xfrm>
              <a:off x="4643280" y="4653000"/>
              <a:ext cx="631440" cy="1008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steckungspotenz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277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280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uppieren 11"/>
          <p:cNvGrpSpPr/>
          <p:nvPr/>
        </p:nvGrpSpPr>
        <p:grpSpPr>
          <a:xfrm>
            <a:off x="684360" y="1639800"/>
            <a:ext cx="8359560" cy="5018040"/>
            <a:chOff x="684360" y="1639800"/>
            <a:chExt cx="8359560" cy="5018040"/>
          </a:xfrm>
        </p:grpSpPr>
        <p:pic>
          <p:nvPicPr>
            <p:cNvPr id="283" name="Rechteck 14" descr=""/>
            <p:cNvPicPr/>
            <p:nvPr/>
          </p:nvPicPr>
          <p:blipFill>
            <a:blip r:embed="rId1"/>
            <a:stretch/>
          </p:blipFill>
          <p:spPr>
            <a:xfrm>
              <a:off x="1493640" y="1639800"/>
              <a:ext cx="615672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4" name="Gruppieren 10"/>
            <p:cNvGrpSpPr/>
            <p:nvPr/>
          </p:nvGrpSpPr>
          <p:grpSpPr>
            <a:xfrm>
              <a:off x="684360" y="2518920"/>
              <a:ext cx="8359560" cy="4138920"/>
              <a:chOff x="684360" y="2518920"/>
              <a:chExt cx="8359560" cy="4138920"/>
            </a:xfrm>
          </p:grpSpPr>
          <p:pic>
            <p:nvPicPr>
              <p:cNvPr id="285" name="Grafik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8920"/>
                <a:ext cx="2913120" cy="4138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286" name="Gruppieren 9"/>
              <p:cNvGrpSpPr/>
              <p:nvPr/>
            </p:nvGrpSpPr>
            <p:grpSpPr>
              <a:xfrm>
                <a:off x="684360" y="2518920"/>
                <a:ext cx="5399640" cy="2440440"/>
                <a:chOff x="684360" y="2518920"/>
                <a:chExt cx="5399640" cy="2440440"/>
              </a:xfrm>
            </p:grpSpPr>
            <p:pic>
              <p:nvPicPr>
                <p:cNvPr id="287" name="Grafik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360" y="251892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88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4360" y="2970000"/>
                  <a:ext cx="5399640" cy="19893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28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Informationen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684360" y="11271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medizinische Vorsorg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2"/>
          <p:cNvGrpSpPr/>
          <p:nvPr/>
        </p:nvGrpSpPr>
        <p:grpSpPr>
          <a:xfrm>
            <a:off x="876240" y="2513160"/>
            <a:ext cx="3024360" cy="3457440"/>
            <a:chOff x="876240" y="2513160"/>
            <a:chExt cx="3024360" cy="3457440"/>
          </a:xfrm>
        </p:grpSpPr>
        <p:sp>
          <p:nvSpPr>
            <p:cNvPr id="292" name="Rectangle 7"/>
            <p:cNvSpPr/>
            <p:nvPr/>
          </p:nvSpPr>
          <p:spPr>
            <a:xfrm>
              <a:off x="876240" y="2513160"/>
              <a:ext cx="3024360" cy="3457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11" descr=""/>
            <p:cNvPicPr/>
            <p:nvPr/>
          </p:nvPicPr>
          <p:blipFill>
            <a:blip r:embed="rId1"/>
            <a:srcRect l="28346" t="23216" r="27375" b="13288"/>
            <a:stretch/>
          </p:blipFill>
          <p:spPr>
            <a:xfrm>
              <a:off x="939960" y="2595600"/>
              <a:ext cx="2879640" cy="33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14"/>
          <p:cNvGrpSpPr/>
          <p:nvPr/>
        </p:nvGrpSpPr>
        <p:grpSpPr>
          <a:xfrm>
            <a:off x="4124160" y="3855960"/>
            <a:ext cx="4967280" cy="2808360"/>
            <a:chOff x="4124160" y="3855960"/>
            <a:chExt cx="4967280" cy="2808360"/>
          </a:xfrm>
        </p:grpSpPr>
        <p:sp>
          <p:nvSpPr>
            <p:cNvPr id="295" name="Rectangle 10"/>
            <p:cNvSpPr/>
            <p:nvPr/>
          </p:nvSpPr>
          <p:spPr>
            <a:xfrm>
              <a:off x="4124160" y="3855960"/>
              <a:ext cx="4967280" cy="2808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13" descr=""/>
            <p:cNvPicPr/>
            <p:nvPr/>
          </p:nvPicPr>
          <p:blipFill>
            <a:blip r:embed="rId2"/>
            <a:srcRect l="15354" t="35766" r="13789" b="14764"/>
            <a:stretch/>
          </p:blipFill>
          <p:spPr>
            <a:xfrm>
              <a:off x="4173120" y="3908520"/>
              <a:ext cx="4857840" cy="27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Picture 13" descr=""/>
          <p:cNvPicPr/>
          <p:nvPr/>
        </p:nvPicPr>
        <p:blipFill>
          <a:blip r:embed="rId3"/>
          <a:srcRect l="0" t="0" r="0" b="21766"/>
          <a:stretch/>
        </p:blipFill>
        <p:spPr>
          <a:xfrm>
            <a:off x="4149720" y="2513160"/>
            <a:ext cx="405432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Rechteck 3"/>
          <p:cNvSpPr/>
          <p:nvPr/>
        </p:nvSpPr>
        <p:spPr>
          <a:xfrm>
            <a:off x="4149720" y="3322800"/>
            <a:ext cx="1406520" cy="4093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gefährdung - Feucht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uchung nach dem Jugendarbeitsschutz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zu dokument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zur arbeitsmedizinischen Vorsorge (ArbMedV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Grafik 2" descr=""/>
          <p:cNvPicPr/>
          <p:nvPr/>
        </p:nvPicPr>
        <p:blipFill>
          <a:blip r:embed="rId1"/>
          <a:srcRect l="0" t="0" r="0" b="27439"/>
          <a:stretch/>
        </p:blipFill>
        <p:spPr>
          <a:xfrm>
            <a:off x="1892160" y="2681280"/>
            <a:ext cx="499608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684360" y="1979640"/>
            <a:ext cx="845964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 Qualitätssicherung in der Zahnarztpraxis — Anhang &gt;&gt;&gt;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.6 Formulare &gt;&gt;&gt; 3.1.6.1 Arbeitsmedizinische Vorsorg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afik 8" descr=""/>
          <p:cNvPicPr/>
          <p:nvPr/>
        </p:nvPicPr>
        <p:blipFill>
          <a:blip r:embed="rId1"/>
          <a:stretch/>
        </p:blipFill>
        <p:spPr>
          <a:xfrm>
            <a:off x="7140600" y="971640"/>
            <a:ext cx="1695600" cy="10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Grafik 6" descr=""/>
          <p:cNvPicPr/>
          <p:nvPr/>
        </p:nvPicPr>
        <p:blipFill>
          <a:blip r:embed="rId2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646200" y="4149720"/>
            <a:ext cx="84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en:</a:t>
            </a:r>
            <a:br>
              <a:rPr sz="2000"/>
            </a:b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anzubieten,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flicht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zu veranlassen,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, Tätigk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)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nschvorso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hteck 1" descr=""/>
          <p:cNvPicPr/>
          <p:nvPr/>
        </p:nvPicPr>
        <p:blipFill>
          <a:blip r:embed="rId3"/>
          <a:stretch/>
        </p:blipFill>
        <p:spPr>
          <a:xfrm>
            <a:off x="1951200" y="6394320"/>
            <a:ext cx="524160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684360" y="1979640"/>
            <a:ext cx="8459640" cy="48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bstände der arbeitsmedizinischen Vorsor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Vorsorge (innerhalb von 3 Monaten vor Aufnahme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weite Vorsorge (spätestens nach 6/12 Monaten) u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n Vorsorgen (spätestens nach 3 Jahren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icht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ebotsvorsorge bei Beendigung einer infektions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den Tätigkeit (praxisintern- bzw. -exte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Qualifikati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Ärztin/Arzt, die/der berechtig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ist, die Gebietsbezeichnung „Arbeitsmedizin“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die Zusatzbezeichnung „Betriebsmedizin“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os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ür die arbeitsmedizinische Vorsor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OÄ-Leistungen) träg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e/der Praxisinhaber*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rbeitsmedizinische Vorsorge ist 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personenbezogen festzule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343640" y="4208400"/>
            <a:ext cx="1717920" cy="11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feld 6"/>
          <p:cNvSpPr/>
          <p:nvPr/>
        </p:nvSpPr>
        <p:spPr>
          <a:xfrm>
            <a:off x="777960" y="2739600"/>
            <a:ext cx="5976720" cy="100872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muss tätigkeitsbedingt mehr als 5 Mal pro Arbeitstag Händewaschen im häufigen Wechsel mit Tragen flüssigkeitsdichter Handschu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10"/>
          <p:cNvSpPr/>
          <p:nvPr/>
        </p:nvSpPr>
        <p:spPr>
          <a:xfrm rot="5400000">
            <a:off x="4502880" y="3920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84360" y="97164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utgefährd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eucht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feil: nach rechts 17"/>
          <p:cNvSpPr/>
          <p:nvPr/>
        </p:nvSpPr>
        <p:spPr>
          <a:xfrm rot="5400000">
            <a:off x="4505400" y="2130480"/>
            <a:ext cx="612720" cy="396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4_M11_04_2"/>
          <p:cNvPicPr/>
          <p:nvPr/>
        </p:nvPicPr>
        <p:blipFill>
          <a:blip r:embed="rId1"/>
          <a:srcRect l="0" t="0" r="0" b="8131"/>
          <a:stretch/>
        </p:blipFill>
        <p:spPr>
          <a:xfrm>
            <a:off x="6808680" y="2008080"/>
            <a:ext cx="89064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22"/>
          <p:cNvSpPr/>
          <p:nvPr/>
        </p:nvSpPr>
        <p:spPr>
          <a:xfrm>
            <a:off x="777960" y="4499280"/>
            <a:ext cx="821196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27"/>
          <p:cNvSpPr/>
          <p:nvPr/>
        </p:nvSpPr>
        <p:spPr>
          <a:xfrm rot="2902200">
            <a:off x="7533720" y="2449440"/>
            <a:ext cx="15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uchtarb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29" descr=""/>
          <p:cNvPicPr/>
          <p:nvPr/>
        </p:nvPicPr>
        <p:blipFill>
          <a:blip r:embed="rId2"/>
          <a:stretch/>
        </p:blipFill>
        <p:spPr>
          <a:xfrm>
            <a:off x="777960" y="3852720"/>
            <a:ext cx="1431720" cy="9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2" name="Gruppieren 2"/>
          <p:cNvGrpSpPr/>
          <p:nvPr/>
        </p:nvGrpSpPr>
        <p:grpSpPr>
          <a:xfrm>
            <a:off x="777960" y="4997520"/>
            <a:ext cx="3678120" cy="1822320"/>
            <a:chOff x="777960" y="4997520"/>
            <a:chExt cx="3678120" cy="1822320"/>
          </a:xfrm>
        </p:grpSpPr>
        <p:sp>
          <p:nvSpPr>
            <p:cNvPr id="163" name="Pfeil: nach rechts 21"/>
            <p:cNvSpPr/>
            <p:nvPr/>
          </p:nvSpPr>
          <p:spPr>
            <a:xfrm rot="5400000">
              <a:off x="2019240" y="5399280"/>
              <a:ext cx="1201680" cy="398160"/>
            </a:xfrm>
            <a:prstGeom prst="rightArrow">
              <a:avLst>
                <a:gd name="adj1" fmla="val 50000"/>
                <a:gd name="adj2" fmla="val 50036"/>
              </a:avLst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feld 23"/>
            <p:cNvSpPr/>
            <p:nvPr/>
          </p:nvSpPr>
          <p:spPr>
            <a:xfrm>
              <a:off x="783720" y="6116040"/>
              <a:ext cx="3672360" cy="703800"/>
            </a:xfrm>
            <a:prstGeom prst="rect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gebotsvorsorge (eh. G 2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6" descr="4_M11_04_2"/>
            <p:cNvPicPr/>
            <p:nvPr/>
          </p:nvPicPr>
          <p:blipFill>
            <a:blip r:embed="rId3"/>
            <a:srcRect l="0" t="0" r="0" b="8131"/>
            <a:stretch/>
          </p:blipFill>
          <p:spPr>
            <a:xfrm>
              <a:off x="777960" y="5011920"/>
              <a:ext cx="755640" cy="108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6" name="Picture 4" descr=""/>
            <p:cNvPicPr/>
            <p:nvPr/>
          </p:nvPicPr>
          <p:blipFill>
            <a:blip r:embed="rId4"/>
            <a:srcRect l="33932" t="3805" r="6314" b="57203"/>
            <a:stretch/>
          </p:blipFill>
          <p:spPr>
            <a:xfrm>
              <a:off x="3169800" y="5011920"/>
              <a:ext cx="1260000" cy="1027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7" name="Textfeld 30"/>
            <p:cNvSpPr/>
            <p:nvPr/>
          </p:nvSpPr>
          <p:spPr>
            <a:xfrm>
              <a:off x="1502280" y="539856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&gt; 5 - ≤ 10 Mal/ Arbeitst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feld 31"/>
            <p:cNvSpPr/>
            <p:nvPr/>
          </p:nvSpPr>
          <p:spPr>
            <a:xfrm>
              <a:off x="3216600" y="6041880"/>
              <a:ext cx="115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&gt; 2 h/Arbeitst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uppieren 3"/>
          <p:cNvGrpSpPr/>
          <p:nvPr/>
        </p:nvGrpSpPr>
        <p:grpSpPr>
          <a:xfrm>
            <a:off x="5364000" y="5014800"/>
            <a:ext cx="3672000" cy="1654200"/>
            <a:chOff x="5364000" y="5014800"/>
            <a:chExt cx="3672000" cy="1654200"/>
          </a:xfrm>
        </p:grpSpPr>
        <p:sp>
          <p:nvSpPr>
            <p:cNvPr id="170" name="Pfeil: nach rechts 24"/>
            <p:cNvSpPr/>
            <p:nvPr/>
          </p:nvSpPr>
          <p:spPr>
            <a:xfrm rot="5400000">
              <a:off x="6602760" y="5410800"/>
              <a:ext cx="1189080" cy="396720"/>
            </a:xfrm>
            <a:prstGeom prst="rightArrow">
              <a:avLst>
                <a:gd name="adj1" fmla="val 50000"/>
                <a:gd name="adj2" fmla="val 49497"/>
              </a:avLst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feld 25"/>
            <p:cNvSpPr/>
            <p:nvPr/>
          </p:nvSpPr>
          <p:spPr>
            <a:xfrm>
              <a:off x="5364000" y="6270120"/>
              <a:ext cx="3672000" cy="398880"/>
            </a:xfrm>
            <a:prstGeom prst="rect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flichtvorsorge (eh. G 2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6" descr="4_M11_04_2"/>
            <p:cNvPicPr/>
            <p:nvPr/>
          </p:nvPicPr>
          <p:blipFill>
            <a:blip r:embed="rId5"/>
            <a:srcRect l="0" t="0" r="0" b="8131"/>
            <a:stretch/>
          </p:blipFill>
          <p:spPr>
            <a:xfrm>
              <a:off x="5384520" y="5028840"/>
              <a:ext cx="755280" cy="106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3" name="Picture 4" descr=""/>
            <p:cNvPicPr/>
            <p:nvPr/>
          </p:nvPicPr>
          <p:blipFill>
            <a:blip r:embed="rId6"/>
            <a:srcRect l="33932" t="3805" r="6314" b="57203"/>
            <a:stretch/>
          </p:blipFill>
          <p:spPr>
            <a:xfrm>
              <a:off x="7728120" y="5028840"/>
              <a:ext cx="1260000" cy="1017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4" name="Textfeld 34"/>
            <p:cNvSpPr/>
            <p:nvPr/>
          </p:nvSpPr>
          <p:spPr>
            <a:xfrm>
              <a:off x="6068520" y="5407920"/>
              <a:ext cx="86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&gt; 10 Mal/ Arbeitst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35"/>
            <p:cNvSpPr/>
            <p:nvPr/>
          </p:nvSpPr>
          <p:spPr>
            <a:xfrm>
              <a:off x="7791120" y="6044400"/>
              <a:ext cx="115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≥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4 h/Arbeitst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4" descr=""/>
          <p:cNvPicPr/>
          <p:nvPr/>
        </p:nvPicPr>
        <p:blipFill>
          <a:blip r:embed="rId7"/>
          <a:srcRect l="33932" t="3805" r="6314" b="57203"/>
          <a:stretch/>
        </p:blipFill>
        <p:spPr>
          <a:xfrm>
            <a:off x="7445520" y="3193920"/>
            <a:ext cx="1544400" cy="12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Additionszeichen 20"/>
          <p:cNvSpPr/>
          <p:nvPr/>
        </p:nvSpPr>
        <p:spPr>
          <a:xfrm>
            <a:off x="7253280" y="301608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47766" y="137803"/>
                </a:moveTo>
                <a:lnTo>
                  <a:pt x="137802" y="137803"/>
                </a:lnTo>
                <a:lnTo>
                  <a:pt x="137802" y="47766"/>
                </a:lnTo>
                <a:lnTo>
                  <a:pt x="222560" y="47766"/>
                </a:lnTo>
                <a:lnTo>
                  <a:pt x="222560" y="137803"/>
                </a:lnTo>
                <a:lnTo>
                  <a:pt x="312596" y="137803"/>
                </a:lnTo>
                <a:lnTo>
                  <a:pt x="312596" y="222560"/>
                </a:lnTo>
                <a:lnTo>
                  <a:pt x="222560" y="222560"/>
                </a:lnTo>
                <a:lnTo>
                  <a:pt x="222560" y="312597"/>
                </a:lnTo>
                <a:lnTo>
                  <a:pt x="137802" y="312597"/>
                </a:lnTo>
                <a:lnTo>
                  <a:pt x="137802" y="222560"/>
                </a:lnTo>
                <a:lnTo>
                  <a:pt x="47766" y="222560"/>
                </a:lnTo>
                <a:lnTo>
                  <a:pt x="47766" y="13780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feld 1"/>
          <p:cNvSpPr/>
          <p:nvPr/>
        </p:nvSpPr>
        <p:spPr>
          <a:xfrm>
            <a:off x="777960" y="1530000"/>
            <a:ext cx="8211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08800" cy="35784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7210440" y="2077920"/>
            <a:ext cx="90000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722760" y="2077920"/>
            <a:ext cx="134928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4-11-12T15:24:28Z</dcterms:modified>
  <cp:revision>14</cp:revision>
  <dc:subject/>
  <dc:title/>
</cp:coreProperties>
</file>