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0984D-B440-454F-BC8B-1CED31F5DBF5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hyperlink" Target="https://lzk-bw.de/fileadmin/user_upload/Downloads/Rund_um_die_Praxisf&#252;hrung/Merkblatt_Patientenschutzmittel.pdf" TargetMode="Externa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s://phb.lzk-bw.de/PHB-CD/QM-Anhang/Formulare/Roentgen/Betreuungs_und_Begleitperson.docx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phb.lzk-bw.de/PHB-CD/QM/Kurzuebersicht_Adresse-Fristen-Termine.docx" TargetMode="External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76396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önt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84360" y="1798560"/>
            <a:ext cx="84596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 Patienten sind ggf. Bleischürze bzw. Kinnschild mit eine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eigleichwert von mindestens 0,4 mm als Strahlenschutz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richtungen anzulegen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Grafik 6" descr=""/>
          <p:cNvPicPr/>
          <p:nvPr/>
        </p:nvPicPr>
        <p:blipFill>
          <a:blip r:embed="rId1"/>
          <a:stretch/>
        </p:blipFill>
        <p:spPr>
          <a:xfrm>
            <a:off x="4140360" y="3527280"/>
            <a:ext cx="4714560" cy="20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Grafik 4" descr=""/>
          <p:cNvPicPr/>
          <p:nvPr/>
        </p:nvPicPr>
        <p:blipFill>
          <a:blip r:embed="rId2"/>
          <a:stretch/>
        </p:blipFill>
        <p:spPr>
          <a:xfrm>
            <a:off x="1933560" y="3527280"/>
            <a:ext cx="2133720" cy="302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feld 5"/>
          <p:cNvSpPr/>
          <p:nvPr/>
        </p:nvSpPr>
        <p:spPr>
          <a:xfrm>
            <a:off x="4067280" y="5756400"/>
            <a:ext cx="4152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lzk-bw.de/Merkblatt_Patientenschutzmittel.pdf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84360" y="1798560"/>
            <a:ext cx="845964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euungs- und Begleitpersonen haben nur aus zwingen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ünden Zutritt zum Kontrollbereich (z. B. Filmhalten bei Kleinkindern). Eine Betreuungs- und Begleitpersonen sollte die begleitende Person des Patienten sein. Auch diese Personen si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her über die möglichen Gefahren bei der Anwendung von Röntgenstrahlen und ihre Vermeidung zu unterweisen. Es si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ßnahmen zu ergreifen, um ihre Strahlenexposition zu beschrän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Grafik 2" descr=""/>
          <p:cNvPicPr/>
          <p:nvPr/>
        </p:nvPicPr>
        <p:blipFill>
          <a:blip r:embed="rId1"/>
          <a:stretch/>
        </p:blipFill>
        <p:spPr>
          <a:xfrm>
            <a:off x="7467480" y="4076640"/>
            <a:ext cx="1532160" cy="234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4" name="Textfeld 3"/>
          <p:cNvSpPr/>
          <p:nvPr/>
        </p:nvSpPr>
        <p:spPr>
          <a:xfrm flipV="1" rot="10800000">
            <a:off x="853920" y="6425640"/>
            <a:ext cx="705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phb.lzk-bw.de/PHB-CD/QM-Anhang/Formulare/Roentgen/Betreuungs_und_Begleitperson.doc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Grafik 1" descr="Landeszahnärztekammer BW: Startseite - Internet Explorer"/>
          <p:cNvPicPr/>
          <p:nvPr/>
        </p:nvPicPr>
        <p:blipFill>
          <a:blip r:embed="rId3"/>
          <a:srcRect l="29688" t="57449" r="45106" b="22041"/>
          <a:stretch/>
        </p:blipFill>
        <p:spPr>
          <a:xfrm>
            <a:off x="5796000" y="4692600"/>
            <a:ext cx="1800360" cy="80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84360" y="1798560"/>
            <a:ext cx="8459640" cy="22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durch die Röntgenuntersuchung bedingte Strahlenexpositi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soweit einzuschränken, wie dies mit den Erforderniss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n Wissenschaft zu vereinbaren ist. Hierzu zähl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besondere der Einsatz hochempfindlicher Filme, soweit es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inische Fragestellung zuläs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84360" y="1628640"/>
            <a:ext cx="845964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 erfolgter Abnahmeprüfung ist arbeitswöchentlich ei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ilmkonstanzprüfung vorzunehmen, durch die ohne mechanis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elektrische Eingriffe festzustellen ist, ob die Bildqualität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Höhe der Strahlenexposition den Angaben in den letz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zeichnungen nach der Abnahmeprüfung noch entsprechen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gebnis ist aufzuzeichnen; dazu gehören au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nahmen der Prüfkörper und der Prüffilme. Ist die erforderli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ldqualität nicht mehr gegeben, ist unverzüglich die Ursache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und zu beseit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84360" y="1628640"/>
            <a:ext cx="84596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ie RK5 und RK6 muss bei digitalen Gerät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genommene Befundmonitor arbeitstäglich und halbjährlich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r visuellen Überprüfung unterzogen werd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RK5 muss im Abstand von fünf Jahren eine messtechnis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prüfung durchgeführ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RK6 sowie bei DVT-Betrieb muss eine jährli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sstechnische Überprüfung durchgeführ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aloge und digitale Röntgengeräte müssen monatlich ein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tanzprüfung unterzogen werden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Nach der Allgemeinverfügung der Gewerbeaufsichtsämter vom März 2006 kan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se Frist unter bestimmten Voraussetzungen auf 3 Monate verlängert werde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bewahrungsfristen von Konstanzprüfungen: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phb.lzk-bw.de/PHB-CD/QM/Kurzuebersicht_Adresse-Fristen-Termine.doc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84360" y="179856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 der Anwendung von Röntgenstrahlen muss aufgezeichne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eht eine Schwangerschaf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Röntgenaufnahmen in dem Bereich angefertigt word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jetzt untersucht werden so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4360" y="1798560"/>
            <a:ext cx="845964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 die Anwendung von Röntgenstrahlen müss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zeichnungen angefertigt werden, aus denen der Zeitpunkt,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t der Anwendung, die untersuchte Körperregion, Angaben zu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fertigenden Indikation, bei einer Untersuchung zusätzlich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obene Befund sowie die Strahlenexposition des Patienten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ist, soweit sie erfasst worden ist, oder die zu de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lung erforderlichen Daten und Ang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medizinische Mitarbeiterinnen dürfen während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wangerschaft nicht im Kontrollbereich tätig sein, da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et, sie dürfen sich während des Auslösens der Strahl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icht in einem Radius von weniger als 1,5 m um die Strahl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elle auf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684360" y="1978200"/>
            <a:ext cx="8459640" cy="33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antwortlicher ist grundsätzlich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inha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der Gemeinschaftspraxis bzw. Praxisgemeinschaft sind all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ellschafter/Partner Strahlenschutzverantwortli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raxisinhaber kann für die Leitung oder Beaufsichtig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verlässige und mit der notwendigen Fachkund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 ausgestattete Beschäftigte schriftlich zu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beauftragten bestellen (Meldung an die zuständi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inhaber bleibt verantwortli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Verantwortlichkei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84360" y="5516640"/>
            <a:ext cx="845964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Verantwortung im Strahlenschutz bleibt Chefsach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Qualifik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84360" y="1978200"/>
            <a:ext cx="84596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chkunde im Strahlenschut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alisierung der Fachkunde im Strahlenschutz: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rs zur Fachkundeaktualisierung muss von der zuständ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 anerkannt s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personal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tnisse im Strahlenschutz und der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alisierung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84360" y="4363920"/>
            <a:ext cx="84596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Bauliche Anforder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84360" y="517032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öntgenraum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oden, Wände, Türe, Be- und Entlüftung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allationen, Kontrollbereich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ändedesinfe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unkelkammer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üre, Be- und Entlüftung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leu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Anzeigeverfah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84360" y="173988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Der Röntgenstrahler der Röntgeneinrichtung is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bauartzugelassen oder CE-zertifizi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684360" y="4199040"/>
            <a:ext cx="845964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einer Inbetriebnahme bei der zuständigen 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: 4 Wochen vor diesem Ereignis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ahnärztliche Stellen (BZK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einer Änderung bei der zuständigen 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ahnärztliche 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der Beendigung des Betriebes bei der zustä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 und der Zahnärztlichen 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2916360" y="3497400"/>
            <a:ext cx="32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nzeige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4284720" y="254304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4643280" y="27590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924360" y="27590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8/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Abnahme- und Konstanz-prüf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84360" y="215892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nahmeprüfung vor der Inbetriebnahme durch ein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erkannten Sachverständi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tanzprüfungen zur Bildqualitätskontrolle in regelmäß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itabstän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684360" y="407520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Strahlenschutzanweis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84360" y="485784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: Strahlenschutzverantwortli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anweisung gemäß § 45 Strahlenschutzverord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üfpflichten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Röntgeneinricht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84360" y="1978200"/>
            <a:ext cx="84596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 vor Inbetriebnahm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nahmeprüfung (SV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StrlSch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ederkehrende Prüfung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Zeitabständen von 5 Ja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lassbezogene Prüfung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 B. nach abgeschlossen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ulicher oder geräteseitig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änderu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perso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chverständiger nach StrlSch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114720" y="4248000"/>
            <a:ext cx="597528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er Prüfbericht des Sachverständigen geht in Kopie an die zuständige Behörde (Regierungs-präsidium) und an die zuständige Zahnärztliche Bezirksstelle in der BZK (ZÄS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114720" y="5832360"/>
            <a:ext cx="597528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vtl. Wartung (Gebrauchsanweis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Grafik 5" descr=""/>
          <p:cNvPicPr/>
          <p:nvPr/>
        </p:nvPicPr>
        <p:blipFill>
          <a:blip r:embed="rId1"/>
          <a:stretch/>
        </p:blipFill>
        <p:spPr>
          <a:xfrm>
            <a:off x="804960" y="4424400"/>
            <a:ext cx="2276280" cy="16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Weitere Verpflicht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684360" y="1978200"/>
            <a:ext cx="845964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Unterweis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Vor Arbeitsaufnahme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regelmäßig mindestens einmal pro Jahr (Dokument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sinhalte: z. B. mittels der Strahlenschutz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684360" y="398952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ersönliche Schutzausrüst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schürze, Halbschürze, Schilddrüsenschutz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Kinnschi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684360" y="529272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oku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 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116000" y="3598920"/>
            <a:ext cx="1343160" cy="14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5398920" y="3603600"/>
            <a:ext cx="1648080" cy="1441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7624800" y="3576600"/>
            <a:ext cx="1065240" cy="14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7" name="Picture 6" descr=""/>
          <p:cNvPicPr/>
          <p:nvPr/>
        </p:nvPicPr>
        <p:blipFill>
          <a:blip r:embed="rId4"/>
          <a:stretch/>
        </p:blipFill>
        <p:spPr>
          <a:xfrm>
            <a:off x="2890800" y="3301920"/>
            <a:ext cx="2182680" cy="19814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684360" y="5310360"/>
            <a:ext cx="8351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 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Medizinproduk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7819920" y="4836960"/>
            <a:ext cx="1333440" cy="17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3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6332400" y="4991040"/>
            <a:ext cx="1311480" cy="7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feld 10"/>
          <p:cNvSpPr/>
          <p:nvPr/>
        </p:nvSpPr>
        <p:spPr>
          <a:xfrm>
            <a:off x="676440" y="277596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Grafik 15" descr=""/>
          <p:cNvPicPr/>
          <p:nvPr/>
        </p:nvPicPr>
        <p:blipFill>
          <a:blip r:embed="rId3"/>
          <a:stretch/>
        </p:blipFill>
        <p:spPr>
          <a:xfrm>
            <a:off x="3774960" y="523872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Picture 5" descr=""/>
          <p:cNvPicPr/>
          <p:nvPr/>
        </p:nvPicPr>
        <p:blipFill>
          <a:blip r:embed="rId4"/>
          <a:stretch/>
        </p:blipFill>
        <p:spPr>
          <a:xfrm>
            <a:off x="720720" y="594684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9" name="Picture 4" descr=""/>
          <p:cNvPicPr/>
          <p:nvPr/>
        </p:nvPicPr>
        <p:blipFill>
          <a:blip r:embed="rId5"/>
          <a:stretch/>
        </p:blipFill>
        <p:spPr>
          <a:xfrm>
            <a:off x="1871640" y="5943600"/>
            <a:ext cx="714240" cy="76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Rechteck 21" descr=""/>
          <p:cNvPicPr/>
          <p:nvPr/>
        </p:nvPicPr>
        <p:blipFill>
          <a:blip r:embed="rId6"/>
          <a:stretch/>
        </p:blipFill>
        <p:spPr>
          <a:xfrm>
            <a:off x="3846600" y="623556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221" name="Textfeld 23"/>
          <p:cNvSpPr/>
          <p:nvPr/>
        </p:nvSpPr>
        <p:spPr>
          <a:xfrm>
            <a:off x="3774960" y="507240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Grafik 26" descr=""/>
          <p:cNvPicPr/>
          <p:nvPr/>
        </p:nvPicPr>
        <p:blipFill>
          <a:blip r:embed="rId7"/>
          <a:stretch/>
        </p:blipFill>
        <p:spPr>
          <a:xfrm>
            <a:off x="6797520" y="5735520"/>
            <a:ext cx="851040" cy="10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3" name="Grafik 12" descr=""/>
          <p:cNvPicPr/>
          <p:nvPr/>
        </p:nvPicPr>
        <p:blipFill>
          <a:blip r:embed="rId8"/>
          <a:stretch/>
        </p:blipFill>
        <p:spPr>
          <a:xfrm>
            <a:off x="6135840" y="629748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224" name="Textfeld 1"/>
          <p:cNvSpPr/>
          <p:nvPr/>
        </p:nvSpPr>
        <p:spPr>
          <a:xfrm>
            <a:off x="676440" y="354564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 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2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Röntgen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682560" y="2421000"/>
            <a:ext cx="4068720" cy="3313080"/>
            <a:chOff x="682560" y="2421000"/>
            <a:chExt cx="4068720" cy="3313080"/>
          </a:xfrm>
        </p:grpSpPr>
        <p:pic>
          <p:nvPicPr>
            <p:cNvPr id="227" name="Picture 4" descr=""/>
            <p:cNvPicPr/>
            <p:nvPr/>
          </p:nvPicPr>
          <p:blipFill>
            <a:blip r:embed="rId1"/>
            <a:stretch/>
          </p:blipFill>
          <p:spPr>
            <a:xfrm>
              <a:off x="682560" y="2517840"/>
              <a:ext cx="4033800" cy="30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Rectangle 5"/>
            <p:cNvSpPr/>
            <p:nvPr/>
          </p:nvSpPr>
          <p:spPr>
            <a:xfrm>
              <a:off x="684360" y="2421000"/>
              <a:ext cx="4066920" cy="3313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6"/>
          <p:cNvGrpSpPr/>
          <p:nvPr/>
        </p:nvGrpSpPr>
        <p:grpSpPr>
          <a:xfrm>
            <a:off x="4888080" y="3962520"/>
            <a:ext cx="4209840" cy="2520720"/>
            <a:chOff x="4888080" y="3962520"/>
            <a:chExt cx="4209840" cy="2520720"/>
          </a:xfrm>
        </p:grpSpPr>
        <p:pic>
          <p:nvPicPr>
            <p:cNvPr id="230" name="Picture 7" descr=""/>
            <p:cNvPicPr/>
            <p:nvPr/>
          </p:nvPicPr>
          <p:blipFill>
            <a:blip r:embed="rId2"/>
            <a:stretch/>
          </p:blipFill>
          <p:spPr>
            <a:xfrm>
              <a:off x="4922640" y="4011480"/>
              <a:ext cx="4138200" cy="23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Rectangle 8"/>
            <p:cNvSpPr/>
            <p:nvPr/>
          </p:nvSpPr>
          <p:spPr>
            <a:xfrm>
              <a:off x="4888080" y="3962520"/>
              <a:ext cx="4209840" cy="2520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Picture 13" descr=""/>
          <p:cNvPicPr/>
          <p:nvPr/>
        </p:nvPicPr>
        <p:blipFill>
          <a:blip r:embed="rId3"/>
          <a:srcRect l="0" t="0" r="0" b="21766"/>
          <a:stretch/>
        </p:blipFill>
        <p:spPr>
          <a:xfrm>
            <a:off x="4894200" y="2440080"/>
            <a:ext cx="4054680" cy="123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3" name="Rechteck 8"/>
          <p:cNvSpPr/>
          <p:nvPr/>
        </p:nvSpPr>
        <p:spPr>
          <a:xfrm>
            <a:off x="4886280" y="3232080"/>
            <a:ext cx="2092320" cy="43020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spun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antwortlich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verfa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en und Arbeitsanwei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 Verpflich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uppieren 5"/>
          <p:cNvGrpSpPr/>
          <p:nvPr/>
        </p:nvGrpSpPr>
        <p:grpSpPr>
          <a:xfrm>
            <a:off x="790560" y="2519280"/>
            <a:ext cx="2771640" cy="3888000"/>
            <a:chOff x="790560" y="2519280"/>
            <a:chExt cx="2771640" cy="3888000"/>
          </a:xfrm>
        </p:grpSpPr>
        <p:pic>
          <p:nvPicPr>
            <p:cNvPr id="142" name="Grafik 2" descr=""/>
            <p:cNvPicPr/>
            <p:nvPr/>
          </p:nvPicPr>
          <p:blipFill>
            <a:blip r:embed="rId1"/>
            <a:stretch/>
          </p:blipFill>
          <p:spPr>
            <a:xfrm>
              <a:off x="790560" y="2519280"/>
              <a:ext cx="2767680" cy="98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Grafik 4" descr=""/>
            <p:cNvPicPr/>
            <p:nvPr/>
          </p:nvPicPr>
          <p:blipFill>
            <a:blip r:embed="rId2"/>
            <a:stretch/>
          </p:blipFill>
          <p:spPr>
            <a:xfrm>
              <a:off x="790560" y="3501000"/>
              <a:ext cx="2771640" cy="290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360" y="1690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ordnung (StrlS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822840" y="2637000"/>
            <a:ext cx="5079960" cy="36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bzw. Genehmi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uartzulas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antwortli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beauftrag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tätssich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chkunde im Strahlen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tnisse im Strahlen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 von Röntgenstrahl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m Mens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hteck 6"/>
          <p:cNvSpPr/>
          <p:nvPr/>
        </p:nvSpPr>
        <p:spPr>
          <a:xfrm>
            <a:off x="684360" y="2374920"/>
            <a:ext cx="3011400" cy="4173480"/>
          </a:xfrm>
          <a:prstGeom prst="rect">
            <a:avLst/>
          </a:prstGeom>
          <a:noFill/>
          <a:ln w="2556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798560"/>
            <a:ext cx="84596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in die Arbeitsmethoden, mögliche Gefahren, anzuwendenden Sicherheits- und Schutzmaßnahmen, den Inhal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trahlenschutzverordnung sowie die Anzeige der Röntgen-einr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gesetz und Strahlenschutzverordnung werden zu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 ständig verfügbar ge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84360" y="1798560"/>
            <a:ext cx="845964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hand der deutschsprachigen Gebrauchsanweisung wurde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achgerechte Handhabung durch eine entsprechend fach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ige Person eingewiesen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 Ausfertigung des Genehmigungsbescheides oder e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ruck des Zulassungsscheines und der Betriebsanleitung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d aufbewahrt. Die Gebrauchsanweisung, die Bescheinigung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trahlenschutzprüfung, der letzte Prüfbericht der Wieder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lung der Strahlenschutzprüfung und gegebenenfalls di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einigungen über Sachverständigenprüfungen nach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sentlichen Änderungen des Betriebes der Röntgeneinricht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den bereitgehalten. Außerdem ist bei einer Röntg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 ein aktuelles Bestandsverzeichnis zu fü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4360" y="1798560"/>
            <a:ext cx="845964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öntgenaufnahmen dürfen nur von einer fachku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ärztin/einem fachkundigen Zahnarzt nach Vorliegen ein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fertigenden Indikation angeordnet werden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medizinische Mitarbeiterinnen und Mitarbeiter dürfen unt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ändiger Aufsicht und Verantwortung von einer fachku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ärztin/einem fachkundigen Zahnarzt Röntgenstrahl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en, wenn sie über die notwendigen Kenntnisse verfü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84360" y="1798560"/>
            <a:ext cx="8459640" cy="29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Kontrollbereich beim Tubusgerät sowie beim OP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rnröntgen beträgt 1,5 m, bei einem DVT-Gerät liegt der Kontrollbereich zwischen 2 und 2,5 m (abhängig der Röhrenspannung des DVT-Geräts). Während der Röntgenaufnahme darf sich nur die zu untersuchende Person im Kontrollbereich aufhalten. Die Aufnahme ist außerhalb des Kontrollbereichs (Radius 1,5 m (bzw. bei DVT 2 - 2,5 m) um die Strahlenquelle) auszulö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cp:lastPrinted>2024-08-07T07:18:29Z</cp:lastPrinted>
  <dcterms:modified xsi:type="dcterms:W3CDTF">2024-08-07T07:23:31Z</dcterms:modified>
  <cp:revision>18</cp:revision>
  <dc:subject/>
  <dc:title/>
</cp:coreProperties>
</file>